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04B7F-907B-46D9-BB05-75E44AD81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C16E5-7C0E-4678-AF39-3EEF09231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94C11-5AC9-4431-B66A-33593BBE2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6911F-920E-4F45-A2A6-0DA46B095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0045E-AD46-4216-B16E-4522BA295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08C7A-777E-4224-AB11-12A8BB3AF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60B4A-8FA1-464C-83E9-02A23CEB0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0EBDA-5136-48AB-A29C-8BA85D30C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D0A75-0930-44B5-ACE5-CB42D1479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BD519-3766-4011-8547-E07B679E8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96A47-1716-4D03-845B-9BF4E09FB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3F31E-E427-48B2-9BDC-EC9A2D7D5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FAAC1-20CF-453F-A8EA-CD2670C8CA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.png"/><Relationship Id="rId9" Type="http://schemas.openxmlformats.org/officeDocument/2006/relationships/image" Target="../media/image2.jpeg"/><Relationship Id="rId10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 baseline="2000">
                <a:solidFill>
                  <a:srgbClr val="000000"/>
                </a:solidFill>
                <a:latin typeface="Times New Roman"/>
                <a:ea typeface="Times New Roman"/>
              </a:rPr>
              <a:t>VEICAMO PASĀKUMU PLĀNS DARBA AIZSARDZĪBAS JOMĀ</a:t>
            </a:r>
            <a:br>
              <a:rPr sz="2800"/>
            </a:br>
            <a:r>
              <a:rPr b="1" lang="lv-LV" sz="2800" spc="-1" strike="noStrike" baseline="2000">
                <a:solidFill>
                  <a:srgbClr val="000000"/>
                </a:solidFill>
                <a:latin typeface="Times New Roman"/>
                <a:ea typeface="Times New Roman"/>
              </a:rPr>
              <a:t>PĒC BŪVOBJEKTA APSEKOŠANAS</a:t>
            </a:r>
            <a:r>
              <a:rPr b="1" lang="lv-LV" sz="2400" spc="-1" strike="noStrike" baseline="2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80880" y="5562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ūvobjekts: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ūvobjekta apmeklējuma datum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809880" y="2666880"/>
          <a:ext cx="1524240" cy="152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9880" y="2666880"/>
                    <a:ext cx="1524240" cy="152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" name=""/>
          <p:cNvGraphicFramePr/>
          <p:nvPr/>
        </p:nvGraphicFramePr>
        <p:xfrm>
          <a:off x="3809880" y="2666880"/>
          <a:ext cx="1524240" cy="1524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9880" y="2666880"/>
                    <a:ext cx="1524240" cy="152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"/>
          <p:cNvGraphicFramePr/>
          <p:nvPr/>
        </p:nvGraphicFramePr>
        <p:xfrm>
          <a:off x="3809880" y="2666880"/>
          <a:ext cx="1524240" cy="1524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809880" y="2666880"/>
                    <a:ext cx="1524240" cy="152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" name=""/>
          <p:cNvGraphicFramePr/>
          <p:nvPr/>
        </p:nvGraphicFramePr>
        <p:xfrm>
          <a:off x="3809880" y="2666880"/>
          <a:ext cx="1524240" cy="15242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809880" y="2666880"/>
                    <a:ext cx="1524240" cy="152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1" name="Picture%20027" descr=""/>
          <p:cNvPicPr/>
          <p:nvPr/>
        </p:nvPicPr>
        <p:blipFill>
          <a:blip r:embed="rId9"/>
          <a:stretch/>
        </p:blipFill>
        <p:spPr>
          <a:xfrm>
            <a:off x="1752480" y="1066680"/>
            <a:ext cx="5639040" cy="4229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DF2A3-4999-4D94-86A9-42DEF6F570B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Times New Roman"/>
              </a:rPr>
              <a:t>VEICAMIE  KOREKTĪVIE UN PREVENTĪVIE PASĀKUM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800240" y="1218960"/>
            <a:ext cx="39625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Times New Roman"/>
              </a:rPr>
              <a:t>9. </a:t>
            </a:r>
            <a:r>
              <a:rPr b="1" lang="lv-LV" sz="1800" spc="-1" strike="noStrike">
                <a:solidFill>
                  <a:srgbClr val="000000"/>
                </a:solidFill>
                <a:latin typeface="Times New Roman"/>
              </a:rPr>
              <a:t>Konstatētai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v-LV" sz="1800" spc="-1" strike="noStrike">
                <a:solidFill>
                  <a:srgbClr val="000000"/>
                </a:solidFill>
                <a:latin typeface="Times New Roman"/>
              </a:rPr>
              <a:t>Elektrovadi ir izvietoti tieši pārvietošanās ceļo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000000"/>
                </a:solidFill>
                <a:latin typeface="Times New Roman"/>
              </a:rPr>
              <a:t>Pasākumi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v-LV" sz="1800" spc="-1" strike="noStrike">
                <a:solidFill>
                  <a:srgbClr val="000000"/>
                </a:solidFill>
                <a:latin typeface="Times New Roman"/>
              </a:rPr>
              <a:t>Izvietot elektrovadus tā, lai tie netraucētu droši pārvietoties ceļ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000000"/>
                </a:solidFill>
                <a:latin typeface="Times New Roman"/>
              </a:rPr>
              <a:t>Izpildes termiņš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%20010" descr=""/>
          <p:cNvPicPr/>
          <p:nvPr/>
        </p:nvPicPr>
        <p:blipFill>
          <a:blip r:embed="rId1"/>
          <a:stretch/>
        </p:blipFill>
        <p:spPr>
          <a:xfrm>
            <a:off x="380880" y="1371600"/>
            <a:ext cx="4267440" cy="350532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 flipV="1">
            <a:off x="2209680" y="3885840"/>
            <a:ext cx="533520" cy="6094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669CB-0DDC-42A3-89F2-D69A4758FA7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Times New Roman"/>
              </a:rPr>
              <a:t>VEICAMIE  KOREKTĪVIE UN PREVENTĪVIE PASĀKUM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952880" y="13716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000000"/>
                </a:solidFill>
                <a:latin typeface="Times New Roman"/>
              </a:rPr>
              <a:t>10. Konstatētai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v-LV" sz="1800" spc="-1" strike="noStrike">
                <a:solidFill>
                  <a:srgbClr val="000000"/>
                </a:solidFill>
                <a:latin typeface="Times New Roman"/>
              </a:rPr>
              <a:t>Pārvietošanās ceļi apdraud darbinieku un apmeklētāju drošīb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000000"/>
                </a:solidFill>
                <a:latin typeface="Times New Roman"/>
              </a:rPr>
              <a:t>Pasākumi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v-LV" sz="1800" spc="-1" strike="noStrike">
                <a:solidFill>
                  <a:srgbClr val="000000"/>
                </a:solidFill>
                <a:latin typeface="Times New Roman"/>
              </a:rPr>
              <a:t>Uzlikt esošajai konstrukcijai pa virsu kādu platāku dēli, lai nebūtu iespējams paklupšanas/aizķeršanās ris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000000"/>
                </a:solidFill>
                <a:latin typeface="Times New Roman"/>
              </a:rPr>
              <a:t>Izpildes termiņš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580920" y="2590920"/>
            <a:ext cx="68580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icture%20009" descr=""/>
          <p:cNvPicPr/>
          <p:nvPr/>
        </p:nvPicPr>
        <p:blipFill>
          <a:blip r:embed="rId1"/>
          <a:stretch/>
        </p:blipFill>
        <p:spPr>
          <a:xfrm>
            <a:off x="304920" y="1447920"/>
            <a:ext cx="4647960" cy="3666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8E02B-A6A4-42E3-94F9-4961EA0270E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Times New Roman"/>
              </a:rPr>
              <a:t>VEICAMIE  KOREKTĪVIE UN PREVENTĪVIE PASĀKUM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800600" y="1523520"/>
            <a:ext cx="4114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000000"/>
                </a:solidFill>
                <a:latin typeface="Times New Roman"/>
              </a:rPr>
              <a:t>11. Konstatētai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v-LV" sz="1800" spc="-1" strike="noStrike">
                <a:solidFill>
                  <a:srgbClr val="000000"/>
                </a:solidFill>
                <a:latin typeface="Times New Roman"/>
              </a:rPr>
              <a:t>Virsma (pārvietošanās ceļi), pa kuru notiek darbinieku kustība ir slidena un nestabil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000000"/>
                </a:solidFill>
                <a:latin typeface="Times New Roman"/>
              </a:rPr>
              <a:t>Pasākumi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v-LV" sz="1800" spc="-1" strike="noStrike">
                <a:solidFill>
                  <a:srgbClr val="000000"/>
                </a:solidFill>
                <a:latin typeface="Times New Roman"/>
              </a:rPr>
              <a:t>Nomainīt esošo virsmu pret tādu, kura nav slidena un ir stabil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000000"/>
                </a:solidFill>
                <a:latin typeface="Times New Roman"/>
              </a:rPr>
              <a:t>Izpildes termiņš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%20011" descr=""/>
          <p:cNvPicPr/>
          <p:nvPr/>
        </p:nvPicPr>
        <p:blipFill>
          <a:blip r:embed="rId1"/>
          <a:stretch/>
        </p:blipFill>
        <p:spPr>
          <a:xfrm>
            <a:off x="304920" y="1523880"/>
            <a:ext cx="4495680" cy="3576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91263-ED08-4816-87D8-C98CCBA4ACF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Times New Roman"/>
              </a:rPr>
              <a:t>VEICAMIE  KOREKTĪVIE UN PREVENTĪVIE PASĀKUM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952880" y="1295280"/>
            <a:ext cx="38102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000000"/>
                </a:solidFill>
                <a:latin typeface="Times New Roman"/>
              </a:rPr>
              <a:t>12. Konstatētai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v-LV" sz="1800" spc="-1" strike="noStrike">
                <a:solidFill>
                  <a:srgbClr val="000000"/>
                </a:solidFill>
                <a:latin typeface="Times New Roman"/>
              </a:rPr>
              <a:t>Trepes, pa kurām notiek kustība uz augšējo stāvu nav nostiprināta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lv-LV" sz="1800" spc="-1" strike="noStrike">
                <a:solidFill>
                  <a:srgbClr val="000000"/>
                </a:solidFill>
                <a:latin typeface="Times New Roman"/>
              </a:rPr>
              <a:t>Pasākumi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v-LV" sz="1800" spc="-1" strike="noStrike">
                <a:solidFill>
                  <a:srgbClr val="000000"/>
                </a:solidFill>
                <a:latin typeface="Times New Roman"/>
              </a:rPr>
              <a:t>Nostiprināt esošās trepes. Plānot izbūvēt pagaidu kāpnes ar sānu margu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lv-LV" sz="1800" spc="-1" strike="noStrike">
                <a:solidFill>
                  <a:srgbClr val="000000"/>
                </a:solidFill>
                <a:latin typeface="Times New Roman"/>
              </a:rPr>
              <a:t>Izpildes termiņš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016_labs" descr=""/>
          <p:cNvPicPr/>
          <p:nvPr/>
        </p:nvPicPr>
        <p:blipFill>
          <a:blip r:embed="rId1"/>
          <a:stretch/>
        </p:blipFill>
        <p:spPr>
          <a:xfrm>
            <a:off x="819000" y="1371600"/>
            <a:ext cx="3543480" cy="4724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ED604-33FF-4A90-9184-DBC2731275B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Times New Roman"/>
              </a:rPr>
              <a:t>VEICAMIE  KOREKTĪVIE UN PREVENTĪVIE PASĀKUM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647960" y="1371240"/>
            <a:ext cx="38098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Times New Roman"/>
              </a:rPr>
              <a:t>13. Konstatētai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v-LV" sz="2000" spc="-1" strike="noStrike">
                <a:solidFill>
                  <a:srgbClr val="000000"/>
                </a:solidFill>
                <a:latin typeface="Times New Roman"/>
              </a:rPr>
              <a:t>Uz pārvietošanās ceļiem atrodas dēļi ar naglā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Times New Roman"/>
              </a:rPr>
              <a:t>Pasākumi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v-LV" sz="2000" spc="-1" strike="noStrike">
                <a:solidFill>
                  <a:srgbClr val="000000"/>
                </a:solidFill>
                <a:latin typeface="Times New Roman"/>
              </a:rPr>
              <a:t>Pastāvīgi sekot, lai pārvietošanās ceļos neatrastos dēļi ar naglā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Times New Roman"/>
              </a:rPr>
              <a:t>Izpildes termiņš: </a:t>
            </a:r>
            <a:r>
              <a:rPr b="0" lang="lv-LV" sz="2000" spc="-1" strike="noStrike">
                <a:solidFill>
                  <a:srgbClr val="000000"/>
                </a:solidFill>
                <a:latin typeface="Times New Roman"/>
              </a:rPr>
              <a:t>Pastāvīg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%20020" descr=""/>
          <p:cNvPicPr/>
          <p:nvPr/>
        </p:nvPicPr>
        <p:blipFill>
          <a:blip r:embed="rId1"/>
          <a:stretch/>
        </p:blipFill>
        <p:spPr>
          <a:xfrm>
            <a:off x="533520" y="1447920"/>
            <a:ext cx="4114800" cy="318132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2514600" y="2590920"/>
            <a:ext cx="1162080" cy="887400"/>
          </a:xfrm>
          <a:custGeom>
            <a:avLst/>
            <a:gdLst/>
            <a:ahLst/>
            <a:rect l="l" t="t" r="r" b="b"/>
            <a:pathLst>
              <a:path w="732" h="559">
                <a:moveTo>
                  <a:pt x="424" y="0"/>
                </a:moveTo>
                <a:cubicBezTo>
                  <a:pt x="339" y="6"/>
                  <a:pt x="304" y="8"/>
                  <a:pt x="232" y="32"/>
                </a:cubicBezTo>
                <a:cubicBezTo>
                  <a:pt x="232" y="32"/>
                  <a:pt x="172" y="72"/>
                  <a:pt x="160" y="80"/>
                </a:cubicBezTo>
                <a:cubicBezTo>
                  <a:pt x="152" y="85"/>
                  <a:pt x="136" y="96"/>
                  <a:pt x="136" y="96"/>
                </a:cubicBezTo>
                <a:cubicBezTo>
                  <a:pt x="79" y="182"/>
                  <a:pt x="179" y="36"/>
                  <a:pt x="88" y="152"/>
                </a:cubicBezTo>
                <a:cubicBezTo>
                  <a:pt x="18" y="241"/>
                  <a:pt x="104" y="152"/>
                  <a:pt x="40" y="216"/>
                </a:cubicBezTo>
                <a:cubicBezTo>
                  <a:pt x="37" y="224"/>
                  <a:pt x="36" y="232"/>
                  <a:pt x="32" y="240"/>
                </a:cubicBezTo>
                <a:cubicBezTo>
                  <a:pt x="28" y="249"/>
                  <a:pt x="19" y="255"/>
                  <a:pt x="16" y="264"/>
                </a:cubicBezTo>
                <a:cubicBezTo>
                  <a:pt x="8" y="285"/>
                  <a:pt x="0" y="328"/>
                  <a:pt x="0" y="328"/>
                </a:cubicBezTo>
                <a:cubicBezTo>
                  <a:pt x="10" y="401"/>
                  <a:pt x="43" y="445"/>
                  <a:pt x="104" y="488"/>
                </a:cubicBezTo>
                <a:cubicBezTo>
                  <a:pt x="120" y="499"/>
                  <a:pt x="133" y="518"/>
                  <a:pt x="152" y="520"/>
                </a:cubicBezTo>
                <a:cubicBezTo>
                  <a:pt x="176" y="523"/>
                  <a:pt x="200" y="525"/>
                  <a:pt x="224" y="528"/>
                </a:cubicBezTo>
                <a:cubicBezTo>
                  <a:pt x="288" y="544"/>
                  <a:pt x="313" y="546"/>
                  <a:pt x="392" y="552"/>
                </a:cubicBezTo>
                <a:cubicBezTo>
                  <a:pt x="489" y="548"/>
                  <a:pt x="589" y="559"/>
                  <a:pt x="672" y="504"/>
                </a:cubicBezTo>
                <a:cubicBezTo>
                  <a:pt x="712" y="445"/>
                  <a:pt x="700" y="475"/>
                  <a:pt x="712" y="416"/>
                </a:cubicBezTo>
                <a:cubicBezTo>
                  <a:pt x="701" y="155"/>
                  <a:pt x="732" y="288"/>
                  <a:pt x="664" y="152"/>
                </a:cubicBezTo>
                <a:cubicBezTo>
                  <a:pt x="648" y="120"/>
                  <a:pt x="628" y="102"/>
                  <a:pt x="600" y="80"/>
                </a:cubicBezTo>
                <a:cubicBezTo>
                  <a:pt x="585" y="68"/>
                  <a:pt x="552" y="48"/>
                  <a:pt x="552" y="48"/>
                </a:cubicBezTo>
                <a:cubicBezTo>
                  <a:pt x="540" y="11"/>
                  <a:pt x="535" y="24"/>
                  <a:pt x="504" y="8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578E2-CC25-42D7-A9C2-9C6B7B27C93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Times New Roman"/>
              </a:rPr>
              <a:t>VEICAMIE  KOREKTĪVIE UN PREVENTĪVIE PASĀKUM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876920" y="1371240"/>
            <a:ext cx="3962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000000"/>
                </a:solidFill>
                <a:latin typeface="Times New Roman"/>
              </a:rPr>
              <a:t>14. Konstatētai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v-LV" sz="1800" spc="-1" strike="noStrike">
                <a:solidFill>
                  <a:srgbClr val="000000"/>
                </a:solidFill>
                <a:latin typeface="Times New Roman"/>
              </a:rPr>
              <a:t>Nedroši uzstādītas sastatnes. Sastatņu sānu margas ir pārāk tālu no sastatņu klāja. Ir iespējams kritiens no sastatnē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000000"/>
                </a:solidFill>
                <a:latin typeface="Times New Roman"/>
              </a:rPr>
              <a:t>15. Konstatēta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v-LV" sz="1800" spc="-1" strike="noStrike">
                <a:solidFill>
                  <a:srgbClr val="000000"/>
                </a:solidFill>
                <a:latin typeface="Times New Roman"/>
              </a:rPr>
              <a:t>Uz sastatnēm esošie elektrovadi rada aizķeršanās un paklupšanas risk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000000"/>
                </a:solidFill>
                <a:latin typeface="Times New Roman"/>
              </a:rPr>
              <a:t>Pasākumi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v-LV" sz="1800" spc="-1" strike="noStrike">
                <a:solidFill>
                  <a:srgbClr val="000000"/>
                </a:solidFill>
                <a:latin typeface="Times New Roman"/>
              </a:rPr>
              <a:t>Nodrošināt sastatnes ar papildus klāja virsmu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v-LV" sz="1800" spc="-1" strike="noStrike">
                <a:solidFill>
                  <a:srgbClr val="000000"/>
                </a:solidFill>
                <a:latin typeface="Times New Roman"/>
              </a:rPr>
              <a:t>Uz sastatnēm esošos elektrovadus izvietot tā, lai tie neapdraudētu darbinieku drošīb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000000"/>
                </a:solidFill>
                <a:latin typeface="Times New Roman"/>
              </a:rPr>
              <a:t>Izpildes termiņš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%20001" descr=""/>
          <p:cNvPicPr/>
          <p:nvPr/>
        </p:nvPicPr>
        <p:blipFill>
          <a:blip r:embed="rId1"/>
          <a:stretch/>
        </p:blipFill>
        <p:spPr>
          <a:xfrm>
            <a:off x="228600" y="1371600"/>
            <a:ext cx="4724280" cy="371484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 flipV="1">
            <a:off x="2895480" y="4648320"/>
            <a:ext cx="990720" cy="30456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2285640" y="3809880"/>
            <a:ext cx="228600" cy="3812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59657-C958-4371-8C95-12C80945F95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Times New Roman"/>
              </a:rPr>
              <a:t>VEICAMIE  KOREKTĪVIE UN PREVENTĪVIE PASĀKUM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952880" y="1218960"/>
            <a:ext cx="381024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000000"/>
                </a:solidFill>
                <a:latin typeface="Times New Roman"/>
              </a:rPr>
              <a:t>16. Konstatētai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v-LV" sz="1800" spc="-1" strike="noStrike">
                <a:solidFill>
                  <a:srgbClr val="000000"/>
                </a:solidFill>
                <a:latin typeface="Times New Roman"/>
              </a:rPr>
              <a:t>Pa šo vietu notiek darbinieku kustība no balkona platformas uz sastatnē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000000"/>
                </a:solidFill>
                <a:latin typeface="Times New Roman"/>
              </a:rPr>
              <a:t>Pasākumi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v-LV" sz="1800" spc="-1" strike="noStrike">
                <a:solidFill>
                  <a:srgbClr val="000000"/>
                </a:solidFill>
                <a:latin typeface="Times New Roman"/>
              </a:rPr>
              <a:t>Aizliegt šāda veida kustību. Izvietot sastatnēm gala marg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000000"/>
                </a:solidFill>
                <a:latin typeface="Times New Roman"/>
              </a:rPr>
              <a:t>Izpildes termiņš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2209680" y="3885840"/>
            <a:ext cx="533520" cy="6094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icture%20013" descr=""/>
          <p:cNvPicPr/>
          <p:nvPr/>
        </p:nvPicPr>
        <p:blipFill>
          <a:blip r:embed="rId1"/>
          <a:stretch/>
        </p:blipFill>
        <p:spPr>
          <a:xfrm>
            <a:off x="304920" y="1219320"/>
            <a:ext cx="4572000" cy="3782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2285640" y="2133720"/>
            <a:ext cx="2133720" cy="6858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0CEC5-CC52-4158-A890-3A38578E0D4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Times New Roman"/>
              </a:rPr>
              <a:t>VEICAMIE  KOREKTĪVIE UN PREVENTĪVIE PASĀKUM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64796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Times New Roman"/>
              </a:rPr>
              <a:t>17. Konstatētai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v-LV" sz="2000" spc="-1" strike="noStrike">
                <a:solidFill>
                  <a:srgbClr val="000000"/>
                </a:solidFill>
                <a:latin typeface="Times New Roman"/>
              </a:rPr>
              <a:t>Sastatnēm trūkst sānu un galu marg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Times New Roman"/>
              </a:rPr>
              <a:t>Pasākumi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v-LV" sz="2000" spc="-1" strike="noStrike">
                <a:solidFill>
                  <a:srgbClr val="000000"/>
                </a:solidFill>
                <a:latin typeface="Times New Roman"/>
              </a:rPr>
              <a:t>Nodrošināt sastatnes ar galu un sānu margā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Times New Roman"/>
              </a:rPr>
              <a:t>Izpildes termiņš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025_labs" descr=""/>
          <p:cNvPicPr/>
          <p:nvPr/>
        </p:nvPicPr>
        <p:blipFill>
          <a:blip r:embed="rId1"/>
          <a:stretch/>
        </p:blipFill>
        <p:spPr>
          <a:xfrm>
            <a:off x="847800" y="1447920"/>
            <a:ext cx="3486240" cy="4647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48B74-B5EB-4416-BB9C-ECBF8FBFDF2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Times New Roman"/>
              </a:rPr>
              <a:t>VEICAMIE  KOREKTĪVIE UN PREVENTĪVIE PASĀKUM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876920" y="1371240"/>
            <a:ext cx="35812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000000"/>
                </a:solidFill>
                <a:latin typeface="Times New Roman"/>
              </a:rPr>
              <a:t>18. Konstatētai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v-LV" sz="1600" spc="-1" strike="noStrike">
                <a:solidFill>
                  <a:srgbClr val="000000"/>
                </a:solidFill>
                <a:latin typeface="Times New Roman"/>
              </a:rPr>
              <a:t>Sastatnes nav nodrošinātas ar piemērotu atbalsta pēd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000000"/>
                </a:solidFill>
                <a:latin typeface="Times New Roman"/>
              </a:rPr>
              <a:t>19. Konstatētai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v-LV" sz="1600" spc="-1" strike="noStrike">
                <a:solidFill>
                  <a:srgbClr val="000000"/>
                </a:solidFill>
                <a:latin typeface="Times New Roman"/>
              </a:rPr>
              <a:t>Sastatņu pamata augstums pārsniedz pieļaujamo (20cm). Iespējam sastatņu izkustēšanā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000000"/>
                </a:solidFill>
                <a:latin typeface="Times New Roman"/>
              </a:rPr>
              <a:t>Pasākumi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v-LV" sz="1600" spc="-1" strike="noStrike">
                <a:solidFill>
                  <a:srgbClr val="000000"/>
                </a:solidFill>
                <a:latin typeface="Times New Roman"/>
              </a:rPr>
              <a:t>Nodrošināt sastatnes ar piemērotām pamata “pēdām”. Sastatnes izvietot uz droša pamata, kas nepārsniedz 20cm un ir droši nostiprinā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000000"/>
                </a:solidFill>
                <a:latin typeface="Times New Roman"/>
              </a:rPr>
              <a:t>Izpildes termiņš: </a:t>
            </a:r>
            <a:r>
              <a:rPr b="0" lang="lv-LV" sz="1600" spc="-1" strike="noStrike" u="sng">
                <a:solidFill>
                  <a:srgbClr val="000000"/>
                </a:solidFill>
                <a:uFillTx/>
                <a:latin typeface="Times New Roman"/>
              </a:rPr>
              <a:t>Pastāvīg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%20013" descr=""/>
          <p:cNvPicPr/>
          <p:nvPr/>
        </p:nvPicPr>
        <p:blipFill>
          <a:blip r:embed="rId1"/>
          <a:stretch/>
        </p:blipFill>
        <p:spPr>
          <a:xfrm>
            <a:off x="304920" y="1752480"/>
            <a:ext cx="4572000" cy="34290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 flipH="1">
            <a:off x="2742840" y="1981080"/>
            <a:ext cx="228600" cy="5335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F4766-A352-4269-ABA0-E76924DA229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1532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ūvobjekta apsekošanā piedalījās:</a:t>
            </a:r>
            <a:br>
              <a:rPr sz="2000"/>
            </a:br>
            <a:r>
              <a:rPr b="0" lang="lv-LV" sz="1800" spc="-1" strike="noStrike">
                <a:solidFill>
                  <a:srgbClr val="000000"/>
                </a:solidFill>
                <a:latin typeface="Times New Roman"/>
              </a:rPr>
              <a:t>___________________________ (darba aizsardzības daļas vadītājs)</a:t>
            </a:r>
            <a:br>
              <a:rPr sz="1800"/>
            </a:br>
            <a:r>
              <a:rPr b="0" lang="lv-LV" sz="1800" spc="-1" strike="noStrike">
                <a:solidFill>
                  <a:srgbClr val="000000"/>
                </a:solidFill>
                <a:latin typeface="Times New Roman"/>
              </a:rPr>
              <a:t>___________________________ (būvlaukuma vadītājs)</a:t>
            </a:r>
            <a:br>
              <a:rPr sz="1800"/>
            </a:br>
            <a:br>
              <a:rPr sz="1800"/>
            </a:br>
            <a:r>
              <a:rPr b="1" lang="lv-LV" sz="2000" spc="-1" strike="noStrike">
                <a:solidFill>
                  <a:srgbClr val="000000"/>
                </a:solidFill>
                <a:latin typeface="Times New Roman"/>
              </a:rPr>
              <a:t>Plānu izstrādāja:</a:t>
            </a:r>
            <a:br>
              <a:rPr sz="1800"/>
            </a:br>
            <a:r>
              <a:rPr b="0" lang="lv-LV" sz="1800" spc="-1" strike="noStrike">
                <a:solidFill>
                  <a:srgbClr val="000000"/>
                </a:solidFill>
                <a:latin typeface="Times New Roman"/>
              </a:rPr>
              <a:t>SIA “Būvuzņēmums STATS” darba aizsardzības daļas vadītājs</a:t>
            </a:r>
            <a:br>
              <a:rPr sz="1800"/>
            </a:br>
            <a:br>
              <a:rPr sz="1800"/>
            </a:br>
            <a:r>
              <a:rPr b="0" lang="lv-LV" sz="1800" spc="-1" strike="noStrike">
                <a:solidFill>
                  <a:srgbClr val="000000"/>
                </a:solidFill>
                <a:latin typeface="Times New Roman"/>
              </a:rPr>
              <a:t>___________________</a:t>
            </a:r>
            <a:r>
              <a:rPr b="0" lang="lv-LV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v-LV" sz="1800" spc="-1" strike="noStrike">
                <a:solidFill>
                  <a:srgbClr val="000000"/>
                </a:solidFill>
                <a:latin typeface="Times New Roman"/>
              </a:rPr>
              <a:t>___.___.2006.</a:t>
            </a:r>
            <a:br>
              <a:rPr sz="1800"/>
            </a:br>
            <a:r>
              <a:rPr b="0" lang="lv-LV" sz="1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lv-LV" sz="1600" spc="-1" strike="noStrike">
                <a:solidFill>
                  <a:srgbClr val="000000"/>
                </a:solidFill>
                <a:latin typeface="Times New Roman"/>
              </a:rPr>
              <a:t>Paraksts</a:t>
            </a:r>
            <a:br>
              <a:rPr sz="1600"/>
            </a:br>
            <a:r>
              <a:rPr b="1" lang="lv-LV" sz="2000" spc="-1" strike="noStrike">
                <a:solidFill>
                  <a:srgbClr val="000000"/>
                </a:solidFill>
                <a:latin typeface="Times New Roman"/>
              </a:rPr>
              <a:t>Ar dokumentu iepazinos:</a:t>
            </a:r>
            <a:br>
              <a:rPr sz="2000"/>
            </a:br>
            <a:r>
              <a:rPr b="0" lang="lv-LV" sz="1800" spc="-1" strike="noStrike">
                <a:solidFill>
                  <a:srgbClr val="000000"/>
                </a:solidFill>
                <a:latin typeface="Times New Roman"/>
              </a:rPr>
              <a:t>SIA “Būvuzņēmums STATS” projektu vadītājs</a:t>
            </a:r>
            <a:br>
              <a:rPr sz="1800"/>
            </a:br>
            <a:br>
              <a:rPr sz="1800"/>
            </a:br>
            <a:r>
              <a:rPr b="0" lang="lv-LV" sz="1800" spc="-1" strike="noStrike">
                <a:solidFill>
                  <a:srgbClr val="000000"/>
                </a:solidFill>
                <a:latin typeface="Times New Roman"/>
              </a:rPr>
              <a:t>___________________</a:t>
            </a:r>
            <a:r>
              <a:rPr b="0" lang="lv-LV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v-LV" sz="1800" spc="-1" strike="noStrike">
                <a:solidFill>
                  <a:srgbClr val="000000"/>
                </a:solidFill>
                <a:latin typeface="Times New Roman"/>
              </a:rPr>
              <a:t>___.___.2006.</a:t>
            </a:r>
            <a:br>
              <a:rPr sz="1800"/>
            </a:br>
            <a:r>
              <a:rPr b="0" lang="lv-LV" sz="1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lv-LV" sz="1600" spc="-1" strike="noStrike">
                <a:solidFill>
                  <a:srgbClr val="000000"/>
                </a:solidFill>
                <a:latin typeface="Times New Roman"/>
              </a:rPr>
              <a:t>Parakst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D38EA-CD26-4CB1-B84C-654E45ECF21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Times New Roman"/>
              </a:rPr>
              <a:t>VEICAMIE  KOREKTĪVIE UN PREVENTĪVIE PASĀKUM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105160" y="1295280"/>
            <a:ext cx="3809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000000"/>
                </a:solidFill>
                <a:latin typeface="Times New Roman"/>
              </a:rPr>
              <a:t>1. Konstatētai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v-LV" sz="1800" spc="-1" strike="noStrike">
                <a:solidFill>
                  <a:srgbClr val="000000"/>
                </a:solidFill>
                <a:latin typeface="Times New Roman"/>
              </a:rPr>
              <a:t>Darbinieki objektā strādā un pārvietojas bez aizsargķiverē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000000"/>
                </a:solidFill>
                <a:latin typeface="Times New Roman"/>
              </a:rPr>
              <a:t>Pasākumi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v-LV" sz="1800" spc="-1" strike="noStrike">
                <a:solidFill>
                  <a:srgbClr val="000000"/>
                </a:solidFill>
                <a:latin typeface="Times New Roman"/>
              </a:rPr>
              <a:t>Pastāvīgi kontrolēt un atgādināt darbiniekiem (t.sk. apakšuzņēmējiem) par aizsargķiveru lietošanas nepieciešamību pārvietojoties un strādājot būvobjekt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000000"/>
                </a:solidFill>
                <a:latin typeface="Times New Roman"/>
              </a:rPr>
              <a:t>Izpildes termiņš:</a:t>
            </a:r>
            <a:r>
              <a:rPr b="0" lang="lv-LV" sz="1800" spc="-1" strike="noStrike">
                <a:solidFill>
                  <a:srgbClr val="000000"/>
                </a:solidFill>
                <a:latin typeface="Times New Roman"/>
              </a:rPr>
              <a:t> Pastāvīg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%20003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4495680" cy="3413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7F18E-8DD1-44A6-9CFD-6A616FBD7C3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Times New Roman"/>
              </a:rPr>
              <a:t>VEICAMIE  KOREKTĪVIE UN PREVENTĪVIE PASĀKUM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105160" y="1371240"/>
            <a:ext cx="38098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000000"/>
                </a:solidFill>
                <a:latin typeface="Times New Roman"/>
              </a:rPr>
              <a:t>2. Konstatētai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v-LV" sz="1800" spc="-1" strike="noStrike">
                <a:solidFill>
                  <a:srgbClr val="000000"/>
                </a:solidFill>
                <a:latin typeface="Times New Roman"/>
              </a:rPr>
              <a:t>Uz balkonu platformām izvietotie priekšmeti var apdraudēt (pastāv iespēja, ka tie var krist) darbinieku un/vai apmeklētāju drošīb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000000"/>
                </a:solidFill>
                <a:latin typeface="Times New Roman"/>
              </a:rPr>
              <a:t>Pasākumi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v-LV" sz="1800" spc="-1" strike="noStrike">
                <a:solidFill>
                  <a:srgbClr val="000000"/>
                </a:solidFill>
                <a:latin typeface="Times New Roman"/>
              </a:rPr>
              <a:t>Novākt vai novietot stabilā pozīcijā uz balkonu platformām novietotos priekšmet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000000"/>
                </a:solidFill>
                <a:latin typeface="Times New Roman"/>
              </a:rPr>
              <a:t>Izpildes termiņš:</a:t>
            </a:r>
            <a:r>
              <a:rPr b="0" lang="lv-LV" sz="1800" spc="-1" strike="noStrike">
                <a:solidFill>
                  <a:srgbClr val="000000"/>
                </a:solidFill>
                <a:latin typeface="Times New Roman"/>
              </a:rPr>
              <a:t> Pastāvīg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%20002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648320" cy="35686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600200" y="3124080"/>
            <a:ext cx="609480" cy="2286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EC261-1A40-4D0D-9AF7-22B236317DA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Times New Roman"/>
              </a:rPr>
              <a:t>VEICAMIE  KOREKTĪVIE UN PREVENTĪVIE PASĀKUM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34120" y="1371240"/>
            <a:ext cx="35049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000000"/>
                </a:solidFill>
                <a:latin typeface="Times New Roman"/>
              </a:rPr>
              <a:t>3. Konstatētai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v-LV" sz="1800" spc="-1" strike="noStrike">
                <a:solidFill>
                  <a:srgbClr val="000000"/>
                </a:solidFill>
                <a:latin typeface="Times New Roman"/>
              </a:rPr>
              <a:t>Būvlaukuma teritorijā nav iežogoti bīstamie šķēršļi - aku padziļinājum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000000"/>
                </a:solidFill>
                <a:latin typeface="Times New Roman"/>
              </a:rPr>
              <a:t>Pasākumi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v-LV" sz="1800" spc="-1" strike="noStrike">
                <a:solidFill>
                  <a:srgbClr val="000000"/>
                </a:solidFill>
                <a:latin typeface="Times New Roman"/>
              </a:rPr>
              <a:t>Apzīmēt un ierobežot visas bīstamās zonas - norobežot aku padziļinājumus ar signāllent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lv-LV" sz="1800" spc="-1" strike="noStrike">
                <a:solidFill>
                  <a:srgbClr val="000000"/>
                </a:solidFill>
                <a:latin typeface="Times New Roman"/>
              </a:rPr>
              <a:t>Izpildes termiņš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%20029" descr=""/>
          <p:cNvPicPr/>
          <p:nvPr/>
        </p:nvPicPr>
        <p:blipFill>
          <a:blip r:embed="rId1"/>
          <a:stretch/>
        </p:blipFill>
        <p:spPr>
          <a:xfrm>
            <a:off x="380880" y="1676520"/>
            <a:ext cx="4724640" cy="35431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1523880" y="2362320"/>
            <a:ext cx="2903760" cy="2031840"/>
          </a:xfrm>
          <a:custGeom>
            <a:avLst/>
            <a:gdLst/>
            <a:ahLst/>
            <a:rect l="l" t="t" r="r" b="b"/>
            <a:pathLst>
              <a:path w="1829" h="1280">
                <a:moveTo>
                  <a:pt x="832" y="8"/>
                </a:moveTo>
                <a:cubicBezTo>
                  <a:pt x="797" y="17"/>
                  <a:pt x="747" y="23"/>
                  <a:pt x="712" y="40"/>
                </a:cubicBezTo>
                <a:cubicBezTo>
                  <a:pt x="657" y="67"/>
                  <a:pt x="725" y="49"/>
                  <a:pt x="648" y="64"/>
                </a:cubicBezTo>
                <a:cubicBezTo>
                  <a:pt x="614" y="81"/>
                  <a:pt x="590" y="88"/>
                  <a:pt x="552" y="96"/>
                </a:cubicBezTo>
                <a:cubicBezTo>
                  <a:pt x="489" y="138"/>
                  <a:pt x="571" y="87"/>
                  <a:pt x="496" y="120"/>
                </a:cubicBezTo>
                <a:cubicBezTo>
                  <a:pt x="439" y="145"/>
                  <a:pt x="413" y="166"/>
                  <a:pt x="360" y="184"/>
                </a:cubicBezTo>
                <a:cubicBezTo>
                  <a:pt x="322" y="197"/>
                  <a:pt x="327" y="187"/>
                  <a:pt x="288" y="208"/>
                </a:cubicBezTo>
                <a:cubicBezTo>
                  <a:pt x="243" y="233"/>
                  <a:pt x="203" y="268"/>
                  <a:pt x="160" y="296"/>
                </a:cubicBezTo>
                <a:cubicBezTo>
                  <a:pt x="143" y="322"/>
                  <a:pt x="109" y="358"/>
                  <a:pt x="80" y="368"/>
                </a:cubicBezTo>
                <a:cubicBezTo>
                  <a:pt x="39" y="430"/>
                  <a:pt x="54" y="398"/>
                  <a:pt x="32" y="464"/>
                </a:cubicBezTo>
                <a:cubicBezTo>
                  <a:pt x="29" y="472"/>
                  <a:pt x="24" y="488"/>
                  <a:pt x="24" y="488"/>
                </a:cubicBezTo>
                <a:cubicBezTo>
                  <a:pt x="28" y="677"/>
                  <a:pt x="0" y="776"/>
                  <a:pt x="48" y="920"/>
                </a:cubicBezTo>
                <a:cubicBezTo>
                  <a:pt x="55" y="988"/>
                  <a:pt x="58" y="1062"/>
                  <a:pt x="120" y="1104"/>
                </a:cubicBezTo>
                <a:cubicBezTo>
                  <a:pt x="171" y="1180"/>
                  <a:pt x="238" y="1182"/>
                  <a:pt x="320" y="1200"/>
                </a:cubicBezTo>
                <a:cubicBezTo>
                  <a:pt x="416" y="1221"/>
                  <a:pt x="517" y="1257"/>
                  <a:pt x="616" y="1264"/>
                </a:cubicBezTo>
                <a:cubicBezTo>
                  <a:pt x="675" y="1268"/>
                  <a:pt x="733" y="1269"/>
                  <a:pt x="792" y="1272"/>
                </a:cubicBezTo>
                <a:cubicBezTo>
                  <a:pt x="837" y="1274"/>
                  <a:pt x="883" y="1277"/>
                  <a:pt x="928" y="1280"/>
                </a:cubicBezTo>
                <a:cubicBezTo>
                  <a:pt x="1161" y="1274"/>
                  <a:pt x="1227" y="1277"/>
                  <a:pt x="1408" y="1232"/>
                </a:cubicBezTo>
                <a:cubicBezTo>
                  <a:pt x="1437" y="1212"/>
                  <a:pt x="1509" y="1177"/>
                  <a:pt x="1528" y="1152"/>
                </a:cubicBezTo>
                <a:cubicBezTo>
                  <a:pt x="1560" y="1109"/>
                  <a:pt x="1603" y="1070"/>
                  <a:pt x="1648" y="1040"/>
                </a:cubicBezTo>
                <a:cubicBezTo>
                  <a:pt x="1676" y="998"/>
                  <a:pt x="1707" y="960"/>
                  <a:pt x="1736" y="920"/>
                </a:cubicBezTo>
                <a:cubicBezTo>
                  <a:pt x="1776" y="864"/>
                  <a:pt x="1734" y="911"/>
                  <a:pt x="1760" y="864"/>
                </a:cubicBezTo>
                <a:cubicBezTo>
                  <a:pt x="1781" y="825"/>
                  <a:pt x="1802" y="802"/>
                  <a:pt x="1816" y="760"/>
                </a:cubicBezTo>
                <a:cubicBezTo>
                  <a:pt x="1816" y="748"/>
                  <a:pt x="1829" y="554"/>
                  <a:pt x="1792" y="488"/>
                </a:cubicBezTo>
                <a:cubicBezTo>
                  <a:pt x="1764" y="438"/>
                  <a:pt x="1754" y="434"/>
                  <a:pt x="1712" y="392"/>
                </a:cubicBezTo>
                <a:cubicBezTo>
                  <a:pt x="1704" y="384"/>
                  <a:pt x="1688" y="368"/>
                  <a:pt x="1688" y="368"/>
                </a:cubicBezTo>
                <a:cubicBezTo>
                  <a:pt x="1685" y="360"/>
                  <a:pt x="1686" y="350"/>
                  <a:pt x="1680" y="344"/>
                </a:cubicBezTo>
                <a:cubicBezTo>
                  <a:pt x="1670" y="334"/>
                  <a:pt x="1601" y="286"/>
                  <a:pt x="1584" y="280"/>
                </a:cubicBezTo>
                <a:cubicBezTo>
                  <a:pt x="1555" y="236"/>
                  <a:pt x="1584" y="273"/>
                  <a:pt x="1544" y="240"/>
                </a:cubicBezTo>
                <a:cubicBezTo>
                  <a:pt x="1528" y="227"/>
                  <a:pt x="1520" y="205"/>
                  <a:pt x="1504" y="192"/>
                </a:cubicBezTo>
                <a:cubicBezTo>
                  <a:pt x="1484" y="175"/>
                  <a:pt x="1417" y="150"/>
                  <a:pt x="1392" y="144"/>
                </a:cubicBezTo>
                <a:cubicBezTo>
                  <a:pt x="1336" y="107"/>
                  <a:pt x="1265" y="64"/>
                  <a:pt x="1200" y="48"/>
                </a:cubicBezTo>
                <a:cubicBezTo>
                  <a:pt x="1127" y="0"/>
                  <a:pt x="1035" y="8"/>
                  <a:pt x="952" y="8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FE5C7-0485-49B2-A271-753BB6FA8F5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Times New Roman"/>
              </a:rPr>
              <a:t>VEICAMIE  KOREKTĪVIE UN PREVENTĪVIE PASĀKUM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257800" y="1523880"/>
            <a:ext cx="358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000000"/>
                </a:solidFill>
                <a:latin typeface="Times New Roman"/>
              </a:rPr>
              <a:t>4. Konstatētai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v-LV" sz="1800" spc="-1" strike="noStrike">
                <a:solidFill>
                  <a:srgbClr val="000000"/>
                </a:solidFill>
                <a:latin typeface="Times New Roman"/>
              </a:rPr>
              <a:t>Jaunbūvē nav norobežotas liftu šah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000000"/>
                </a:solidFill>
                <a:latin typeface="Times New Roman"/>
              </a:rPr>
              <a:t>Pasākumi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v-LV" sz="1800" spc="-1" strike="noStrike">
                <a:solidFill>
                  <a:srgbClr val="000000"/>
                </a:solidFill>
                <a:latin typeface="Times New Roman"/>
              </a:rPr>
              <a:t>Izvietot pie liftu šahtām pagaidu aizsargnorobežojumus</a:t>
            </a:r>
            <a:r>
              <a:rPr b="0" lang="lv-LV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000000"/>
                </a:solidFill>
                <a:latin typeface="Times New Roman"/>
              </a:rPr>
              <a:t>Izpildes termiņš:</a:t>
            </a:r>
            <a:r>
              <a:rPr b="0" lang="lv-LV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%20012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724640" cy="36086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219320" y="3505320"/>
            <a:ext cx="83808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1A544-0BBF-4269-839A-7585C8ADC40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Times New Roman"/>
              </a:rPr>
              <a:t>VEICAMIE  KOREKTĪVIE UN PREVENTĪVIE PASĀKUM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4419360"/>
            <a:ext cx="84582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000000"/>
                </a:solidFill>
                <a:latin typeface="Times New Roman"/>
              </a:rPr>
              <a:t>5. Konstatētai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v-LV" sz="1600" spc="-1" strike="noStrike">
                <a:solidFill>
                  <a:srgbClr val="000000"/>
                </a:solidFill>
                <a:latin typeface="Times New Roman"/>
              </a:rPr>
              <a:t>Darbinieki, veicot darbus objektā, neievēro vispārējās darba drošības prasības, t.i., veicot darbus pie atklātām malām, netiek lietoti aizsardzības līdzekļi – drošības jostas, aizsargnožogojum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000000"/>
                </a:solidFill>
                <a:latin typeface="Times New Roman"/>
              </a:rPr>
              <a:t>Pasākumi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v-LV" sz="1600" spc="-1" strike="noStrike">
                <a:solidFill>
                  <a:srgbClr val="000000"/>
                </a:solidFill>
                <a:latin typeface="Times New Roman"/>
              </a:rPr>
              <a:t>Pastāvīgi informēt darbiniekus par vispārējo darba drošības prasību ievērošanu objekt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000000"/>
                </a:solidFill>
                <a:latin typeface="Times New Roman"/>
              </a:rPr>
              <a:t>Izpildes termiņš</a:t>
            </a:r>
            <a:r>
              <a:rPr b="1" lang="lv-LV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lv-LV" sz="1600" spc="-1" strike="noStrike">
                <a:solidFill>
                  <a:srgbClr val="000000"/>
                </a:solidFill>
                <a:latin typeface="Times New Roman"/>
              </a:rPr>
              <a:t> Pastāvīg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%20002" descr=""/>
          <p:cNvPicPr/>
          <p:nvPr/>
        </p:nvPicPr>
        <p:blipFill>
          <a:blip r:embed="rId1"/>
          <a:stretch/>
        </p:blipFill>
        <p:spPr>
          <a:xfrm>
            <a:off x="457200" y="990720"/>
            <a:ext cx="419112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%20003" descr=""/>
          <p:cNvPicPr/>
          <p:nvPr/>
        </p:nvPicPr>
        <p:blipFill>
          <a:blip r:embed="rId2"/>
          <a:stretch/>
        </p:blipFill>
        <p:spPr>
          <a:xfrm>
            <a:off x="4724280" y="990720"/>
            <a:ext cx="3886200" cy="335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8BC1C-BEAB-40A5-A12D-8882DFE9EB3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Times New Roman"/>
              </a:rPr>
              <a:t>VEICAMIE  KOREKTĪVIE UN PREVENTĪVIE PASĀKUM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952880" y="1599840"/>
            <a:ext cx="3810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000000"/>
                </a:solidFill>
                <a:latin typeface="Times New Roman"/>
              </a:rPr>
              <a:t>6. Konstatētai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v-LV" sz="1800" spc="-1" strike="noStrike">
                <a:solidFill>
                  <a:srgbClr val="000000"/>
                </a:solidFill>
                <a:latin typeface="Times New Roman"/>
              </a:rPr>
              <a:t>Darbinieki veic darbus uz neatbilstošām darba platformā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000000"/>
                </a:solidFill>
                <a:latin typeface="Times New Roman"/>
              </a:rPr>
              <a:t>Pasākumi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v-LV" sz="1800" spc="-1" strike="noStrike">
                <a:solidFill>
                  <a:srgbClr val="000000"/>
                </a:solidFill>
                <a:latin typeface="Times New Roman"/>
              </a:rPr>
              <a:t>Uzraudzīt, lai darbinieki darbus veiktu uz atbilstošām (drošām) pastatnē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000000"/>
                </a:solidFill>
                <a:latin typeface="Times New Roman"/>
              </a:rPr>
              <a:t>Izpildes termiņš:</a:t>
            </a:r>
            <a:r>
              <a:rPr b="0" lang="lv-LV" sz="1800" spc="-1" strike="noStrike">
                <a:solidFill>
                  <a:srgbClr val="000000"/>
                </a:solidFill>
                <a:latin typeface="Times New Roman"/>
              </a:rPr>
              <a:t> Pastāvīg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007_labs" descr=""/>
          <p:cNvPicPr/>
          <p:nvPr/>
        </p:nvPicPr>
        <p:blipFill>
          <a:blip r:embed="rId1"/>
          <a:stretch/>
        </p:blipFill>
        <p:spPr>
          <a:xfrm>
            <a:off x="609480" y="990720"/>
            <a:ext cx="3678480" cy="4876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B5CC0-CC60-4BFF-BF8B-048EE3BDBB7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Times New Roman"/>
              </a:rPr>
              <a:t>VEICAMIE  KOREKTĪVIE UN PREVENTĪVIE PASĀKUM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952880" y="15238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000000"/>
                </a:solidFill>
                <a:latin typeface="Times New Roman"/>
              </a:rPr>
              <a:t>7. Konstatētai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v-LV" sz="1800" spc="-1" strike="noStrike">
                <a:solidFill>
                  <a:srgbClr val="000000"/>
                </a:solidFill>
                <a:latin typeface="Times New Roman"/>
              </a:rPr>
              <a:t>Darbinieki veic darbus uz neatbilstošām darba platformā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000000"/>
                </a:solidFill>
                <a:latin typeface="Times New Roman"/>
              </a:rPr>
              <a:t>Pasākumi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v-LV" sz="1800" spc="-1" strike="noStrike">
                <a:solidFill>
                  <a:srgbClr val="000000"/>
                </a:solidFill>
                <a:latin typeface="Times New Roman"/>
              </a:rPr>
              <a:t>Uzraudzīt, lai darbinieki darbus veiktu uz atbilstošām (drošām) darba platformā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000000"/>
                </a:solidFill>
                <a:latin typeface="Times New Roman"/>
              </a:rPr>
              <a:t>Izpildes termiņš: </a:t>
            </a:r>
            <a:r>
              <a:rPr b="0" lang="lv-LV" sz="1800" spc="-1" strike="noStrike">
                <a:solidFill>
                  <a:srgbClr val="000000"/>
                </a:solidFill>
                <a:latin typeface="Times New Roman"/>
              </a:rPr>
              <a:t>Pastāvīg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009_labs" descr=""/>
          <p:cNvPicPr/>
          <p:nvPr/>
        </p:nvPicPr>
        <p:blipFill>
          <a:blip r:embed="rId1"/>
          <a:stretch/>
        </p:blipFill>
        <p:spPr>
          <a:xfrm>
            <a:off x="762120" y="990720"/>
            <a:ext cx="3657600" cy="487656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 flipH="1">
            <a:off x="3580920" y="2590920"/>
            <a:ext cx="68580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3352680" y="5181480"/>
            <a:ext cx="4572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86630-EB27-49A3-9C50-BE4A6A8FE61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Times New Roman"/>
              </a:rPr>
              <a:t>VEICAMIE  KOREKTĪVIE UN PREVENTĪVIE PASĀKUM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64796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000000"/>
                </a:solidFill>
                <a:latin typeface="Times New Roman"/>
              </a:rPr>
              <a:t>8. Konstatētai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v-LV" sz="1800" spc="-1" strike="noStrike">
                <a:solidFill>
                  <a:srgbClr val="000000"/>
                </a:solidFill>
                <a:latin typeface="Times New Roman"/>
              </a:rPr>
              <a:t>Nav noslēgtas balkona durv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000000"/>
                </a:solidFill>
                <a:latin typeface="Times New Roman"/>
              </a:rPr>
              <a:t>Pasākumi:</a:t>
            </a:r>
            <a:r>
              <a:rPr b="0" lang="lv-LV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v-LV" sz="1800" spc="-1" strike="noStrike">
                <a:solidFill>
                  <a:srgbClr val="000000"/>
                </a:solidFill>
                <a:latin typeface="Times New Roman"/>
              </a:rPr>
              <a:t>Noslēgt visas balkona durvis uz laiku, kad uz balkona platformām netiek veikti darb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v-LV" sz="1800" spc="-1" strike="noStrike">
                <a:solidFill>
                  <a:srgbClr val="000000"/>
                </a:solidFill>
                <a:latin typeface="Times New Roman"/>
              </a:rPr>
              <a:t>Pirms veikt darbus uz balkonu platformām, tās attīrīt no sniega un led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000000"/>
                </a:solidFill>
                <a:latin typeface="Times New Roman"/>
              </a:rPr>
              <a:t>Izpildes termiņš: </a:t>
            </a:r>
            <a:r>
              <a:rPr b="0" lang="lv-LV" sz="1800" spc="-1" strike="noStrike">
                <a:solidFill>
                  <a:srgbClr val="000000"/>
                </a:solidFill>
                <a:latin typeface="Times New Roman"/>
              </a:rPr>
              <a:t>Pastāvīg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008_labs" descr=""/>
          <p:cNvPicPr/>
          <p:nvPr/>
        </p:nvPicPr>
        <p:blipFill>
          <a:blip r:embed="rId1"/>
          <a:stretch/>
        </p:blipFill>
        <p:spPr>
          <a:xfrm>
            <a:off x="762120" y="1066680"/>
            <a:ext cx="3714480" cy="4953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7A92A-BB38-4B72-B9A2-CB342F2938D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20T07:38:42Z</dcterms:created>
  <dc:creator>HenrijsP</dc:creator>
  <dc:description/>
  <dc:language>en-US</dc:language>
  <cp:lastModifiedBy>HenrijsP</cp:lastModifiedBy>
  <dcterms:modified xsi:type="dcterms:W3CDTF">2006-09-13T10:12:42Z</dcterms:modified>
  <cp:revision>11</cp:revision>
  <dc:subject/>
  <dc:title>VEICAMO PASĀKUMU PLĀNS DARBA AIZSARDZĪBAS JOMĀ PĒC BŪVOBJEKTA APSEKOŠANAS  </dc:title>
</cp:coreProperties>
</file>