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23A-A9A7-402E-8A2F-0837DB9B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AB4-0192-4EE3-BE54-56C96D5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1F4-4ECA-4A81-AF73-01748AEE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20B-5C99-42C7-A87E-DE8B87E1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E99F-DE14-4104-AFBD-0D15C4DF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588D-678C-4065-92A6-EF94C82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FFDC-1FCF-4A49-A18B-066A82B3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3408-22BE-4D1D-A33A-00C19D8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A0D5-D0BB-455E-9C3A-3D6B8E54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FA0A-B23A-4DCC-90C7-832E6764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1833-C584-4C89-8A76-800B659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739-B594-4094-A613-1C589CD2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2EC1-C08A-485E-8761-ED64C374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C0DB-9419-4CB6-BC79-B3A657D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0B6-FA32-4E4C-9303-74B91966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0859-91D1-4730-B187-8C362152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BC6-9E59-41A4-8677-970F09DD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B55-2779-42F1-837C-AE75C6AB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C62-23A8-428D-854C-ECB4B7D4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DD0-9CEF-46D9-97CB-D8589F60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632-E891-4B18-8116-16942D47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F0B-5C77-4FF4-9433-38CBF6C7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1B3-C0E5-47A6-AEA6-6742063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5B3-30DF-48BB-B577-5C40CE12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0CB5-B770-4666-8C6B-9AAD2446C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E08D-C5E6-4E01-B07D-821405BD0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0400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DARBA AIZSARDZĪ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772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Times New Roman"/>
              </a:rPr>
              <a:t>NODARBINĀTO   DROŠĪ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Times New Roman"/>
              </a:rPr>
              <a:t>VESELĪBA   DARB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C82-77F6-44E3-B038-2E4E30887D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IAL kopšana / pārbaude, darbu beidzot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40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Notīrīt, sakopt IAL u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ārbaudīt vai IAL ir drošā darba kārtībā un var pildīt paredzētās funkci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Novietot IAL paredzētās vietās, aizsargmaisiņ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(Neatstāt uz darbojošām iekārtām, stend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uz stendu skrūvēm un neievietotus “maisiņo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Ja IAL nenodrošina paredzētās funkcijas, jāziņo tiešajam vadītājam un darbu drīkst turpināt, ja IAL savests kārtībā, vai saņemts 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06A-0448-4184-B12F-6CB6AADA08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Darba apģērbu pārbaude un kopš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46160"/>
            <a:ext cx="81802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Vai darba apģērbs pilnā komplektā, atbilstošā darba kārtībā un var pildīt paredzētās fun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ārbaudīt vai nav mehāniski vai ķīmiski bojā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asmērētus apģērbus nomainī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rba apģērbs jānomaina nekavējoties, ja tas  sasmērēts tā, ka tas var būt bīstams darbinieka veselīb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peciālo darba tērpu (kostīmu, kombinzonu, skafandru) pārbaudes un kopšanas kārtība noteikta izgatavotāja instrukcijā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254-5DE0-4664-AEE7-BF79EC7EF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Elpošanas ceļu aizsardzības līdzekļu IAL pārbaude/kopš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2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ai pilnā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komplekt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un lietošanas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kārtīb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- ar atbilstošu filtru un filtrs nav bojā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- skatu stikli tīri un nav bojā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- pieguļ sejai un  nodrošina hermētisk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Darbu beidzot notīrīt, nosusināt, dezinficē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ārbaude un kopšana  jāveic atbilstoši izgatavotāja instrukci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E4E-52B9-4034-87C4-A78EB06B76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Darbs ar bīstamām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2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Bīstamās vielas tieši iedarbojoties uz organismu var izraisīt nelaimes gadījumus, arodslimības, paliekošus veselības traucēju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Informācija uz iepakojuma, DDL, katalo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Bīstamības si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R” Riska frāzes – standartformulējums    raksturo bīstamību, kas izpaužas vielu lietojo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” Drošības frāzes satur nepieciešamo informāciju vielas drošai lietošan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FD9-5DDD-43A5-A191-9DEEC2D0CD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Darbs ar bīstamām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18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DDL satur informāciju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rasības par IAL lietoša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Toksikoloģisko informā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Vielas gaistamība. Cik viela ātri iztvaikojot var veidot bīstamu maisījumu ar gai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Tvaiku blīvums pret gaisu. Kur var sakrāties vielas bīstamas koncentrā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Šķīdība ūden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Izlijušu/izbirušu vielu savākšanas paņēmieni un darba vietas sakop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u.c.  (izteikts 16 punk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84D-B62E-409D-BD3E-2A0BA9CB53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3336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ĶV un ĶP toksicitāte / indīg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8402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Toksicitāte/indīgums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- ĶV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spēja izraisīt 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nelabvēlīgu efektu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tai nonākot organism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Bīstamība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- iespēja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nonākt organism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Toksicitāte atkarīga no ekspozīcijas veida un intensitātes, ilguma, ĶV daļiņu izmēra, gaistamības, organisma fizioloģiskā stāvokļa, apkārtējās vides u.c. faktoriem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F54-82BB-471A-A7C1-9C09AB39E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Aroda ekspozīcijas robežvērtī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40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ER ir tāda ķīmiskās vielas koncentrācija darba vides gaisā, kas pie 8 stundu darba dienas un 40 stundām nedēļā darbinieka organismā visā dzīves laikā neizraisa saslimšanu un novirzes veselībā, kuras konstatējamas ar mūsdienu izmeklēšanas metodē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lv-LV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,  20 </a:t>
            </a:r>
            <a:r>
              <a:rPr b="0" lang="lv-LV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C, 101, 3 kP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7AD-474C-4761-8C73-764465463C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Ķīmisko vielu iedalīj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14264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Iedarbība uz cilvēka veselī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+                      Xn                  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                         Xi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izikāli ķīmiskās īpašī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E                         F+                   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Ietekme uz vidi                          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19320" y="1828800"/>
          <a:ext cx="106668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106668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962520" y="1828800"/>
          <a:ext cx="106668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828800"/>
                    <a:ext cx="106668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477120" y="1828800"/>
          <a:ext cx="1143000" cy="11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1828800"/>
                    <a:ext cx="11430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219320" y="3581280"/>
          <a:ext cx="11458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581280"/>
                    <a:ext cx="1145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886200" y="3657600"/>
          <a:ext cx="11430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365760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53080" y="3581280"/>
          <a:ext cx="114012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3080" y="3581280"/>
                    <a:ext cx="1140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257800" y="5181480"/>
          <a:ext cx="1260360" cy="128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5181480"/>
                    <a:ext cx="12603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382-8B02-4E9D-B5ED-06CBB42ECC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T+”- Ļoti toksiskas ĶV un ĶP </a:t>
            </a:r>
            <a:br>
              <a:rPr sz="4400"/>
            </a:b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   “T”   - Toksiskas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24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+”- Vielas un produkti, kas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ļoti mazos daudzumos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elpoti, apēsti vai absorbējoties caur ādu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var izraisīt akūtu vai                hronisku kaitējumu veselīb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Dimetilsulfāts, Na hidrī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R26, 27, 28,u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” - “m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azos daudzumos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”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Metanols, CH</a:t>
            </a:r>
            <a:r>
              <a:rPr b="0" i="1" lang="lv-LV" sz="3200" spc="-1" strike="noStrike" baseline="-30000">
                <a:solidFill>
                  <a:srgbClr val="000000"/>
                </a:solidFill>
                <a:latin typeface="Dutch TL"/>
              </a:rPr>
              <a:t>3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Br, Benzilhlorīds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R23,24,25 u.c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227640" y="3213000"/>
          <a:ext cx="259092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3213000"/>
                    <a:ext cx="259092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BA6-1004-46F8-BA80-9E5BCB8F8B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Xn” –  Kaitīgas ĶV un ĶP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    “Xi”  –  Kairinošas ĶV un K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Xn”- Vielas un produkti, kas  ieelpoti, apēsti vai absorbēti caur ādu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var izraisīt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akūtu vai hronisku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kaitējumu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veselīb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Acetonitrils, Dioksā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R20,21,22 u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Xi” - Nav kodīgas, bet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var radī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iekaisum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pēc īslaicīga, ilgstoš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tkārtota kontakta ar ādu vai gļotā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Acetons, CaCl</a:t>
            </a:r>
            <a:r>
              <a:rPr b="0" i="1" lang="lv-LV" sz="2800" spc="-1" strike="noStrike" baseline="-30000">
                <a:solidFill>
                  <a:srgbClr val="000000"/>
                </a:solidFill>
                <a:latin typeface="Dutch T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R36,37,38 u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443640" y="3068640"/>
          <a:ext cx="243828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3068640"/>
                    <a:ext cx="243828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30D-B55C-47DB-84DB-4911AA2D6A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Darba aizsardzības likumdošanas sistē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1728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AEIMA                                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L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MINISTRU                        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MK no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KABI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LABKLĀJĪBAS                  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LM  rīko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MINISTRIJA                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(var piemērot - nav saistoši)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LVS standa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tehniskā komiteja                       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tanda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63086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249228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378936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5084640"/>
            <a:ext cx="32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6308640"/>
            <a:ext cx="273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79640" y="1341360"/>
            <a:ext cx="236196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1341360"/>
            <a:ext cx="259092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4A5-687F-4102-ACF4-07E8C19742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Sensibilizējošas Ķ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33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n” R42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elpojot izrai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aaugstinātu jutī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i”R4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Saskaroties ar ā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ar izraisī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aaugstinātu jutīb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659640" y="1628640"/>
          <a:ext cx="137160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628640"/>
                    <a:ext cx="137160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629400" y="3505320"/>
          <a:ext cx="1417680" cy="14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3505320"/>
                    <a:ext cx="141768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83D-0B4A-4D7A-9725-60547812D9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Kancergēnas Ķ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256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T” R45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Kancerogēna vi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49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elpojot var izraisī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ļaundabīgo audzē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n” R4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Kancerogenitāte 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daļēji pierādī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010280" y="1752480"/>
          <a:ext cx="1447920" cy="14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752480"/>
                    <a:ext cx="14479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010280" y="3886200"/>
          <a:ext cx="144792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886200"/>
                    <a:ext cx="144792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E8A-7490-4770-AAB7-4FFF3A318D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Mutagēnas Ķ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256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T” R46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Var radī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ārmantojam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ģenētiskus defek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n” R68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spējams nopiet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kaitējums veselībai pē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ilgstošas sask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010280" y="1752480"/>
          <a:ext cx="1447920" cy="14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752480"/>
                    <a:ext cx="14479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7010280" y="3886200"/>
          <a:ext cx="144792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886200"/>
                    <a:ext cx="144792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753-3D6C-4399-8FE8-AAE64C931A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Reproduktīvai sistēma toksiskas Ķ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256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T”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6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Var kaitē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reproduktīvām spēj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61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Var kaitēt augļ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attīstīb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n” R62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spējams kaitēju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risks reproduktīvām spēj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6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spējams kaitēju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risks augļa attīstība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010280" y="1752480"/>
          <a:ext cx="1447920" cy="14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752480"/>
                    <a:ext cx="14479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010280" y="3886200"/>
          <a:ext cx="144792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886200"/>
                    <a:ext cx="144792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87E-2A7E-4964-A2C0-0168A770CA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C” – Kodīgas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ielas un produkti, kas, saskaroties 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dzīviem audiem, </a:t>
            </a: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var to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iznīcinā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Bromūdeņražskābe, HNO</a:t>
            </a:r>
            <a:r>
              <a:rPr b="0" i="1" lang="lv-LV" sz="2400" spc="-1" strike="noStrike" baseline="-30000">
                <a:solidFill>
                  <a:srgbClr val="000000"/>
                </a:solidFill>
                <a:latin typeface="Dutch T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Hlorūdeņra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R 34,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95880" y="2670120"/>
          <a:ext cx="266724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670120"/>
                    <a:ext cx="26672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B70-14B6-48A5-91F0-E159D5B40F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E” – Sprādzienbīstamas ĶV un Ķ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Ķīmiskās vielas vai  produkti, kas var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eksotermiski reaģēt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bez atmosfēras skābekļa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lielā ātrumā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                      izdalot gāzes un kas                       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noteiktos apstākļos                            detonē, sadalā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Na azī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R 2,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940360" y="3213000"/>
          <a:ext cx="2514600" cy="25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213000"/>
                    <a:ext cx="25146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8D0-1A99-4727-AA6F-1FF88AF6AA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O” - ĶV un ĶP – spēcīgi oksidētā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832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Vielas vai produkti, kas, nonākot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saskarē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citām, jo sevišķi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uzliesmojošām vielām,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izraisa spēcīgu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eksotermisku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reak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lv-LV" sz="2400" spc="-1" strike="noStrike" baseline="-30000">
                <a:solidFill>
                  <a:srgbClr val="000000"/>
                </a:solidFill>
                <a:latin typeface="Dutch TL"/>
              </a:rPr>
              <a:t>3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i="1" lang="lv-LV" sz="2400" spc="-1" strike="noStrike" baseline="-30000">
                <a:solidFill>
                  <a:srgbClr val="000000"/>
                </a:solidFill>
                <a:latin typeface="Dutch TL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lv-LV" sz="2400" spc="-1" strike="noStrike" baseline="-30000">
                <a:solidFill>
                  <a:srgbClr val="000000"/>
                </a:solidFill>
                <a:latin typeface="Dutch TL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K permanganāts, K  nitrā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R 7,8,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156000" y="1946160"/>
            <a:ext cx="278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289560" y="2666880"/>
          <a:ext cx="266076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9560" y="2666880"/>
                    <a:ext cx="26607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BDB-0900-4A10-9A09-F189916B17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893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F+”- Īpaši viegli uzliesmojošas</a:t>
            </a:r>
            <a:br>
              <a:rPr sz="4400"/>
            </a:b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“F”- Viegli uzliesmojošas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 +” Šķidras vielas un produkti ar uzliesmojuma temp &lt;0 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C  un viršanas temp. &lt; 35 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Dietilēte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”  Var uzliesmot pēc saskares                           ar liesmu un var turpina degt pēc         aizdegšanās avota aizvākš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- Šķidras vielas un produkti ar          uzliesmojuma temp. &lt; 21 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Acetons, IPS, EA, Me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227640" y="2852640"/>
          <a:ext cx="26672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852640"/>
                    <a:ext cx="26672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CC8-63D1-4E08-8278-F5685DA833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N” -Videi bīstamas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51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Vielas un produkti, kas, nonākot vidēs, radītu momentānus vai novēlotus 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draudus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vienai vai vairākām 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vides sastāvdaļā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lv-LV" sz="2800" spc="-1" strike="noStrike" baseline="-30000">
                <a:solidFill>
                  <a:srgbClr val="000000"/>
                </a:solidFill>
                <a:latin typeface="Dutch TL"/>
              </a:rPr>
              <a:t>4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i="1" lang="lv-LV" sz="2800" spc="-1" strike="noStrike" baseline="-30000">
                <a:solidFill>
                  <a:srgbClr val="000000"/>
                </a:solidFill>
                <a:latin typeface="Dutch TL"/>
              </a:rPr>
              <a:t>3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Br, Hept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R 50,51,52 u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940360" y="3573360"/>
          <a:ext cx="26114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573360"/>
                    <a:ext cx="26114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956-3F8B-48D5-AEDC-9751F4D3DB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Met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ilēnhlorī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1043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40 Kancerogenitāte ir daļēji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rādī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23 Izvairīties no tvaik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ai aerosolu ieelpoš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24/25 nepieļaut nokļūšan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uz ādas un acī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6/37 Izmantot piemērotu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zsargapģērbu un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zsargcim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095880" y="2673360"/>
          <a:ext cx="274320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673360"/>
                    <a:ext cx="274320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94D-9FC9-4796-8BF8-6FC0E19C36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Negadījumi darb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esakopta teritorij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eievēro noteikto darba kārtī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lietots iekārtas palīgmezg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Interese par kolēģ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Palīdz kolēģim un nelieto I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arbu beidzot, nepareizi noņem 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elieto 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Tehnoloģiskā procesa nepilnīb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934-8844-4B8D-A857-97AB391DF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278100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aldies par uzmanīb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992-AF5E-4BA7-AD02-0D16807170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2960" y="2599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Kā izslēgt kaitīgo faktoru iedarbīb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ekaitīga darbiniekiem un videi tehnoloģijas izvē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rošu tehnoloģisko iekārtu izvēle un to regulāra tehniskā apk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rošu ēku, telpu ar atbilstošu komunikāciju aprīkoša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Kolektīvo  un IAL lieto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arbinieku regulāras apmācību sistēmas realiz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B49-A524-49C4-AAA6-65E0E0EC60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Kolektīvie aizsardzības līdzekļ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3329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ēdināšanas sistē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Kabīnes, boksi (organiskā stikla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lēgtas iekārtas (žāvētavas, centrifūgas u.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Aizsargvairogi (organiskā stikla vai cita izturīga materiāl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Drošības zī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Iekārtu zemēj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Uguns dzēšanas līdzekļ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Avāriju likvidācijas līdzekļi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636-1D7D-4E57-83E7-1BD99A3B96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Dutch TL"/>
              </a:rPr>
              <a:t>Respiratori ar gāzes/tvaiku filtri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83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    Brūna      Organiskās gāzes un tvaiki,  ar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viršanas temp. &gt; 65 </a:t>
            </a:r>
            <a:r>
              <a:rPr b="0" lang="lv-LV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C      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Šķīdinātāji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B    Pelēka      Neorganiskas gāzes un tvaiki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;H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E    Dzeltena   Skābas gāzes                       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;HCl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K    Zaļa         Amonjaks vai organiski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monjaka  atvasinājum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X  Brūna      Organiskas gāzes un tvaiki ar virš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temp. &lt; 65 </a:t>
            </a:r>
            <a:r>
              <a:rPr b="0" lang="lv-LV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; Dietilēter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1B1E1K1 -  A2B2E2K2 -  A2B2E2K2 P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iratorus lieto, ja viela ar smaku vai odorē/CH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Izolējošā gāzmaska – ja vielai nepiemīt sm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ilnais aizsargtērps – ja viela uzsūcas caur ā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EDD-767E-4AEE-BB36-37F226B51B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Dutch TL"/>
              </a:rPr>
              <a:t>Pretputekļu aizsargmask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P1 S     Netoksiski putekļi    (aiztur ~78 %, koef. -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2 (S/L) Toksisku vielu smalki putekļi, dūmi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migla (aerosoli)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(aiztur ~92 %, koef. - 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3  (S/L) Toksisku vielu smalki putekļi, dūmi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migla  (aerosoli)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(aiztur ~98 %, koef. - 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 –cietas daļiņas;     L- šķidras daļiņ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aunie standarti nepieprasa “S” “L” marķēju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89C-EFD7-4905-BA17-E3E7B04330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IAL pārbaude pirms d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2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iegli pieejami, pilnā komplektā, darba kārtībā un atbilstoši reglamentējošās  dokumentācijas prasīb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Jāpārbauda vai tie ir attiecīgā darbinieka IAL,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nepieciešamā lielum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ērti lietošanai, tīri un  nav bojā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ai darba tērps pietiekoši noslēgts un pilnīgi sakārtots atbilstošā darba veikšana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918-94E0-4064-BA97-D2A2AF1785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IAL lietošana darba laik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946160"/>
            <a:ext cx="833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Jāseko, lai IAL tiktu lietoti pareizi, netiktu pasliktinātas to paredzētās funkcionālās īpašības un būtu tī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Ja IAL darba laikā kļuvuši nederīgi lietošanai, nav darba kārtībā  un nav tīri -  tie jānotīra vai jānodod tīrīšanai, jāizlabo vai jāapma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Kā notiek IAL nomaiņ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6E9-09FF-4E12-8737-679DE91DC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5:08:28Z</dcterms:created>
  <dc:creator>A. Bauze</dc:creator>
  <dc:description/>
  <dc:language>en-US</dc:language>
  <cp:lastModifiedBy>Andrejs Blauss</cp:lastModifiedBy>
  <cp:lastPrinted>2003-03-01T10:46:30Z</cp:lastPrinted>
  <dcterms:modified xsi:type="dcterms:W3CDTF">2006-09-18T14:20:23Z</dcterms:modified>
  <cp:revision>370</cp:revision>
  <dc:subject/>
  <dc:title>DARBA AIZSARDZĪBAS LIKUMS</dc:title>
</cp:coreProperties>
</file>