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190-3371-4A01-92B3-1B840E16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A2A-E17C-4BF4-AEFC-DB103B98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011-D730-44AB-83DB-D772A386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866-09C4-4A07-84BD-AD1A83B9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CDA7-6474-48C1-9DC1-F0D56BAF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8FCD-49A0-480C-A615-D8186E8B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55B0-703E-4719-A8B1-30C37FE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D25-3270-49EF-872E-5BE62C1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E105-DA16-4B51-983D-9E5F8D71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9A41-0895-4AAE-A313-1627D16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7E60-6094-4D49-B021-9CFFA6A0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8F7-D2CE-4D97-90DA-301FDF3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F55F-9478-4FAA-B93A-040D89A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B43-191B-4A3B-AF45-35A3A7B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5949-0B1E-4776-99A4-28970A1C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69ED-CF08-435C-A1D9-8394ECC0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F948-800A-47A5-9E53-70EFE29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BA8-FEF5-4CC4-979D-FA084B0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5F6-10BB-42D9-B295-1A78035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3F4-FBA5-4CFD-B581-B89D75B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9A9-A049-4C69-B788-7765F5C6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3BE-3655-4E76-82F4-54FACC8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027-D917-4AB0-A314-0D21BAC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3A0-F98A-4816-BAD7-7FF6C17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DEC-7524-40DC-BAF5-2C78BD8E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9EF4-A647-47E3-BD93-E9CDF0208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0400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DARBA AIZSARDZĪB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72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Times New Roman"/>
              </a:rPr>
              <a:t>NODARBINĀTO   DROŠĪ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Times New Roman"/>
              </a:rPr>
              <a:t>VESELĪBA   DARB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262-468D-44E8-AAB4-819D4C82BB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AL kopšana / pārbaude, darbu beidzot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40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Notīrīt, sakopt IAL u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ārbaudīt vai IAL ir drošā darba kārtībā un var pildīt paredzētās funkci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Novietot IAL paredzētās vietās, aizsargmaisiņ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(Neatstāt uz darbojošām iekārtām, sten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uz stendu skrūvēm un neievietotus “maisiņo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a IAL nenodrošina paredzētās funkcijas, jāziņo tiešajam vadītājam un darbu drīkst turpināt, ja IAL savests kārtībā, vai saņemts 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5A5-C40D-46C3-B893-A51ECF2141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a apģērbu pārbaude un kop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46160"/>
            <a:ext cx="8180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ai darba apģērbs pilnā komplektā, atbilstošā darba kārtībā un var pildīt paredzētās funk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ārbaudīt vai nav mehāniski vai ķīmiski bojā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asmērētus apģērbus nomainī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rba apģērbs jānomaina nekavējoties, ja tas  sasmērēts tā, ka tas var būt bīstams darbinieka veselīb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peciālo darba tērpu (kostīmu, kombinzonu, skafandru) pārbaudes un kopšanas kārtība noteikta izgatavotāja instrukcijā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F70-B45A-4F34-90CF-C3F5516AD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Elpošanas ceļu aizsardzības līdzekļu IAL pārbaude/kopš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2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i pilnā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komplektā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un lietošana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kārtīb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ar atbilstošu filtru un filtrs nav bojā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skatu stikli tīri un nav bojā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pieguļ sejai un  nodrošina hermētisku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arbu beidzot notīrīt, nosusināt, dezinficē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ārbaude un kopšana  jāveic atbilstoši izgatavotāja instrukci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6E7-3F54-4981-9F5C-AE0A12934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s ar bīstamām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2566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Bīstamās vielas tieši iedarbojoties uz organismu var izraisīt nelaimes gadījumus, arodslimības, paliekošus veselības traucēju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Informācija uz iepakojuma, DDL, katalo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Bīstamības si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” Riska frāzes – standartformulējums    raksturo bīstamību, kas izpaužas vielu lietojo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” Drošības frāzes satur nepieciešamo informāciju vielas drošai lietošan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647-D0FE-4AB3-9012-29EB96FB6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s ar bīstamām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18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DDL satur informāciju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rasības par IAL lietoša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Toksikoloģisko informā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ielas gaistamība. Cik viela ātri iztvaikojot var veidot bīstamu maisījumu ar gai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Tvaiku blīvums pret gaisu. Kur var sakrāties vielas bīstamas koncentrā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Šķīdība ūden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Izlijušu/izbirušu vielu savākšanas paņēmieni un darba vietas sakop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u.c.  (izteikts 16 punk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A64-EBF5-41C5-AB7A-32809CC2E1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3336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ĶV un ĶP toksicitāte / indīg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8402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Toksicitāte/indīgums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- ĶV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spēja izraisīt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nelabvēlīgu efektu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tai nonākot organism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Bīstamība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- iespēja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nonākt organism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Toksicitāte atkarīga no ekspozīcijas veida un intensitātes, ilguma, ĶV daļiņu izmēra, gaistamības, organisma fizioloģiskā stāvokļa, apkārtējās vides u.c. faktoriem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AAD-81A7-4901-8254-499EDD8C93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Aroda ekspozīcijas robežvērtī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408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ER ir tāda ķīmiskās vielas koncentrācija darba vides gaisā, kas pie 8 stundu darba dienas un 40 stundām nedēļā darbinieka organismā visā dzīves laikā neizraisa saslimšanu un novirzes veselībā, kuras konstatējamas ar mūsdienu izmeklēšanas metodē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lv-LV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,  20 </a:t>
            </a:r>
            <a:r>
              <a:rPr b="0" lang="lv-LV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C, 101, 3 kP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2D9-BFC6-4A15-B476-2E79A69BD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Ķīmisko vielu iedalīj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edarbība uz cilvēka veselī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+                      Xn                    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                         Xi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izikāli ķīmiskās īpašī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E                         F+                 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etekme uz vidi                          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19320" y="1828800"/>
          <a:ext cx="106668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106668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962520" y="1828800"/>
          <a:ext cx="106668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828800"/>
                    <a:ext cx="106668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477120" y="1828800"/>
          <a:ext cx="1143000" cy="11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1828800"/>
                    <a:ext cx="11430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219320" y="3581280"/>
          <a:ext cx="1145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581280"/>
                    <a:ext cx="1145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86200" y="3657600"/>
          <a:ext cx="114300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6576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53080" y="3581280"/>
          <a:ext cx="114012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3080" y="3581280"/>
                    <a:ext cx="1140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257800" y="5181480"/>
          <a:ext cx="1260360" cy="128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5181480"/>
                    <a:ext cx="12603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348-3AAC-4724-83AC-A883F6ABB7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T+”- Ļoti toksiskas ĶV un ĶP 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   “T”   - Toksisk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24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+”- Vielas un produkti, kas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ļoti mazos daudzumo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elpoti, apēsti vai absorbējoties caur ādu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var izraisīt akūtu vai                hronisku kaitējumu veselī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imetilsulfāts, Na hidrī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R26, 27, 28,u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” - “m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azos daudzumo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”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Metanols, CH</a:t>
            </a:r>
            <a:r>
              <a:rPr b="0" i="1" lang="lv-LV" sz="32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Br, Benzilhlorīds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R23,24,25 u.c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227640" y="3213000"/>
          <a:ext cx="259092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3213000"/>
                    <a:ext cx="259092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13B-2B1F-46CE-AB6E-B3044CD55D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Xn” –  Kaitīgas ĶV un ĶP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    “Xi”  –  Kairinošas ĶV un K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Xn”- Vielas un produkti, kas  ieelpoti, apēsti vai absorbēti caur ādu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var izraisīt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akūtu vai hronisku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kaitējumu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veselīb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Acetonitrils, Dioksā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20,21,22 u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Xi” - Nav kodīgas, bet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var radī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ekaisum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pēc īslaicīga, ilgstoš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tkārtota kontakta ar ādu vai gļotā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Acetons, CaCl</a:t>
            </a:r>
            <a:r>
              <a:rPr b="0" i="1" lang="lv-LV" sz="2800" spc="-1" strike="noStrike" baseline="-30000">
                <a:solidFill>
                  <a:srgbClr val="000000"/>
                </a:solidFill>
                <a:latin typeface="Dutch T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36,37,38 u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43640" y="3068640"/>
          <a:ext cx="243828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3068640"/>
                    <a:ext cx="24382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7C8-82B2-463D-89A2-4B892DEDC2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Darba aizsardzības likumdošanas sistē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1728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AEIMA              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L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NISTRU      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MK noteik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KABI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LABKLĀJĪBAS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LM  rīko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NISTRIJA                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(var piemērot - nav saistoši)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LVS standa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tehniskā komiteja                       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Standa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63086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49228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378936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5084640"/>
            <a:ext cx="32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6308640"/>
            <a:ext cx="273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79640" y="1341360"/>
            <a:ext cx="236196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1341360"/>
            <a:ext cx="259092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306-9969-43BE-B478-28997957D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Sensibilizējošas Ķ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33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42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elpojot izrai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aaugstinātu jutī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i”R4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Saskaroties ar ā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r izraisī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aaugstinātu jutīb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659640" y="1628640"/>
          <a:ext cx="137160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628640"/>
                    <a:ext cx="137160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629400" y="3505320"/>
          <a:ext cx="1417680" cy="14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505320"/>
                    <a:ext cx="141768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3E2-D186-44B6-A5FD-51817A3564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Kancergēnas Ķ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5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T” R45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Kancerogēna vi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49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elpojot var izraisī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ļaundabīgo audzē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4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Kancerogenitāte 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aļēji pierādī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010280" y="1752480"/>
          <a:ext cx="144792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14479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010280" y="3886200"/>
          <a:ext cx="144792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1447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584-086B-488A-90CD-B1015377D5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Mutagēnas Ķ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25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T” R46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Var radī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ārmantojam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ģenētiskus defek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68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spējams nopiet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kaitējums veselībai pē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lgstošas sask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010280" y="1752480"/>
          <a:ext cx="144792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14479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7010280" y="3886200"/>
          <a:ext cx="144792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1447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D3E-2325-4E85-A6EE-C4A7E21856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Reproduktīvai sistēma toksiskas Ķ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25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T”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6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Var kaitē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eproduktīvām spēj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61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Var kaitēt augļ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ttīstīb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Xn” R62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spējams kaitēju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isks reproduktīvām spēj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R63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Iespējams kaitēju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risks augļa attīstība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010280" y="1752480"/>
          <a:ext cx="1447920" cy="14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752480"/>
                    <a:ext cx="14479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010280" y="3886200"/>
          <a:ext cx="1447920" cy="14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1447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E08-5A43-4D09-93D6-955D477D24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C” – Kodīg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ielas un produkti, kas, saskaroties 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zīviem audiem,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var to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iznīcinā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Bromūdeņražskābe, HNO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Hlorūdeņra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 34,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95880" y="2670120"/>
          <a:ext cx="266724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670120"/>
                    <a:ext cx="2667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837-071F-4978-8D8E-C71286AFCA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E” – Sprādzienbīstamas ĶV un Ķ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Ķīmiskās vielas vai  produkti, kas var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eksotermiski reaģēt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bez atmosfēras skābekļa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lielā ātrumā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                     izdalot gāzes un kas                       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noteiktos apstākļos                            detonē, sadalā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Na azī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R 2,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940360" y="3213000"/>
          <a:ext cx="2514600" cy="25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213000"/>
                    <a:ext cx="25146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0DA-A6CB-4B80-A7D3-D7C74A38ED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O” - ĶV un ĶP – spēcīgi oksidētā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832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ielas vai produkti, kas, nonākot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saskarē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citām, jo sevišķi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uzliesmojošām vielām,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izraisa spēcīgu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eksotermisku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reak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lv-LV" sz="2400" spc="-1" strike="noStrike" baseline="-30000">
                <a:solidFill>
                  <a:srgbClr val="000000"/>
                </a:solidFill>
                <a:latin typeface="Dutch TL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K permanganāts, K  nitrā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R 7,8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156000" y="1946160"/>
            <a:ext cx="278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289560" y="2666880"/>
          <a:ext cx="26607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9560" y="2666880"/>
                    <a:ext cx="26607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A30-5CF7-4294-9EB1-9EB2B0FD78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893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F+”- Īpaši viegli uzliesmojošas</a:t>
            </a:r>
            <a:br>
              <a:rPr sz="4400"/>
            </a:b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F”- Viegli uzliesmojoš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 +” Šķidras vielas un produkti ar uzliesmojuma temp &lt;0 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  un viršanas temp. &lt; 35 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Dietilēte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F”  Var uzliesmot pēc saskares                           ar liesmu un var turpina degt pēc         aizdegšanās avota aizvākš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- Šķidras vielas un produkti ar          uzliesmojuma temp. &lt; 21 </a:t>
            </a:r>
            <a:r>
              <a:rPr b="0" lang="lv-LV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lv-LV" sz="3200" spc="-1" strike="noStrike">
                <a:solidFill>
                  <a:srgbClr val="000000"/>
                </a:solidFill>
                <a:latin typeface="Times New Roman"/>
              </a:rPr>
              <a:t>Acetons, IPS, EA, Me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227640" y="2852640"/>
          <a:ext cx="26672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852640"/>
                    <a:ext cx="26672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048-6C0D-4027-99E2-89281963FF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N” -Videi bīstamas ĶV un Ķ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51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Vielas un produkti, kas, nonākot vidēs, radītu momentānus vai novēlotus 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draudus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vienai vai vairākām 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vides sastāvdaļā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lv-LV" sz="2800" spc="-1" strike="noStrike" baseline="-30000">
                <a:solidFill>
                  <a:srgbClr val="000000"/>
                </a:solidFill>
                <a:latin typeface="Dutch TL"/>
              </a:rPr>
              <a:t>4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i="1" lang="lv-LV" sz="2800" spc="-1" strike="noStrike" baseline="-30000">
                <a:solidFill>
                  <a:srgbClr val="000000"/>
                </a:solidFill>
                <a:latin typeface="Dutch TL"/>
              </a:rPr>
              <a:t>3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Br, Hept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R 50,51,52 u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940360" y="3573360"/>
          <a:ext cx="26114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573360"/>
                    <a:ext cx="26114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35D-08C8-4E8F-B432-EFB43DEF9A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Met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lēnhlorī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1043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40 Kancerogenitāte ir daļēji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ādī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23 Izvairīties no tvaik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i aerosolu ieelpoš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24/25 nepieļaut nokļūšan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z ādas un acī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6/37 Izmantot piemērotu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zsargapģērbu un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zsargcim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095880" y="2673360"/>
          <a:ext cx="274320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673360"/>
                    <a:ext cx="274320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75C-A247-4EE1-A67B-8BCECAD073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Negadījumi darb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sakopta teritorij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ievēro noteikto darba kārtī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lietots iekārtas palīgmezg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Interese par kolēģ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Palīdz kolēģim un nelieto I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arbu beidzot, nepareizi noņem 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lieto 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Tehnoloģiskā procesa nepilnī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248-15B1-45F2-BD23-957768858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278100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aldies par uzmanīb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D02-1B40-44EA-ADAB-55C63EEECB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960" y="2599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Times New Roman"/>
              </a:rPr>
              <a:t>Kā izslēgt kaitīgo faktoru iedarbīb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ekaitīga darbiniekiem un videi tehnoloģijas izvē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rošu tehnoloģisko iekārtu izvēle un to regulāra tehniskā apk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rošu ēku, telpu ar atbilstošu komunikāciju aprīkoša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Kolektīvo  un IAL lieto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arbinieku regulāras apmācību sistēmas realizēš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904-C54E-44FE-B460-50C1CC849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Kolektīvie aizsardzības līdzekļ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3329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ēdināšanas sistē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Kabīnes, boksi (organiskā stikla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Slēgtas iekārtas (žāvētavas, centrifūgas u.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izsargvairogi (organiskā stikla vai cita izturīga materiāl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Drošības zī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Iekārtu zemēj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guns dzēšanas līdzekļ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Avāriju likvidācijas līdzekļi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5DB-BDA7-4C6F-9260-52C9072C26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Dutch TL"/>
              </a:rPr>
              <a:t>Respiratori ar gāzes/tvaiku filtri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283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    Brūna      Organiskās gāzes un tvaiki,  ar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viršanas temp. &gt; 65 </a:t>
            </a:r>
            <a:r>
              <a:rPr b="0" lang="lv-LV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C     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Šķīdinātāji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B    Pelēka      Neorganiskas gāzes un tvaiki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;H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E    Dzeltena   Skābas gāzes                        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;HCl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K    Zaļa         Amonjaks vai organiski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monjaka  atvasinājum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X  Brūna      Organiskas gāzes un tvaiki ar virš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temp. &lt; 65 </a:t>
            </a:r>
            <a:r>
              <a:rPr b="0" lang="lv-LV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i="1" lang="lv-LV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; Dietilēter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1B1E1K1 -  A2B2E2K2 -  A2B2E2K2 P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iratorus lieto, ja viela ar smaku vai odorē/CH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Izolējošā gāzmaska – ja vielai nepiemīt sm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ilnais aizsargtērps – ja viela uzsūcas caur ā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8FE-DE13-4E10-A606-B42A6473CD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Dutch TL"/>
              </a:rPr>
              <a:t>Pretputekļu aizsargmask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P1 S     Netoksiski putekļi    (aiztur ~78 %, koef. -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2 (S/L) Toksisku vielu smalki putekļi, dūmi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gla (aerosoli)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(aiztur ~92 %, koef. - 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3  (S/L) Toksisku vielu smalki putekļi, dūmi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migla  (aerosoli) 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(aiztur ~98 %, koef. - 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S –cietas daļiņas;     L- šķidras daļiņ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aunie standarti nepieprasa “S” “L” marķēju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850-3C4C-4110-95E7-0ED2ECEA4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AL pārbaude pirms d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25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iegli pieejami, pilnā komplektā, darba kārtībā un atbilstoši reglamentējošās  dokumentācijas prasībā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āpārbauda vai tie ir attiecīgā darbinieka IAL,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nepieciešamā lielum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ērti lietošanai, tīri un  nav bojā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Vai darba tērps pietiekoši noslēgts un pilnīgi sakārtots atbilstošā darba veikšana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6AC-9DF7-4B00-84ED-AB50215AA8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IAL lietošana darba laik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946160"/>
            <a:ext cx="833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āseko, lai IAL tiktu lietoti pareizi, netiktu pasliktinātas to paredzētās funkcionālās īpašības un būtu tī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Ja IAL darba laikā kļuvuši nederīgi lietošanai, nav darba kārtībā  un nav tīri -  tie jānotīra vai jānodod tīrīšanai, jāizlabo vai jāapma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Times New Roman"/>
              </a:rPr>
              <a:t>Kā notiek IAL nomaiņ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F41-86BB-4465-B495-86199090C6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05:08:28Z</dcterms:created>
  <dc:creator>A. Bauze</dc:creator>
  <dc:description/>
  <dc:language>en-US</dc:language>
  <cp:lastModifiedBy>Andrejs Blauss</cp:lastModifiedBy>
  <cp:lastPrinted>2003-03-01T10:46:30Z</cp:lastPrinted>
  <dcterms:modified xsi:type="dcterms:W3CDTF">2006-09-18T14:20:23Z</dcterms:modified>
  <cp:revision>370</cp:revision>
  <dc:subject/>
  <dc:title>DARBA AIZSARDZĪBAS LIKUMS</dc:title>
</cp:coreProperties>
</file>