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4B9-2C5E-4F94-8646-318BA4EC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F36-EAD0-438B-A70C-B307CA00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FB1-EED4-453D-A433-3DFA1D29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E71-DCCC-42E8-8BCF-E00A16BB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C00-E4E7-4685-86EF-22FA1766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4B8-8147-469D-AE42-62E2BDE0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14F-16C0-48A4-98CA-06D474C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3CB-7AD1-4931-8A05-5000740E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FFDF-740F-430F-BC1A-50CD699D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53B-E953-4179-B63E-A194E899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AC2-CCF3-4D9D-9130-3E0A04CD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136-8756-4869-B12B-DB372B7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41F3-FE0F-445D-8CD9-4B660311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PĒTĪJUMA NOSLĒGUMA ZIŅOJUM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LATVIJAS UZŅĒMUMU GATAVĪBA IEVIEST JAUNĀS DARBA AIZSARDZIBAS LIKUMDOŠANAS PRASĪ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6600"/>
                </a:solidFill>
                <a:latin typeface="Arial Black"/>
              </a:rPr>
              <a:t>2002.gada 25.novembris – 2002.gada 16.decem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53352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0666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0666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C. “Jaunā pieeja” darba aizsardzīb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533520"/>
          <a:ext cx="5867640" cy="374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8676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477120" y="609480"/>
          <a:ext cx="2457360" cy="5210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77120" y="609480"/>
                    <a:ext cx="24573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60948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1066680"/>
          <a:ext cx="5791320" cy="32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57913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04920" y="990720"/>
          <a:ext cx="5943600" cy="33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59436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24480" y="609480"/>
          <a:ext cx="2162160" cy="5391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609480"/>
                    <a:ext cx="216216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762120" y="609480"/>
          <a:ext cx="7924680" cy="440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79246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533520"/>
          <a:ext cx="830556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30556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71600" y="762120"/>
          <a:ext cx="6600960" cy="314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60096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457200" y="3886200"/>
            <a:ext cx="8229240" cy="2819520"/>
            <a:chOff x="457200" y="3886200"/>
            <a:chExt cx="8229240" cy="2819520"/>
          </a:xfrm>
        </p:grpSpPr>
        <p:grpSp>
          <p:nvGrpSpPr>
            <p:cNvPr id="47" name=""/>
            <p:cNvGrpSpPr/>
            <p:nvPr/>
          </p:nvGrpSpPr>
          <p:grpSpPr>
            <a:xfrm>
              <a:off x="463680" y="3888000"/>
              <a:ext cx="8215200" cy="2815200"/>
              <a:chOff x="463680" y="3888000"/>
              <a:chExt cx="8215200" cy="2815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63680" y="3888000"/>
                <a:ext cx="4107240" cy="274320"/>
                <a:chOff x="463680" y="3888000"/>
                <a:chExt cx="4107240" cy="2743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5619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Lauksaimniecība, medniecība un mežsaim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63680" y="388800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571280" y="3888000"/>
                <a:ext cx="4107600" cy="274320"/>
                <a:chOff x="4571280" y="3888000"/>
                <a:chExt cx="4107600" cy="274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669560" y="388800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. Apstrādājošā rūpniecīb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1280" y="388800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63680" y="4162320"/>
                <a:ext cx="4107240" cy="274680"/>
                <a:chOff x="463680" y="4162320"/>
                <a:chExt cx="4107240" cy="274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5619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Ieguves rūpniecība un karjeru izstr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3680" y="41623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4571280" y="4162320"/>
                <a:ext cx="4107600" cy="274680"/>
                <a:chOff x="4571280" y="4162320"/>
                <a:chExt cx="4107600" cy="274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669560" y="41623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Būv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1280" y="41623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3680" y="4437360"/>
                <a:ext cx="4107240" cy="274320"/>
                <a:chOff x="463680" y="4437360"/>
                <a:chExt cx="4107240" cy="274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619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Elektroenerģija, gāzes un ūdens apgā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3680" y="443736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571280" y="4437360"/>
                <a:ext cx="4107600" cy="274320"/>
                <a:chOff x="4571280" y="4437360"/>
                <a:chExt cx="4107600" cy="27432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669560" y="443736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Viesnīcas un restorān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571280" y="443736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63680" y="4711680"/>
                <a:ext cx="4107240" cy="411840"/>
                <a:chOff x="463680" y="4711680"/>
                <a:chExt cx="4107240" cy="411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619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Vairum-mazum tirdzniecība; automobīļu, motociklu, individuālas lietošanas priekšmetu, sadzīves aparatūras un iekārtu remo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3680" y="4711680"/>
                  <a:ext cx="410724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571280" y="4711680"/>
                <a:ext cx="4107600" cy="411840"/>
                <a:chOff x="4571280" y="4711680"/>
                <a:chExt cx="4107600" cy="4118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669560" y="4711680"/>
                  <a:ext cx="3910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. Finansu starp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571280" y="4711680"/>
                  <a:ext cx="4107600" cy="41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3680" y="5123880"/>
                <a:ext cx="4107240" cy="343080"/>
                <a:chOff x="463680" y="5123880"/>
                <a:chExt cx="4107240" cy="3430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619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Transports, glabāšana un saka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680" y="51238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571280" y="5123880"/>
                <a:ext cx="4107600" cy="343080"/>
                <a:chOff x="4571280" y="5123880"/>
                <a:chExt cx="4107600" cy="3430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669560" y="51238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. Valsts pārvalde un aizsardzība; obligātā sociālā apdrošināšan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71280" y="51238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63680" y="5467320"/>
                <a:ext cx="4107240" cy="274320"/>
                <a:chOff x="463680" y="5467320"/>
                <a:chExt cx="4107240" cy="274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619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 Zinātniskās pētniecības darb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63680" y="5467320"/>
                  <a:ext cx="410724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571280" y="5467320"/>
                <a:ext cx="4107600" cy="274320"/>
                <a:chOff x="4571280" y="5467320"/>
                <a:chExt cx="4107600" cy="274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669560" y="5467320"/>
                  <a:ext cx="391068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. Veselība un sociālā aprū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571280" y="5467320"/>
                  <a:ext cx="4107600" cy="27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3680" y="5742000"/>
                <a:ext cx="4107240" cy="343080"/>
                <a:chOff x="463680" y="5742000"/>
                <a:chExt cx="4107240" cy="3430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619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Izglīt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3680" y="574200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571280" y="5742000"/>
                <a:ext cx="4107600" cy="343080"/>
                <a:chOff x="4571280" y="5742000"/>
                <a:chExt cx="4107600" cy="3430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69560" y="574200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. Individuālās mājsaimniecības ar algotu darba spēk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1280" y="574200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63680" y="6085080"/>
                <a:ext cx="4107240" cy="343080"/>
                <a:chOff x="463680" y="6085080"/>
                <a:chExt cx="4107240" cy="3430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19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Pārējie komunālie, sociālie un individuālie pakalpojum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3680" y="6085080"/>
                  <a:ext cx="410724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4571280" y="6085080"/>
                <a:ext cx="4107600" cy="343080"/>
                <a:chOff x="4571280" y="6085080"/>
                <a:chExt cx="4107600" cy="3430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669560" y="6085080"/>
                  <a:ext cx="39106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 Ekstrateritoriālās organizācijas un institūcij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1280" y="6085080"/>
                  <a:ext cx="4107600" cy="34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680" y="6428520"/>
                <a:ext cx="4107240" cy="274680"/>
                <a:chOff x="463680" y="6428520"/>
                <a:chExt cx="4107240" cy="274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619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. Zvejniecī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680" y="6428520"/>
                  <a:ext cx="41072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571280" y="6428520"/>
                <a:ext cx="4107600" cy="274680"/>
                <a:chOff x="4571280" y="6428520"/>
                <a:chExt cx="4107600" cy="274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669560" y="6428520"/>
                  <a:ext cx="3910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v-LV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. cita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71280" y="6428520"/>
                  <a:ext cx="410760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457200" y="3886200"/>
              <a:ext cx="8229240" cy="281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. Vispārējās z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3520" y="53352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371600" y="914400"/>
          <a:ext cx="622944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229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09480" y="533520"/>
          <a:ext cx="8153640" cy="453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33520"/>
                    <a:ext cx="8153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7621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3520" y="457200"/>
          <a:ext cx="8229600" cy="45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229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609480"/>
          <a:ext cx="807696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609480"/>
                    <a:ext cx="807696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533520"/>
          <a:ext cx="5410440" cy="300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5410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867280" y="685800"/>
          <a:ext cx="2895840" cy="5334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85800"/>
                    <a:ext cx="28958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33520"/>
          <a:ext cx="8305920" cy="4618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059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762120"/>
          <a:ext cx="7391520" cy="41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762120"/>
                    <a:ext cx="739152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457200" y="533520"/>
          <a:ext cx="838188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3520"/>
                    <a:ext cx="838188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80880" y="380880"/>
          <a:ext cx="8382240" cy="466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838224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19051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. Darba devēji pamatā ir informēti par VDI un tās darbību regulējošiem normatīvajiem a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12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2. Darba devēji vēlētos saņemt lielāku konsultatīvo atbalstu no VDI darba aizsardzības jautāj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304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84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3. Darba devēji samērā vāji pārzina tādus jautājumus k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riska novērt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vides iekšējās uzraudzības veik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darba aizsardzības sistēmas organiz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 kompetentās institūcijas un kompetentie speciāl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7524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Ļoti mazā daļā uzņēmumu (zem 15%) pilnībā tiek veikta darba vides iekšējā uzraudzība un darba vides riska novērtēšana. Gandrīz puse aptaujāto atzīst, ka viņu uzņēmumā šādi pasākumi vispār netiek veikti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33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44792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5. G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nās problēmas jauno darba aizsardzības likumdošanas prasību ieviešan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hnisko dokumentu (standartu)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skaidras prasības normatīvajos ak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s finansēj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ecīgo speciālistu trū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ietiekamas zināšanas un inform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28800" y="228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ECINĀ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6. U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ņēmumiem nepieciešams daudz vairāk informācijas, skaidrojošo materiālu un vadlīniju par normatīvajiem aktiem un to svarīgākajām prasībām - darba vides riska novērtēšanu, darba aizsardzības sistēmas organizēšanu, darba vides iekšējās uzraudzības veikšana, kompetento institūciju un kompetento speciālistu piesaistīša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533520"/>
          <a:ext cx="8229600" cy="458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520"/>
                    <a:ext cx="82296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1219320"/>
          <a:ext cx="792468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19320"/>
                    <a:ext cx="7924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838080" y="609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B. Ziņas par Valsts darba inspek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609480"/>
          <a:ext cx="8153640" cy="453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15364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68580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8580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609480"/>
          <a:ext cx="8077320" cy="449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609480"/>
                    <a:ext cx="80773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533520"/>
          <a:ext cx="8001000" cy="444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33520"/>
                    <a:ext cx="80010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6170760"/>
            <a:ext cx="182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5:16:50Z</dcterms:created>
  <dc:creator>Andris Pommers</dc:creator>
  <dc:description/>
  <dc:language>en-US</dc:language>
  <cp:lastModifiedBy>Andris Pommers</cp:lastModifiedBy>
  <dcterms:modified xsi:type="dcterms:W3CDTF">2003-01-03T08:02:06Z</dcterms:modified>
  <cp:revision>7</cp:revision>
  <dc:subject/>
  <dc:title>PowerPoint Presentation</dc:title>
</cp:coreProperties>
</file>