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A02-3F9D-4730-BFB7-D63D164A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4A7-321C-42ED-AB1B-F1C1D106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31C-3871-4860-A705-CA80289F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0C1-C8BA-481D-A1D9-D3E50089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CFA-B349-4C47-B742-500E94BA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3F3-CC45-4474-8415-06682693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37B-3997-4A32-A18E-C7BCF103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3C2-36EE-4C19-B406-92C864D2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F3D-A595-49B0-A5E8-686BE298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209-6B15-49C9-9B83-7CF3C1A2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206-FD59-451E-9F70-7201C025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3BF-3BD7-4ACC-B349-AFD969A2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560C-A581-413E-89A2-1949DF43D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6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2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PĒTĪJUMA NOSLĒGUMA ZIŅOJUM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05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LATVIJAS UZŅĒMUMU GATAVĪBA IEVIEST JAUNĀS DARBA AIZSARDZIBAS LIKUMDOŠANAS PRAS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581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6600"/>
                </a:solidFill>
                <a:latin typeface="Arial Black"/>
              </a:rPr>
              <a:t>2002.gada 25.novembris – 2002.gada 16.decem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09480" y="10666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0666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C. “Jaunā pieeja” darba aizsardzīb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80880" y="533520"/>
          <a:ext cx="5867640" cy="374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8676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477120" y="609480"/>
          <a:ext cx="2457360" cy="521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77120" y="609480"/>
                    <a:ext cx="24573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33520" y="60948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1066680"/>
          <a:ext cx="5791320" cy="32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066680"/>
                    <a:ext cx="57913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5530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04920" y="990720"/>
          <a:ext cx="5943600" cy="330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59436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3244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762120" y="609480"/>
          <a:ext cx="7924680" cy="440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792468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533520" y="53352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371600" y="762120"/>
          <a:ext cx="6600960" cy="314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762120"/>
                    <a:ext cx="660096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457200" y="3886200"/>
            <a:ext cx="8229240" cy="2819520"/>
            <a:chOff x="457200" y="3886200"/>
            <a:chExt cx="8229240" cy="2819520"/>
          </a:xfrm>
        </p:grpSpPr>
        <p:grpSp>
          <p:nvGrpSpPr>
            <p:cNvPr id="47" name=""/>
            <p:cNvGrpSpPr/>
            <p:nvPr/>
          </p:nvGrpSpPr>
          <p:grpSpPr>
            <a:xfrm>
              <a:off x="463680" y="3888000"/>
              <a:ext cx="8215200" cy="2815200"/>
              <a:chOff x="463680" y="3888000"/>
              <a:chExt cx="8215200" cy="28152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463680" y="3888000"/>
                <a:ext cx="4107240" cy="274320"/>
                <a:chOff x="463680" y="3888000"/>
                <a:chExt cx="4107240" cy="2743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5619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 Lauksaimniecība, medniecība un mežsaim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463680" y="388800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571280" y="3888000"/>
                <a:ext cx="4107600" cy="274320"/>
                <a:chOff x="4571280" y="3888000"/>
                <a:chExt cx="4107600" cy="2743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6695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 Apstrādājošā rūpniecīb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571280" y="388800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63680" y="4162320"/>
                <a:ext cx="4107240" cy="274680"/>
                <a:chOff x="463680" y="4162320"/>
                <a:chExt cx="4107240" cy="2746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5619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 Ieguves rūpniecība un karjeru izstr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63680" y="41623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4571280" y="4162320"/>
                <a:ext cx="4107600" cy="274680"/>
                <a:chOff x="4571280" y="4162320"/>
                <a:chExt cx="4107600" cy="2746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46695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Būv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571280" y="41623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63680" y="4437360"/>
                <a:ext cx="4107240" cy="274320"/>
                <a:chOff x="463680" y="4437360"/>
                <a:chExt cx="4107240" cy="274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619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 Elektroenerģija, gāzes un ūdens apg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63680" y="443736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571280" y="4437360"/>
                <a:ext cx="4107600" cy="274320"/>
                <a:chOff x="4571280" y="4437360"/>
                <a:chExt cx="4107600" cy="27432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6695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 Viesnīcas un restorān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571280" y="443736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63680" y="4711680"/>
                <a:ext cx="4107240" cy="411840"/>
                <a:chOff x="463680" y="4711680"/>
                <a:chExt cx="4107240" cy="411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619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 Vairum-mazum tirdzniecība; automobīļu, motociklu, individuālas lietošanas priekšmetu, sadzīves aparatūras un iekārtu remon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63680" y="4711680"/>
                  <a:ext cx="410724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4571280" y="4711680"/>
                <a:ext cx="4107600" cy="411840"/>
                <a:chOff x="4571280" y="4711680"/>
                <a:chExt cx="4107600" cy="4118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6695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. Finansu starp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571280" y="4711680"/>
                  <a:ext cx="410760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63680" y="5123880"/>
                <a:ext cx="4107240" cy="343080"/>
                <a:chOff x="463680" y="5123880"/>
                <a:chExt cx="4107240" cy="3430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619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 Transports, glabāšana un sakar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680" y="51238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571280" y="5123880"/>
                <a:ext cx="4107600" cy="343080"/>
                <a:chOff x="4571280" y="5123880"/>
                <a:chExt cx="4107600" cy="3430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6695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 Valsts pārvalde un aizsardzība; obligātā sociālā apdrošināša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1280" y="51238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63680" y="5467320"/>
                <a:ext cx="4107240" cy="274320"/>
                <a:chOff x="463680" y="5467320"/>
                <a:chExt cx="4107240" cy="2743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619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  Zinātniskās pētniecības darb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63680" y="546732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571280" y="5467320"/>
                <a:ext cx="4107600" cy="274320"/>
                <a:chOff x="4571280" y="5467320"/>
                <a:chExt cx="4107600" cy="2743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6695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 Veselība un sociālā aprūp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571280" y="546732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63680" y="5742000"/>
                <a:ext cx="4107240" cy="343080"/>
                <a:chOff x="463680" y="5742000"/>
                <a:chExt cx="4107240" cy="3430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619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 Izglīt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63680" y="574200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571280" y="5742000"/>
                <a:ext cx="4107600" cy="343080"/>
                <a:chOff x="4571280" y="5742000"/>
                <a:chExt cx="4107600" cy="3430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6695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 Individuālās mājsaimniecības ar algotu darba spēk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1280" y="574200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63680" y="6085080"/>
                <a:ext cx="4107240" cy="343080"/>
                <a:chOff x="463680" y="6085080"/>
                <a:chExt cx="4107240" cy="3430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619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 Pārējie komunālie, sociālie un individuālie pakalpojum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3680" y="60850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4571280" y="6085080"/>
                <a:ext cx="4107600" cy="343080"/>
                <a:chOff x="4571280" y="6085080"/>
                <a:chExt cx="4107600" cy="3430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46695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Ekstrateritoriālās organizācijas un institūcij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71280" y="60850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3680" y="6428520"/>
                <a:ext cx="4107240" cy="274680"/>
                <a:chOff x="463680" y="6428520"/>
                <a:chExt cx="4107240" cy="274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619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 Zvej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3680" y="64285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571280" y="6428520"/>
                <a:ext cx="4107600" cy="274680"/>
                <a:chOff x="4571280" y="6428520"/>
                <a:chExt cx="4107600" cy="2746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6695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 cit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571280" y="64285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457200" y="3886200"/>
              <a:ext cx="8229240" cy="2819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A. Vispārējās ziņ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533520" y="53352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371600" y="914400"/>
          <a:ext cx="6229440" cy="297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914400"/>
                    <a:ext cx="6229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7621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533520" y="457200"/>
          <a:ext cx="8229600" cy="45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8229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5335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80880" y="533520"/>
          <a:ext cx="5410440" cy="300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410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867280" y="685800"/>
          <a:ext cx="2895840" cy="5334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85800"/>
                    <a:ext cx="28958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762120"/>
          <a:ext cx="7391520" cy="410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762120"/>
                    <a:ext cx="739152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457200" y="533520"/>
          <a:ext cx="838188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818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380880"/>
          <a:ext cx="838224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80880"/>
                    <a:ext cx="838224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19051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1. Darba devēji pamatā ir informēti par VDI un tās darbību regulējošiem normatīvajiem a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3124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2. Darba devēji vēlētos saņemt lielāku konsultatīvo atbalstu no VDI darba aizsardzības jautāju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600200"/>
            <a:ext cx="7848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3. Darba devēji samērā vāji pārzina tādus jautājumus k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riska novērt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iekšējās uzraudzības veik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aizsardzības sistēmas organiz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kompetentās institūcijas un kompetentie speciāli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3520" y="17524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Ļoti mazā daļā uzņēmumu (zem 15%) pilnībā tiek veikta darba vides iekšējā uzraudzība un darba vides riska novērtēšana. Gandrīz puse aptaujāto atzīst, ka viņu uzņēmumā šādi pasākumi vispār netiek veikti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5335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447920"/>
            <a:ext cx="78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5. G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enās problēmas jauno darba aizsardzības likumdošanas prasību ieviešan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hnisko dokumentu (standartu)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skaidras prasības normatīvajos ak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s finansēj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tiecīgo speciālist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as zināšanas un inform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676520"/>
            <a:ext cx="78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6. U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ņēmumiem nepieciešams daudz vairāk informācijas, skaidrojošo materiālu un vadlīniju par normatīvajiem aktiem un to svarīgākajām prasībām - darba vides riska novērtēšanu, darba aizsardzības sistēmas organizēšanu, darba vides iekšējās uzraudzības veikšana, kompetento institūciju un kompetento speciālistu piesaistīšan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520" y="533520"/>
          <a:ext cx="8229600" cy="458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2296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1219320"/>
          <a:ext cx="7924680" cy="4406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19320"/>
                    <a:ext cx="79246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3808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B. Ziņas par Valsts darba inspek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09480" y="68580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8580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60948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53352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53352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5:16:50Z</dcterms:created>
  <dc:creator>Andris Pommers</dc:creator>
  <dc:description/>
  <dc:language>en-US</dc:language>
  <cp:lastModifiedBy>Andris Pommers</cp:lastModifiedBy>
  <dcterms:modified xsi:type="dcterms:W3CDTF">2003-01-03T08:02:06Z</dcterms:modified>
  <cp:revision>7</cp:revision>
  <dc:subject/>
  <dc:title>PowerPoint Presentation</dc:title>
</cp:coreProperties>
</file>