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FD89-5392-4750-8E1B-F855E442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CFD-9645-4B39-8450-C754B60C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1A94-EC31-404F-A8C0-68C8C128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FA43-E29F-40D8-AEBA-80BDD9AD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3B0-B679-4D91-B9B1-AC7844CE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142-42CB-4E0D-80FA-0C79B966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F444-9598-433B-956D-21ECE041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F85D-1DC3-475B-B6A7-8EC894D2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D8BC-F85A-4C41-9DB1-D7712F22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2F96-0616-4EBE-B719-0B278561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B9C-5879-4004-8380-7550A8A9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50C-965C-46E4-9475-6074EC0A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F5F7-51FB-414B-B868-5894FB571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6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2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8000"/>
                </a:solidFill>
                <a:latin typeface="Times New Roman"/>
              </a:rPr>
              <a:t>PĒTĪJUMA NOSLĒGUMA ZIŅOJUMS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051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8000"/>
                </a:solidFill>
                <a:latin typeface="Times New Roman"/>
              </a:rPr>
              <a:t>LATVIJAS UZŅĒMUMU GATAVĪBA IEVIEST JAUNĀS DARBA AIZSARDZIBAS LIKUMDOŠANAS PRASĪ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5812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cc"/>
                </a:solidFill>
                <a:latin typeface="Arial Black"/>
              </a:rPr>
              <a:t>A/s “I.B.N.A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6600"/>
                </a:solidFill>
                <a:latin typeface="Arial Black"/>
              </a:rPr>
              <a:t>2002.gada 25.novembris – 2002.gada 16.decemb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609480" y="533520"/>
          <a:ext cx="807732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0773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609480" y="533520"/>
          <a:ext cx="807732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0773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609480" y="1066680"/>
          <a:ext cx="8153640" cy="453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066680"/>
                    <a:ext cx="81536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85800" y="3049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C. “Jaunā pieeja” darba aizsardzīb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09480" y="609480"/>
          <a:ext cx="8153640" cy="453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480"/>
                    <a:ext cx="81536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80880" y="533520"/>
          <a:ext cx="5867640" cy="3747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33520"/>
                    <a:ext cx="586764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477120" y="609480"/>
          <a:ext cx="2457360" cy="5210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77120" y="609480"/>
                    <a:ext cx="245736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533520" y="609480"/>
          <a:ext cx="830556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609480"/>
                    <a:ext cx="830556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57200" y="1066680"/>
          <a:ext cx="5791320" cy="32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066680"/>
                    <a:ext cx="579132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553080" y="609480"/>
          <a:ext cx="2162160" cy="5391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609480"/>
                    <a:ext cx="216216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04920" y="990720"/>
          <a:ext cx="5943600" cy="3305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990720"/>
                    <a:ext cx="59436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324480" y="609480"/>
          <a:ext cx="2162160" cy="5391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609480"/>
                    <a:ext cx="216216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762120" y="609480"/>
          <a:ext cx="7924680" cy="4407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09480"/>
                    <a:ext cx="792468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533520" y="533520"/>
          <a:ext cx="830556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830556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371600" y="762120"/>
          <a:ext cx="6600960" cy="3143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762120"/>
                    <a:ext cx="660096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457200" y="3886200"/>
            <a:ext cx="8229240" cy="2819520"/>
            <a:chOff x="457200" y="3886200"/>
            <a:chExt cx="8229240" cy="2819520"/>
          </a:xfrm>
        </p:grpSpPr>
        <p:grpSp>
          <p:nvGrpSpPr>
            <p:cNvPr id="47" name=""/>
            <p:cNvGrpSpPr/>
            <p:nvPr/>
          </p:nvGrpSpPr>
          <p:grpSpPr>
            <a:xfrm>
              <a:off x="463680" y="3888000"/>
              <a:ext cx="8215200" cy="2815200"/>
              <a:chOff x="463680" y="3888000"/>
              <a:chExt cx="8215200" cy="281520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463680" y="3888000"/>
                <a:ext cx="4107240" cy="274320"/>
                <a:chOff x="463680" y="3888000"/>
                <a:chExt cx="4107240" cy="2743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561960" y="388800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 Lauksaimniecība, medniecība un mežsaim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463680" y="3888000"/>
                  <a:ext cx="410724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4571280" y="3888000"/>
                <a:ext cx="4107600" cy="274320"/>
                <a:chOff x="4571280" y="3888000"/>
                <a:chExt cx="4107600" cy="2743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669560" y="388800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. Apstrādājošā rūpniecība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571280" y="3888000"/>
                  <a:ext cx="41076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63680" y="4162320"/>
                <a:ext cx="4107240" cy="274680"/>
                <a:chOff x="463680" y="4162320"/>
                <a:chExt cx="4107240" cy="27468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561960" y="41623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 Ieguves rūpniecība un karjeru izstrā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63680" y="4162320"/>
                  <a:ext cx="41072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4571280" y="4162320"/>
                <a:ext cx="4107600" cy="274680"/>
                <a:chOff x="4571280" y="4162320"/>
                <a:chExt cx="4107600" cy="27468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4669560" y="41623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 Būv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4571280" y="4162320"/>
                  <a:ext cx="4107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463680" y="4437360"/>
                <a:ext cx="4107240" cy="274320"/>
                <a:chOff x="463680" y="4437360"/>
                <a:chExt cx="4107240" cy="274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61960" y="443736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 Elektroenerģija, gāzes un ūdens apgā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463680" y="4437360"/>
                  <a:ext cx="410724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4571280" y="4437360"/>
                <a:ext cx="4107600" cy="274320"/>
                <a:chOff x="4571280" y="4437360"/>
                <a:chExt cx="4107600" cy="27432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4669560" y="443736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. Viesnīcas un restorān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571280" y="4437360"/>
                  <a:ext cx="41076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463680" y="4711680"/>
                <a:ext cx="4107240" cy="411840"/>
                <a:chOff x="463680" y="4711680"/>
                <a:chExt cx="4107240" cy="4118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561960" y="4711680"/>
                  <a:ext cx="391068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 Vairum-mazum tirdzniecība; automobīļu, motociklu, individuālas lietošanas priekšmetu, sadzīves aparatūras un iekārtu remon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63680" y="4711680"/>
                  <a:ext cx="4107240" cy="41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4571280" y="4711680"/>
                <a:ext cx="4107600" cy="411840"/>
                <a:chOff x="4571280" y="4711680"/>
                <a:chExt cx="4107600" cy="4118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4669560" y="4711680"/>
                  <a:ext cx="391068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. Finansu starp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4571280" y="4711680"/>
                  <a:ext cx="4107600" cy="41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63680" y="5123880"/>
                <a:ext cx="4107240" cy="343080"/>
                <a:chOff x="463680" y="5123880"/>
                <a:chExt cx="4107240" cy="3430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61960" y="51238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 Transports, glabāšana un sakar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63680" y="5123880"/>
                  <a:ext cx="4107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4571280" y="5123880"/>
                <a:ext cx="4107600" cy="343080"/>
                <a:chOff x="4571280" y="5123880"/>
                <a:chExt cx="4107600" cy="3430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669560" y="51238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. Valsts pārvalde un aizsardzība; obligātā sociālā apdrošināšan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71280" y="5123880"/>
                  <a:ext cx="410760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63680" y="5467320"/>
                <a:ext cx="4107240" cy="274320"/>
                <a:chOff x="463680" y="5467320"/>
                <a:chExt cx="4107240" cy="27432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61960" y="546732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  Zinātniskās pētniecības darb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63680" y="5467320"/>
                  <a:ext cx="410724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571280" y="5467320"/>
                <a:ext cx="4107600" cy="274320"/>
                <a:chOff x="4571280" y="5467320"/>
                <a:chExt cx="4107600" cy="27432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4669560" y="546732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. Veselība un sociālā aprūp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571280" y="5467320"/>
                  <a:ext cx="41076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463680" y="5742000"/>
                <a:ext cx="4107240" cy="343080"/>
                <a:chOff x="463680" y="5742000"/>
                <a:chExt cx="4107240" cy="3430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561960" y="574200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 Izglīt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63680" y="5742000"/>
                  <a:ext cx="4107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4571280" y="5742000"/>
                <a:ext cx="4107600" cy="343080"/>
                <a:chOff x="4571280" y="5742000"/>
                <a:chExt cx="4107600" cy="34308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669560" y="574200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. Individuālās mājsaimniecības ar algotu darba spēk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571280" y="5742000"/>
                  <a:ext cx="410760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463680" y="6085080"/>
                <a:ext cx="4107240" cy="343080"/>
                <a:chOff x="463680" y="6085080"/>
                <a:chExt cx="4107240" cy="3430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61960" y="60850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 Pārējie komunālie, sociālie un individuālie pakalpojum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63680" y="6085080"/>
                  <a:ext cx="4107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4571280" y="6085080"/>
                <a:ext cx="4107600" cy="343080"/>
                <a:chOff x="4571280" y="6085080"/>
                <a:chExt cx="4107600" cy="3430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4669560" y="60850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 Ekstrateritoriālās organizācijas un institūcij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571280" y="6085080"/>
                  <a:ext cx="410760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63680" y="6428520"/>
                <a:ext cx="4107240" cy="274680"/>
                <a:chOff x="463680" y="6428520"/>
                <a:chExt cx="4107240" cy="2746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61960" y="64285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. Zvej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63680" y="6428520"/>
                  <a:ext cx="41072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4571280" y="6428520"/>
                <a:ext cx="4107600" cy="274680"/>
                <a:chOff x="4571280" y="6428520"/>
                <a:chExt cx="4107600" cy="2746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669560" y="64285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. cita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571280" y="6428520"/>
                  <a:ext cx="4107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457200" y="3886200"/>
              <a:ext cx="8229240" cy="2819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A. Vispārējās ziņ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609480" y="533520"/>
          <a:ext cx="8153640" cy="453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153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533520" y="533520"/>
          <a:ext cx="807696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807696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371600" y="914400"/>
          <a:ext cx="6229440" cy="297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914400"/>
                    <a:ext cx="62294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609480" y="533520"/>
          <a:ext cx="8153640" cy="453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153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762120" y="609480"/>
          <a:ext cx="807696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09480"/>
                    <a:ext cx="807696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533520" y="457200"/>
          <a:ext cx="8229600" cy="457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457200"/>
                    <a:ext cx="822960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533520" y="609480"/>
          <a:ext cx="807696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609480"/>
                    <a:ext cx="807696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57200" y="533520"/>
          <a:ext cx="830592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059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380880" y="533520"/>
          <a:ext cx="5410440" cy="300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33520"/>
                    <a:ext cx="541044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867280" y="685800"/>
          <a:ext cx="2895840" cy="5334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685800"/>
                    <a:ext cx="28958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533520"/>
          <a:ext cx="830592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059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143000" y="762120"/>
          <a:ext cx="7391520" cy="410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762120"/>
                    <a:ext cx="739152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457200" y="533520"/>
          <a:ext cx="8381880" cy="4660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8188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380880" y="380880"/>
          <a:ext cx="8382240" cy="4660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80880"/>
                    <a:ext cx="838224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28800" y="3049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85800" y="19051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1. Darba devēji pamatā ir informēti par VDI un tās darbību regulējošiem normatīvajiem a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31240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2. Darba devēji vēlētos saņemt lielāku konsultatīvo atbalstu no VDI darba aizsardzības jautāju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828800" y="3049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600200"/>
            <a:ext cx="7848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3. Darba devēji samērā vāji pārzina tādus jautājumus k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darba vides riska novērtē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darba vides iekšējās uzraudzības veik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darba aizsardzības sistēmas organizē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kompetentās institūcijas un kompetentie speciāli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33520" y="1752480"/>
            <a:ext cx="78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Ļoti mazā daļā uzņēmumu (zem 15%) pilnībā tiek veikta darba vides iekšējā uzraudzība un darba vides riska novērtēšana. Gandrīz puse aptaujāto atzīst, ka viņu uzņēmumā šādi pasākumi vispār netiek veikti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5335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828800" y="2286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5800" y="1447920"/>
            <a:ext cx="7848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5. G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venās problēmas jauno darba aizsardzības likumdošanas prasību ieviešan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hnisko dokumentu (standartu)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skaidras prasības normatīvajos ak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pietiekams finansēj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tiecīgo speciālistu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pietiekamas zināšanas un inform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28800" y="2286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676520"/>
            <a:ext cx="784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6. U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ņēmumiem nepieciešams daudz vairāk informācijas, skaidrojošo materiālu un vadlīniju par normatīvajiem aktiem un to svarīgākajām prasībām - darba vides riska novērtēšanu, darba aizsardzības sistēmas organizēšanu, darba vides iekšējās uzraudzības veikšana, kompetento institūciju un kompetento speciālistu piesaistīšan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533520" y="533520"/>
          <a:ext cx="8229600" cy="4583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822960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5800" y="1219320"/>
          <a:ext cx="7924680" cy="4406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219320"/>
                    <a:ext cx="792468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838080" y="6094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B. Ziņas par Valsts darba inspekci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609480" y="609480"/>
          <a:ext cx="8153640" cy="453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480"/>
                    <a:ext cx="81536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09480" y="685800"/>
          <a:ext cx="8001000" cy="444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85800"/>
                    <a:ext cx="800100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09480" y="609480"/>
          <a:ext cx="807732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480"/>
                    <a:ext cx="80773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85800" y="533520"/>
          <a:ext cx="8001000" cy="444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533520"/>
                    <a:ext cx="800100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5:16:50Z</dcterms:created>
  <dc:creator>Andris Pommers</dc:creator>
  <dc:description/>
  <dc:language>en-US</dc:language>
  <cp:lastModifiedBy>Andris Pommers</cp:lastModifiedBy>
  <dcterms:modified xsi:type="dcterms:W3CDTF">2003-01-03T08:02:06Z</dcterms:modified>
  <cp:revision>7</cp:revision>
  <dc:subject/>
  <dc:title>PowerPoint Presentation</dc:title>
</cp:coreProperties>
</file>