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10.wmf" ContentType="image/x-wmf"/>
  <Override PartName="/ppt/media/image29.wmf" ContentType="image/x-wmf"/>
  <Override PartName="/ppt/media/image6.wmf" ContentType="image/x-wmf"/>
  <Override PartName="/ppt/media/image31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4.jpeg" ContentType="image/jpeg"/>
  <Override PartName="/ppt/media/image8.wmf" ContentType="image/x-wmf"/>
  <Override PartName="/ppt/media/image13.wmf" ContentType="image/x-wmf"/>
  <Override PartName="/ppt/media/image9.wmf" ContentType="image/x-wmf"/>
  <Override PartName="/ppt/media/image34.wmf" ContentType="image/x-wmf"/>
  <Override PartName="/ppt/media/image30.wmf" ContentType="image/x-wmf"/>
  <Override PartName="/ppt/media/image28.wmf" ContentType="image/x-wmf"/>
  <Override PartName="/ppt/media/image5.wmf" ContentType="image/x-wmf"/>
  <Override PartName="/ppt/media/image35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1.jpeg" ContentType="image/jpeg"/>
  <Override PartName="/ppt/media/image15.wmf" ContentType="image/x-wmf"/>
  <Override PartName="/ppt/media/image14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EB143-1CCB-4BCC-AFAE-BBBD89BC0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6CE3B-4EC5-4269-A6E6-D944BF86C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0E3F3-1B1E-4C62-B9BF-ABEA0856D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F3357-D6B5-4795-BD14-B83E94336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DB5C8-35DD-4CE5-BFDF-B9C594ECF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EFAE3-5304-41D2-B25E-7B86E5240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A8588-9989-4320-940C-E33D077F7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F4B4F-BE20-47DD-9534-98B106EFD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5C2A9-60F4-465E-876B-1E8B212E6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5A892-2899-4658-8B3F-E15F63DF1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FC3F0-BE33-4948-8075-232F9E73A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0F286-D58A-47D3-9E5F-BB6080A01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D193D-13FA-4645-8D45-3050F53E3C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2.wm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3.wm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4.wm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5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6.wmf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7.wm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8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9.wmf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0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9.wmf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1.wm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2.wm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3.wm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4.wm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5.wm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6.wm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7.wm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8.wm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9.wm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30.wm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3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32.wmf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33.wm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3.wm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34.wm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35.wm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5.wm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6.wm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7.wm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8.wm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9.wm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0.wm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2120" y="68580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8000"/>
                </a:solidFill>
                <a:latin typeface="Times New Roman"/>
              </a:rPr>
              <a:t>PĒTĪJUMA NOSLĒGUMA ZIŅOJUMS</a:t>
            </a:r>
            <a:r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838080" y="190512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8000"/>
                </a:solidFill>
                <a:latin typeface="Times New Roman"/>
              </a:rPr>
              <a:t>LATVIJAS UZŅĒMUMU GATAVĪBA IEVIEST JAUNĀS DARBA AIZSARDZIBAS LIKUMDOŠANAS PRASĪB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" y="3581280"/>
            <a:ext cx="777240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3333cc"/>
                </a:solidFill>
                <a:latin typeface="Arial Black"/>
              </a:rPr>
              <a:t>A/s “I.B.N.A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ff6600"/>
                </a:solidFill>
                <a:latin typeface="Arial Black"/>
              </a:rPr>
              <a:t>2002.gada 25.novembris – 2002.gada 16.decembr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6" name=""/>
          <p:cNvGraphicFramePr/>
          <p:nvPr/>
        </p:nvGraphicFramePr>
        <p:xfrm>
          <a:off x="609480" y="533520"/>
          <a:ext cx="8077320" cy="44910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533520"/>
                    <a:ext cx="8077320" cy="449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0" y="6170760"/>
            <a:ext cx="1828800" cy="67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9" name=""/>
          <p:cNvGraphicFramePr/>
          <p:nvPr/>
        </p:nvGraphicFramePr>
        <p:xfrm>
          <a:off x="609480" y="533520"/>
          <a:ext cx="8077320" cy="44910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533520"/>
                    <a:ext cx="8077320" cy="449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1" name="" descr=""/>
          <p:cNvPicPr/>
          <p:nvPr/>
        </p:nvPicPr>
        <p:blipFill>
          <a:blip r:embed="rId4"/>
          <a:stretch/>
        </p:blipFill>
        <p:spPr>
          <a:xfrm>
            <a:off x="0" y="6170760"/>
            <a:ext cx="1828800" cy="67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2" name=""/>
          <p:cNvGraphicFramePr/>
          <p:nvPr/>
        </p:nvGraphicFramePr>
        <p:xfrm>
          <a:off x="609480" y="1066680"/>
          <a:ext cx="8153640" cy="45342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1066680"/>
                    <a:ext cx="8153640" cy="453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4" name=""/>
          <p:cNvSpPr/>
          <p:nvPr/>
        </p:nvSpPr>
        <p:spPr>
          <a:xfrm>
            <a:off x="685800" y="304920"/>
            <a:ext cx="7772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Times New Roman"/>
              </a:rPr>
              <a:t>C. “Jaunā pieeja” darba aizsardzīb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0" y="6170760"/>
            <a:ext cx="1828800" cy="67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6" name=""/>
          <p:cNvGraphicFramePr/>
          <p:nvPr/>
        </p:nvGraphicFramePr>
        <p:xfrm>
          <a:off x="609480" y="609480"/>
          <a:ext cx="8153640" cy="45342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609480"/>
                    <a:ext cx="8153640" cy="453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6170760"/>
            <a:ext cx="1828800" cy="67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380880" y="533520"/>
          <a:ext cx="5867640" cy="37479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880" y="533520"/>
                    <a:ext cx="5867640" cy="374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1" name=""/>
          <p:cNvGraphicFramePr/>
          <p:nvPr/>
        </p:nvGraphicFramePr>
        <p:xfrm>
          <a:off x="6477120" y="609480"/>
          <a:ext cx="2457360" cy="521028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477120" y="609480"/>
                    <a:ext cx="2457360" cy="521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3" name="" descr=""/>
          <p:cNvPicPr/>
          <p:nvPr/>
        </p:nvPicPr>
        <p:blipFill>
          <a:blip r:embed="rId6"/>
          <a:stretch/>
        </p:blipFill>
        <p:spPr>
          <a:xfrm>
            <a:off x="0" y="6170760"/>
            <a:ext cx="1828800" cy="67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4" name=""/>
          <p:cNvGraphicFramePr/>
          <p:nvPr/>
        </p:nvGraphicFramePr>
        <p:xfrm>
          <a:off x="533520" y="609480"/>
          <a:ext cx="8305560" cy="46180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520" y="609480"/>
                    <a:ext cx="8305560" cy="461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6" name="" descr=""/>
          <p:cNvPicPr/>
          <p:nvPr/>
        </p:nvPicPr>
        <p:blipFill>
          <a:blip r:embed="rId4"/>
          <a:stretch/>
        </p:blipFill>
        <p:spPr>
          <a:xfrm>
            <a:off x="0" y="6170760"/>
            <a:ext cx="1828800" cy="67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7" name=""/>
          <p:cNvGraphicFramePr/>
          <p:nvPr/>
        </p:nvGraphicFramePr>
        <p:xfrm>
          <a:off x="457200" y="1066680"/>
          <a:ext cx="5791320" cy="32194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1066680"/>
                    <a:ext cx="5791320" cy="321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9" name=""/>
          <p:cNvGraphicFramePr/>
          <p:nvPr/>
        </p:nvGraphicFramePr>
        <p:xfrm>
          <a:off x="6553080" y="609480"/>
          <a:ext cx="2162160" cy="53913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553080" y="609480"/>
                    <a:ext cx="2162160" cy="539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51" name="" descr=""/>
          <p:cNvPicPr/>
          <p:nvPr/>
        </p:nvPicPr>
        <p:blipFill>
          <a:blip r:embed="rId6"/>
          <a:stretch/>
        </p:blipFill>
        <p:spPr>
          <a:xfrm>
            <a:off x="0" y="6170760"/>
            <a:ext cx="1828800" cy="67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2" name=""/>
          <p:cNvGraphicFramePr/>
          <p:nvPr/>
        </p:nvGraphicFramePr>
        <p:xfrm>
          <a:off x="304920" y="990720"/>
          <a:ext cx="5943600" cy="33051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990720"/>
                    <a:ext cx="5943600" cy="330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6324480" y="609480"/>
          <a:ext cx="2162160" cy="53913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324480" y="609480"/>
                    <a:ext cx="2162160" cy="539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56" name="" descr=""/>
          <p:cNvPicPr/>
          <p:nvPr/>
        </p:nvPicPr>
        <p:blipFill>
          <a:blip r:embed="rId6"/>
          <a:stretch/>
        </p:blipFill>
        <p:spPr>
          <a:xfrm>
            <a:off x="0" y="6170760"/>
            <a:ext cx="1828800" cy="67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7" name=""/>
          <p:cNvGraphicFramePr/>
          <p:nvPr/>
        </p:nvGraphicFramePr>
        <p:xfrm>
          <a:off x="762120" y="609480"/>
          <a:ext cx="7924680" cy="44071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609480"/>
                    <a:ext cx="7924680" cy="440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59" name="" descr=""/>
          <p:cNvPicPr/>
          <p:nvPr/>
        </p:nvPicPr>
        <p:blipFill>
          <a:blip r:embed="rId4"/>
          <a:stretch/>
        </p:blipFill>
        <p:spPr>
          <a:xfrm>
            <a:off x="0" y="6170760"/>
            <a:ext cx="1828800" cy="67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0" name=""/>
          <p:cNvGraphicFramePr/>
          <p:nvPr/>
        </p:nvGraphicFramePr>
        <p:xfrm>
          <a:off x="533520" y="533520"/>
          <a:ext cx="8305560" cy="46180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520" y="533520"/>
                    <a:ext cx="8305560" cy="461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62" name="" descr=""/>
          <p:cNvPicPr/>
          <p:nvPr/>
        </p:nvPicPr>
        <p:blipFill>
          <a:blip r:embed="rId4"/>
          <a:stretch/>
        </p:blipFill>
        <p:spPr>
          <a:xfrm>
            <a:off x="0" y="6170760"/>
            <a:ext cx="1828800" cy="67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1371600" y="762120"/>
          <a:ext cx="6600960" cy="31431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71600" y="762120"/>
                    <a:ext cx="6600960" cy="314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6" name=""/>
          <p:cNvGrpSpPr/>
          <p:nvPr/>
        </p:nvGrpSpPr>
        <p:grpSpPr>
          <a:xfrm>
            <a:off x="457200" y="3886200"/>
            <a:ext cx="8229240" cy="2819520"/>
            <a:chOff x="457200" y="3886200"/>
            <a:chExt cx="8229240" cy="2819520"/>
          </a:xfrm>
        </p:grpSpPr>
        <p:grpSp>
          <p:nvGrpSpPr>
            <p:cNvPr id="47" name=""/>
            <p:cNvGrpSpPr/>
            <p:nvPr/>
          </p:nvGrpSpPr>
          <p:grpSpPr>
            <a:xfrm>
              <a:off x="463680" y="3888000"/>
              <a:ext cx="8215200" cy="2815200"/>
              <a:chOff x="463680" y="3888000"/>
              <a:chExt cx="8215200" cy="2815200"/>
            </a:xfrm>
          </p:grpSpPr>
          <p:grpSp>
            <p:nvGrpSpPr>
              <p:cNvPr id="48" name=""/>
              <p:cNvGrpSpPr/>
              <p:nvPr/>
            </p:nvGrpSpPr>
            <p:grpSpPr>
              <a:xfrm>
                <a:off x="463680" y="3888000"/>
                <a:ext cx="4107240" cy="274320"/>
                <a:chOff x="463680" y="3888000"/>
                <a:chExt cx="4107240" cy="274320"/>
              </a:xfrm>
            </p:grpSpPr>
            <p:sp>
              <p:nvSpPr>
                <p:cNvPr id="49" name=""/>
                <p:cNvSpPr/>
                <p:nvPr/>
              </p:nvSpPr>
              <p:spPr>
                <a:xfrm>
                  <a:off x="561960" y="3888000"/>
                  <a:ext cx="3910680" cy="274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v-LV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. Lauksaimniecība, medniecība un mežsaimniecība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463680" y="3888000"/>
                  <a:ext cx="4107240" cy="274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" name=""/>
              <p:cNvGrpSpPr/>
              <p:nvPr/>
            </p:nvGrpSpPr>
            <p:grpSpPr>
              <a:xfrm>
                <a:off x="4571280" y="3888000"/>
                <a:ext cx="4107600" cy="274320"/>
                <a:chOff x="4571280" y="3888000"/>
                <a:chExt cx="4107600" cy="274320"/>
              </a:xfrm>
            </p:grpSpPr>
            <p:sp>
              <p:nvSpPr>
                <p:cNvPr id="52" name=""/>
                <p:cNvSpPr/>
                <p:nvPr/>
              </p:nvSpPr>
              <p:spPr>
                <a:xfrm>
                  <a:off x="4669560" y="3888000"/>
                  <a:ext cx="3910680" cy="274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v-LV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0. Apstrādājošā rūpniecība 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4571280" y="3888000"/>
                  <a:ext cx="4107600" cy="274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" name=""/>
              <p:cNvGrpSpPr/>
              <p:nvPr/>
            </p:nvGrpSpPr>
            <p:grpSpPr>
              <a:xfrm>
                <a:off x="463680" y="4162320"/>
                <a:ext cx="4107240" cy="274680"/>
                <a:chOff x="463680" y="4162320"/>
                <a:chExt cx="4107240" cy="274680"/>
              </a:xfrm>
            </p:grpSpPr>
            <p:sp>
              <p:nvSpPr>
                <p:cNvPr id="55" name=""/>
                <p:cNvSpPr/>
                <p:nvPr/>
              </p:nvSpPr>
              <p:spPr>
                <a:xfrm>
                  <a:off x="561960" y="4162320"/>
                  <a:ext cx="3910680" cy="27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v-LV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. Ieguves rūpniecība un karjeru izstrāde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463680" y="4162320"/>
                  <a:ext cx="4107240" cy="274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" name=""/>
              <p:cNvGrpSpPr/>
              <p:nvPr/>
            </p:nvGrpSpPr>
            <p:grpSpPr>
              <a:xfrm>
                <a:off x="4571280" y="4162320"/>
                <a:ext cx="4107600" cy="274680"/>
                <a:chOff x="4571280" y="4162320"/>
                <a:chExt cx="4107600" cy="274680"/>
              </a:xfrm>
            </p:grpSpPr>
            <p:sp>
              <p:nvSpPr>
                <p:cNvPr id="58" name=""/>
                <p:cNvSpPr/>
                <p:nvPr/>
              </p:nvSpPr>
              <p:spPr>
                <a:xfrm>
                  <a:off x="4669560" y="4162320"/>
                  <a:ext cx="3910680" cy="27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v-LV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1. Būvniecība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" name=""/>
                <p:cNvSpPr/>
                <p:nvPr/>
              </p:nvSpPr>
              <p:spPr>
                <a:xfrm>
                  <a:off x="4571280" y="4162320"/>
                  <a:ext cx="4107600" cy="274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" name=""/>
              <p:cNvGrpSpPr/>
              <p:nvPr/>
            </p:nvGrpSpPr>
            <p:grpSpPr>
              <a:xfrm>
                <a:off x="463680" y="4437360"/>
                <a:ext cx="4107240" cy="274320"/>
                <a:chOff x="463680" y="4437360"/>
                <a:chExt cx="4107240" cy="2743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561960" y="4437360"/>
                  <a:ext cx="3910680" cy="274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v-LV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. Elektroenerģija, gāzes un ūdens apgāde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463680" y="4437360"/>
                  <a:ext cx="4107240" cy="274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" name=""/>
              <p:cNvGrpSpPr/>
              <p:nvPr/>
            </p:nvGrpSpPr>
            <p:grpSpPr>
              <a:xfrm>
                <a:off x="4571280" y="4437360"/>
                <a:ext cx="4107600" cy="274320"/>
                <a:chOff x="4571280" y="4437360"/>
                <a:chExt cx="4107600" cy="274320"/>
              </a:xfrm>
            </p:grpSpPr>
            <p:sp>
              <p:nvSpPr>
                <p:cNvPr id="64" name=""/>
                <p:cNvSpPr/>
                <p:nvPr/>
              </p:nvSpPr>
              <p:spPr>
                <a:xfrm>
                  <a:off x="4669560" y="4437360"/>
                  <a:ext cx="3910680" cy="274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v-LV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2. Viesnīcas un restorāni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4571280" y="4437360"/>
                  <a:ext cx="4107600" cy="274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" name=""/>
              <p:cNvGrpSpPr/>
              <p:nvPr/>
            </p:nvGrpSpPr>
            <p:grpSpPr>
              <a:xfrm>
                <a:off x="463680" y="4711680"/>
                <a:ext cx="4107240" cy="411840"/>
                <a:chOff x="463680" y="4711680"/>
                <a:chExt cx="4107240" cy="411840"/>
              </a:xfrm>
            </p:grpSpPr>
            <p:sp>
              <p:nvSpPr>
                <p:cNvPr id="67" name=""/>
                <p:cNvSpPr/>
                <p:nvPr/>
              </p:nvSpPr>
              <p:spPr>
                <a:xfrm>
                  <a:off x="561960" y="4711680"/>
                  <a:ext cx="3910680" cy="411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v-LV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. Vairum-mazum tirdzniecība; automobīļu, motociklu, individuālas lietošanas priekšmetu, sadzīves aparatūras un iekārtu remont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>
                  <a:off x="463680" y="4711680"/>
                  <a:ext cx="4107240" cy="411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" name=""/>
              <p:cNvGrpSpPr/>
              <p:nvPr/>
            </p:nvGrpSpPr>
            <p:grpSpPr>
              <a:xfrm>
                <a:off x="4571280" y="4711680"/>
                <a:ext cx="4107600" cy="411840"/>
                <a:chOff x="4571280" y="4711680"/>
                <a:chExt cx="4107600" cy="411840"/>
              </a:xfrm>
            </p:grpSpPr>
            <p:sp>
              <p:nvSpPr>
                <p:cNvPr id="70" name=""/>
                <p:cNvSpPr/>
                <p:nvPr/>
              </p:nvSpPr>
              <p:spPr>
                <a:xfrm>
                  <a:off x="4669560" y="4711680"/>
                  <a:ext cx="3910680" cy="411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v-LV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3. Finansu starpniecība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4571280" y="4711680"/>
                  <a:ext cx="4107600" cy="411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" name=""/>
              <p:cNvGrpSpPr/>
              <p:nvPr/>
            </p:nvGrpSpPr>
            <p:grpSpPr>
              <a:xfrm>
                <a:off x="463680" y="5123880"/>
                <a:ext cx="4107240" cy="343080"/>
                <a:chOff x="463680" y="5123880"/>
                <a:chExt cx="4107240" cy="343080"/>
              </a:xfrm>
            </p:grpSpPr>
            <p:sp>
              <p:nvSpPr>
                <p:cNvPr id="73" name=""/>
                <p:cNvSpPr/>
                <p:nvPr/>
              </p:nvSpPr>
              <p:spPr>
                <a:xfrm>
                  <a:off x="561960" y="5123880"/>
                  <a:ext cx="3910680" cy="343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v-LV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. Transports, glabāšana un sakari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>
                  <a:off x="463680" y="5123880"/>
                  <a:ext cx="4107240" cy="343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" name=""/>
              <p:cNvGrpSpPr/>
              <p:nvPr/>
            </p:nvGrpSpPr>
            <p:grpSpPr>
              <a:xfrm>
                <a:off x="4571280" y="5123880"/>
                <a:ext cx="4107600" cy="343080"/>
                <a:chOff x="4571280" y="5123880"/>
                <a:chExt cx="4107600" cy="343080"/>
              </a:xfrm>
            </p:grpSpPr>
            <p:sp>
              <p:nvSpPr>
                <p:cNvPr id="76" name=""/>
                <p:cNvSpPr/>
                <p:nvPr/>
              </p:nvSpPr>
              <p:spPr>
                <a:xfrm>
                  <a:off x="4669560" y="5123880"/>
                  <a:ext cx="3910680" cy="343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v-LV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4. Valsts pārvalde un aizsardzība; obligātā sociālā apdrošināšana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4571280" y="5123880"/>
                  <a:ext cx="4107600" cy="343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" name=""/>
              <p:cNvGrpSpPr/>
              <p:nvPr/>
            </p:nvGrpSpPr>
            <p:grpSpPr>
              <a:xfrm>
                <a:off x="463680" y="5467320"/>
                <a:ext cx="4107240" cy="274320"/>
                <a:chOff x="463680" y="5467320"/>
                <a:chExt cx="4107240" cy="274320"/>
              </a:xfrm>
            </p:grpSpPr>
            <p:sp>
              <p:nvSpPr>
                <p:cNvPr id="79" name=""/>
                <p:cNvSpPr/>
                <p:nvPr/>
              </p:nvSpPr>
              <p:spPr>
                <a:xfrm>
                  <a:off x="561960" y="5467320"/>
                  <a:ext cx="3910680" cy="274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v-LV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6.  Zinātniskās pētniecības darb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" name=""/>
                <p:cNvSpPr/>
                <p:nvPr/>
              </p:nvSpPr>
              <p:spPr>
                <a:xfrm>
                  <a:off x="463680" y="5467320"/>
                  <a:ext cx="4107240" cy="274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" name=""/>
              <p:cNvGrpSpPr/>
              <p:nvPr/>
            </p:nvGrpSpPr>
            <p:grpSpPr>
              <a:xfrm>
                <a:off x="4571280" y="5467320"/>
                <a:ext cx="4107600" cy="274320"/>
                <a:chOff x="4571280" y="5467320"/>
                <a:chExt cx="4107600" cy="274320"/>
              </a:xfrm>
            </p:grpSpPr>
            <p:sp>
              <p:nvSpPr>
                <p:cNvPr id="82" name=""/>
                <p:cNvSpPr/>
                <p:nvPr/>
              </p:nvSpPr>
              <p:spPr>
                <a:xfrm>
                  <a:off x="4669560" y="5467320"/>
                  <a:ext cx="3910680" cy="274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v-LV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5. Veselība un sociālā aprūpe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>
                  <a:off x="4571280" y="5467320"/>
                  <a:ext cx="4107600" cy="274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4" name=""/>
              <p:cNvGrpSpPr/>
              <p:nvPr/>
            </p:nvGrpSpPr>
            <p:grpSpPr>
              <a:xfrm>
                <a:off x="463680" y="5742000"/>
                <a:ext cx="4107240" cy="343080"/>
                <a:chOff x="463680" y="5742000"/>
                <a:chExt cx="4107240" cy="343080"/>
              </a:xfrm>
            </p:grpSpPr>
            <p:sp>
              <p:nvSpPr>
                <p:cNvPr id="85" name=""/>
                <p:cNvSpPr/>
                <p:nvPr/>
              </p:nvSpPr>
              <p:spPr>
                <a:xfrm>
                  <a:off x="561960" y="5742000"/>
                  <a:ext cx="3910680" cy="343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v-LV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7. Izglītība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>
                  <a:off x="463680" y="5742000"/>
                  <a:ext cx="4107240" cy="343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" name=""/>
              <p:cNvGrpSpPr/>
              <p:nvPr/>
            </p:nvGrpSpPr>
            <p:grpSpPr>
              <a:xfrm>
                <a:off x="4571280" y="5742000"/>
                <a:ext cx="4107600" cy="343080"/>
                <a:chOff x="4571280" y="5742000"/>
                <a:chExt cx="4107600" cy="343080"/>
              </a:xfrm>
            </p:grpSpPr>
            <p:sp>
              <p:nvSpPr>
                <p:cNvPr id="88" name=""/>
                <p:cNvSpPr/>
                <p:nvPr/>
              </p:nvSpPr>
              <p:spPr>
                <a:xfrm>
                  <a:off x="4669560" y="5742000"/>
                  <a:ext cx="3910680" cy="343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v-LV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6. Individuālās mājsaimniecības ar algotu darba spēku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>
                  <a:off x="4571280" y="5742000"/>
                  <a:ext cx="4107600" cy="343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" name=""/>
              <p:cNvGrpSpPr/>
              <p:nvPr/>
            </p:nvGrpSpPr>
            <p:grpSpPr>
              <a:xfrm>
                <a:off x="463680" y="6085080"/>
                <a:ext cx="4107240" cy="343080"/>
                <a:chOff x="463680" y="6085080"/>
                <a:chExt cx="4107240" cy="343080"/>
              </a:xfrm>
            </p:grpSpPr>
            <p:sp>
              <p:nvSpPr>
                <p:cNvPr id="91" name=""/>
                <p:cNvSpPr/>
                <p:nvPr/>
              </p:nvSpPr>
              <p:spPr>
                <a:xfrm>
                  <a:off x="561960" y="6085080"/>
                  <a:ext cx="3910680" cy="343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v-LV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8. Pārējie komunālie, sociālie un individuālie pakalpojumi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>
                  <a:off x="463680" y="6085080"/>
                  <a:ext cx="4107240" cy="343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3" name=""/>
              <p:cNvGrpSpPr/>
              <p:nvPr/>
            </p:nvGrpSpPr>
            <p:grpSpPr>
              <a:xfrm>
                <a:off x="4571280" y="6085080"/>
                <a:ext cx="4107600" cy="343080"/>
                <a:chOff x="4571280" y="6085080"/>
                <a:chExt cx="4107600" cy="343080"/>
              </a:xfrm>
            </p:grpSpPr>
            <p:sp>
              <p:nvSpPr>
                <p:cNvPr id="94" name=""/>
                <p:cNvSpPr/>
                <p:nvPr/>
              </p:nvSpPr>
              <p:spPr>
                <a:xfrm>
                  <a:off x="4669560" y="6085080"/>
                  <a:ext cx="3910680" cy="343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v-LV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1. Ekstrateritoriālās organizācijas un institūcija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>
                  <a:off x="4571280" y="6085080"/>
                  <a:ext cx="4107600" cy="343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" name=""/>
              <p:cNvGrpSpPr/>
              <p:nvPr/>
            </p:nvGrpSpPr>
            <p:grpSpPr>
              <a:xfrm>
                <a:off x="463680" y="6428520"/>
                <a:ext cx="4107240" cy="274680"/>
                <a:chOff x="463680" y="6428520"/>
                <a:chExt cx="4107240" cy="274680"/>
              </a:xfrm>
            </p:grpSpPr>
            <p:sp>
              <p:nvSpPr>
                <p:cNvPr id="97" name=""/>
                <p:cNvSpPr/>
                <p:nvPr/>
              </p:nvSpPr>
              <p:spPr>
                <a:xfrm>
                  <a:off x="561960" y="6428520"/>
                  <a:ext cx="3910680" cy="27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v-LV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9. Zvejniecība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>
                  <a:off x="463680" y="6428520"/>
                  <a:ext cx="4107240" cy="274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" name=""/>
              <p:cNvGrpSpPr/>
              <p:nvPr/>
            </p:nvGrpSpPr>
            <p:grpSpPr>
              <a:xfrm>
                <a:off x="4571280" y="6428520"/>
                <a:ext cx="4107600" cy="274680"/>
                <a:chOff x="4571280" y="6428520"/>
                <a:chExt cx="4107600" cy="274680"/>
              </a:xfrm>
            </p:grpSpPr>
            <p:sp>
              <p:nvSpPr>
                <p:cNvPr id="100" name=""/>
                <p:cNvSpPr/>
                <p:nvPr/>
              </p:nvSpPr>
              <p:spPr>
                <a:xfrm>
                  <a:off x="4669560" y="6428520"/>
                  <a:ext cx="3910680" cy="27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v-LV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8. cita 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>
                  <a:off x="4571280" y="6428520"/>
                  <a:ext cx="4107600" cy="274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02" name=""/>
            <p:cNvSpPr/>
            <p:nvPr/>
          </p:nvSpPr>
          <p:spPr>
            <a:xfrm>
              <a:off x="457200" y="3886200"/>
              <a:ext cx="8229240" cy="281952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"/>
          <p:cNvSpPr/>
          <p:nvPr/>
        </p:nvSpPr>
        <p:spPr>
          <a:xfrm>
            <a:off x="60948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Times New Roman"/>
              </a:rPr>
              <a:t>A. Vispārējās ziņ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3" name=""/>
          <p:cNvGraphicFramePr/>
          <p:nvPr/>
        </p:nvGraphicFramePr>
        <p:xfrm>
          <a:off x="609480" y="533520"/>
          <a:ext cx="8153640" cy="45338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533520"/>
                    <a:ext cx="815364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65" name="" descr=""/>
          <p:cNvPicPr/>
          <p:nvPr/>
        </p:nvPicPr>
        <p:blipFill>
          <a:blip r:embed="rId4"/>
          <a:stretch/>
        </p:blipFill>
        <p:spPr>
          <a:xfrm>
            <a:off x="0" y="6170760"/>
            <a:ext cx="1828800" cy="67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6" name=""/>
          <p:cNvGraphicFramePr/>
          <p:nvPr/>
        </p:nvGraphicFramePr>
        <p:xfrm>
          <a:off x="533520" y="533520"/>
          <a:ext cx="8076960" cy="44910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520" y="533520"/>
                    <a:ext cx="8076960" cy="449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68" name="" descr=""/>
          <p:cNvPicPr/>
          <p:nvPr/>
        </p:nvPicPr>
        <p:blipFill>
          <a:blip r:embed="rId4"/>
          <a:stretch/>
        </p:blipFill>
        <p:spPr>
          <a:xfrm>
            <a:off x="0" y="6170760"/>
            <a:ext cx="1828800" cy="67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9" name=""/>
          <p:cNvGraphicFramePr/>
          <p:nvPr/>
        </p:nvGraphicFramePr>
        <p:xfrm>
          <a:off x="1371600" y="914400"/>
          <a:ext cx="6229440" cy="2971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71600" y="914400"/>
                    <a:ext cx="622944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71" name="" descr=""/>
          <p:cNvPicPr/>
          <p:nvPr/>
        </p:nvPicPr>
        <p:blipFill>
          <a:blip r:embed="rId4"/>
          <a:stretch/>
        </p:blipFill>
        <p:spPr>
          <a:xfrm>
            <a:off x="0" y="6170760"/>
            <a:ext cx="1828800" cy="67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2" name=""/>
          <p:cNvGraphicFramePr/>
          <p:nvPr/>
        </p:nvGraphicFramePr>
        <p:xfrm>
          <a:off x="609480" y="533520"/>
          <a:ext cx="8153640" cy="45338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533520"/>
                    <a:ext cx="815364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74" name="" descr=""/>
          <p:cNvPicPr/>
          <p:nvPr/>
        </p:nvPicPr>
        <p:blipFill>
          <a:blip r:embed="rId4"/>
          <a:stretch/>
        </p:blipFill>
        <p:spPr>
          <a:xfrm>
            <a:off x="0" y="6170760"/>
            <a:ext cx="1828800" cy="67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5" name=""/>
          <p:cNvGraphicFramePr/>
          <p:nvPr/>
        </p:nvGraphicFramePr>
        <p:xfrm>
          <a:off x="762120" y="609480"/>
          <a:ext cx="8076960" cy="44910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609480"/>
                    <a:ext cx="8076960" cy="449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77" name="" descr=""/>
          <p:cNvPicPr/>
          <p:nvPr/>
        </p:nvPicPr>
        <p:blipFill>
          <a:blip r:embed="rId4"/>
          <a:stretch/>
        </p:blipFill>
        <p:spPr>
          <a:xfrm>
            <a:off x="0" y="6170760"/>
            <a:ext cx="1828800" cy="67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8" name=""/>
          <p:cNvGraphicFramePr/>
          <p:nvPr/>
        </p:nvGraphicFramePr>
        <p:xfrm>
          <a:off x="533520" y="457200"/>
          <a:ext cx="8229600" cy="45752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520" y="457200"/>
                    <a:ext cx="8229600" cy="457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0" name="" descr=""/>
          <p:cNvPicPr/>
          <p:nvPr/>
        </p:nvPicPr>
        <p:blipFill>
          <a:blip r:embed="rId4"/>
          <a:stretch/>
        </p:blipFill>
        <p:spPr>
          <a:xfrm>
            <a:off x="0" y="6170760"/>
            <a:ext cx="1828800" cy="67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1" name=""/>
          <p:cNvGraphicFramePr/>
          <p:nvPr/>
        </p:nvGraphicFramePr>
        <p:xfrm>
          <a:off x="533520" y="609480"/>
          <a:ext cx="8076960" cy="44910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520" y="609480"/>
                    <a:ext cx="8076960" cy="449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3" name="" descr=""/>
          <p:cNvPicPr/>
          <p:nvPr/>
        </p:nvPicPr>
        <p:blipFill>
          <a:blip r:embed="rId4"/>
          <a:stretch/>
        </p:blipFill>
        <p:spPr>
          <a:xfrm>
            <a:off x="0" y="6170760"/>
            <a:ext cx="1828800" cy="67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4" name=""/>
          <p:cNvGraphicFramePr/>
          <p:nvPr/>
        </p:nvGraphicFramePr>
        <p:xfrm>
          <a:off x="457200" y="533520"/>
          <a:ext cx="8305920" cy="46180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533520"/>
                    <a:ext cx="8305920" cy="461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6" name="" descr=""/>
          <p:cNvPicPr/>
          <p:nvPr/>
        </p:nvPicPr>
        <p:blipFill>
          <a:blip r:embed="rId4"/>
          <a:stretch/>
        </p:blipFill>
        <p:spPr>
          <a:xfrm>
            <a:off x="0" y="6170760"/>
            <a:ext cx="1828800" cy="67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7" name=""/>
          <p:cNvGraphicFramePr/>
          <p:nvPr/>
        </p:nvGraphicFramePr>
        <p:xfrm>
          <a:off x="380880" y="533520"/>
          <a:ext cx="5410440" cy="30081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880" y="533520"/>
                    <a:ext cx="5410440" cy="300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9" name=""/>
          <p:cNvGraphicFramePr/>
          <p:nvPr/>
        </p:nvGraphicFramePr>
        <p:xfrm>
          <a:off x="5867280" y="685800"/>
          <a:ext cx="2895840" cy="53341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867280" y="685800"/>
                    <a:ext cx="2895840" cy="53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0" y="6170760"/>
            <a:ext cx="1828800" cy="67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2" name=""/>
          <p:cNvGraphicFramePr/>
          <p:nvPr/>
        </p:nvGraphicFramePr>
        <p:xfrm>
          <a:off x="457200" y="533520"/>
          <a:ext cx="8305920" cy="46180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533520"/>
                    <a:ext cx="8305920" cy="461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94" name="" descr=""/>
          <p:cNvPicPr/>
          <p:nvPr/>
        </p:nvPicPr>
        <p:blipFill>
          <a:blip r:embed="rId4"/>
          <a:stretch/>
        </p:blipFill>
        <p:spPr>
          <a:xfrm>
            <a:off x="0" y="6170760"/>
            <a:ext cx="1828800" cy="67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" name=""/>
          <p:cNvGraphicFramePr/>
          <p:nvPr/>
        </p:nvGraphicFramePr>
        <p:xfrm>
          <a:off x="1143000" y="762120"/>
          <a:ext cx="7391520" cy="41097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43000" y="762120"/>
                    <a:ext cx="7391520" cy="410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6" name="" descr=""/>
          <p:cNvPicPr/>
          <p:nvPr/>
        </p:nvPicPr>
        <p:blipFill>
          <a:blip r:embed="rId4"/>
          <a:stretch/>
        </p:blipFill>
        <p:spPr>
          <a:xfrm>
            <a:off x="0" y="6170760"/>
            <a:ext cx="1828800" cy="67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5" name=""/>
          <p:cNvGraphicFramePr/>
          <p:nvPr/>
        </p:nvGraphicFramePr>
        <p:xfrm>
          <a:off x="457200" y="533520"/>
          <a:ext cx="8381880" cy="46609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533520"/>
                    <a:ext cx="8381880" cy="466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97" name="" descr=""/>
          <p:cNvPicPr/>
          <p:nvPr/>
        </p:nvPicPr>
        <p:blipFill>
          <a:blip r:embed="rId4"/>
          <a:stretch/>
        </p:blipFill>
        <p:spPr>
          <a:xfrm>
            <a:off x="0" y="6170760"/>
            <a:ext cx="1828800" cy="67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8" name=""/>
          <p:cNvGraphicFramePr/>
          <p:nvPr/>
        </p:nvGraphicFramePr>
        <p:xfrm>
          <a:off x="380880" y="380880"/>
          <a:ext cx="8382240" cy="46609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880" y="380880"/>
                    <a:ext cx="8382240" cy="466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0" name="" descr=""/>
          <p:cNvPicPr/>
          <p:nvPr/>
        </p:nvPicPr>
        <p:blipFill>
          <a:blip r:embed="rId4"/>
          <a:stretch/>
        </p:blipFill>
        <p:spPr>
          <a:xfrm>
            <a:off x="0" y="6170760"/>
            <a:ext cx="1828800" cy="67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1828800" y="304920"/>
            <a:ext cx="601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Times New Roman"/>
              </a:rPr>
              <a:t>SECINĀJUM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0" y="6170760"/>
            <a:ext cx="1828800" cy="67932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85800" y="1905120"/>
            <a:ext cx="784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Times New Roman"/>
              </a:rPr>
              <a:t>1. Darba devēji pamatā ir informēti par VDI un tās darbību regulējošiem normatīvajiem akti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3124080"/>
            <a:ext cx="784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Times New Roman"/>
              </a:rPr>
              <a:t>2. Darba devēji vēlētos saņemt lielāku konsultatīvo atbalstu no VDI darba aizsardzības jautājum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1828800" y="304920"/>
            <a:ext cx="601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Times New Roman"/>
              </a:rPr>
              <a:t>SECINĀJUM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85800" y="1600200"/>
            <a:ext cx="784872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Times New Roman"/>
              </a:rPr>
              <a:t>3. Darba devēji samērā vāji pārzina tādus jautājumus kā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Times New Roman"/>
              </a:rPr>
              <a:t>- darba vides riska novērtēša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Times New Roman"/>
              </a:rPr>
              <a:t>- darba vides iekšējās uzraudzības veikša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Times New Roman"/>
              </a:rPr>
              <a:t>- darba aizsardzības sistēmas organizēša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Times New Roman"/>
              </a:rPr>
              <a:t>- kompetentās institūcijas un kompetentie speciālis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2"/>
          <a:stretch/>
        </p:blipFill>
        <p:spPr>
          <a:xfrm>
            <a:off x="0" y="6170760"/>
            <a:ext cx="1828800" cy="67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" descr=""/>
          <p:cNvPicPr/>
          <p:nvPr/>
        </p:nvPicPr>
        <p:blipFill>
          <a:blip r:embed="rId2"/>
          <a:stretch/>
        </p:blipFill>
        <p:spPr>
          <a:xfrm>
            <a:off x="0" y="6170760"/>
            <a:ext cx="1828800" cy="67932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533520" y="1752480"/>
            <a:ext cx="7848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1" lang="lv-LV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Ļoti mazā daļā uzņēmumu (zem 15%) pilnībā tiek veikta darba vides iekšējā uzraudzība un darba vides riska novērtēšana. Gandrīz puse aptaujāto atzīst, ka viņu uzņēmumā šādi pasākumi vispār netiek veikti</a:t>
            </a:r>
            <a:r>
              <a:rPr b="1" lang="lv-LV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828800" y="533520"/>
            <a:ext cx="601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Times New Roman"/>
              </a:rPr>
              <a:t>SECINĀJUM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1828800" y="228600"/>
            <a:ext cx="601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Times New Roman"/>
              </a:rPr>
              <a:t>SECINĀJUM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0" y="6170760"/>
            <a:ext cx="1828800" cy="67932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685800" y="1447920"/>
            <a:ext cx="7848720" cy="34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Times New Roman"/>
              </a:rPr>
              <a:t>5. G</a:t>
            </a:r>
            <a:r>
              <a:rPr b="1" lang="lv-LV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venās problēmas jauno darba aizsardzības likumdošanas prasību ieviešanā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lv-LV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ehnisko dokumentu (standartu) trūku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lv-LV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eskaidras prasības normatīvajos ak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lv-LV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epietiekams finansēju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lv-LV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ttiecīgo speciālistu trūku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lv-LV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epietiekamas zināšanas un informāci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0" y="6170760"/>
            <a:ext cx="1828800" cy="67932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1828800" y="228600"/>
            <a:ext cx="601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Times New Roman"/>
              </a:rPr>
              <a:t>SECINĀJUM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33520" y="1676520"/>
            <a:ext cx="7848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Times New Roman"/>
              </a:rPr>
              <a:t>6. U</a:t>
            </a:r>
            <a:r>
              <a:rPr b="1" lang="lv-LV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ņēmumiem nepieciešams daudz vairāk informācijas, skaidrojošo materiālu un vadlīniju par normatīvajiem aktiem un to svarīgākajām prasībām - darba vides riska novērtēšanu, darba aizsardzības sistēmas organizēšanu, darba vides iekšējās uzraudzības veikšana, kompetento institūciju un kompetento speciālistu piesaistīšanu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7" name=""/>
          <p:cNvGraphicFramePr/>
          <p:nvPr/>
        </p:nvGraphicFramePr>
        <p:xfrm>
          <a:off x="533520" y="533520"/>
          <a:ext cx="8229600" cy="45831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520" y="533520"/>
                    <a:ext cx="8229600" cy="458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0" y="6170760"/>
            <a:ext cx="1828800" cy="67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0" name=""/>
          <p:cNvGraphicFramePr/>
          <p:nvPr/>
        </p:nvGraphicFramePr>
        <p:xfrm>
          <a:off x="685800" y="1219320"/>
          <a:ext cx="7924680" cy="44067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1219320"/>
                    <a:ext cx="7924680" cy="440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"/>
          <p:cNvSpPr/>
          <p:nvPr/>
        </p:nvSpPr>
        <p:spPr>
          <a:xfrm>
            <a:off x="838080" y="609480"/>
            <a:ext cx="7772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Times New Roman"/>
              </a:rPr>
              <a:t>B. Ziņas par Valsts darba inspekcij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4"/>
          <a:stretch/>
        </p:blipFill>
        <p:spPr>
          <a:xfrm>
            <a:off x="0" y="6170760"/>
            <a:ext cx="1828800" cy="67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4" name=""/>
          <p:cNvGraphicFramePr/>
          <p:nvPr/>
        </p:nvGraphicFramePr>
        <p:xfrm>
          <a:off x="609480" y="609480"/>
          <a:ext cx="8153640" cy="45342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609480"/>
                    <a:ext cx="8153640" cy="453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6" name="" descr=""/>
          <p:cNvPicPr/>
          <p:nvPr/>
        </p:nvPicPr>
        <p:blipFill>
          <a:blip r:embed="rId4"/>
          <a:stretch/>
        </p:blipFill>
        <p:spPr>
          <a:xfrm>
            <a:off x="0" y="6170760"/>
            <a:ext cx="1828800" cy="67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7" name=""/>
          <p:cNvGraphicFramePr/>
          <p:nvPr/>
        </p:nvGraphicFramePr>
        <p:xfrm>
          <a:off x="609480" y="685800"/>
          <a:ext cx="8001000" cy="44481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685800"/>
                    <a:ext cx="8001000" cy="444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0" y="6170760"/>
            <a:ext cx="1828800" cy="67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0" name=""/>
          <p:cNvGraphicFramePr/>
          <p:nvPr/>
        </p:nvGraphicFramePr>
        <p:xfrm>
          <a:off x="609480" y="609480"/>
          <a:ext cx="8077320" cy="44910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609480"/>
                    <a:ext cx="8077320" cy="449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2" name="" descr=""/>
          <p:cNvPicPr/>
          <p:nvPr/>
        </p:nvPicPr>
        <p:blipFill>
          <a:blip r:embed="rId4"/>
          <a:stretch/>
        </p:blipFill>
        <p:spPr>
          <a:xfrm>
            <a:off x="0" y="6170760"/>
            <a:ext cx="1828800" cy="67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3" name=""/>
          <p:cNvGraphicFramePr/>
          <p:nvPr/>
        </p:nvGraphicFramePr>
        <p:xfrm>
          <a:off x="685800" y="533520"/>
          <a:ext cx="8001000" cy="44481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533520"/>
                    <a:ext cx="8001000" cy="444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5" name="" descr=""/>
          <p:cNvPicPr/>
          <p:nvPr/>
        </p:nvPicPr>
        <p:blipFill>
          <a:blip r:embed="rId4"/>
          <a:stretch/>
        </p:blipFill>
        <p:spPr>
          <a:xfrm>
            <a:off x="0" y="6170760"/>
            <a:ext cx="1828800" cy="67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2T15:16:50Z</dcterms:created>
  <dc:creator>Andris Pommers</dc:creator>
  <dc:description/>
  <dc:language>en-US</dc:language>
  <cp:lastModifiedBy>Andris Pommers</cp:lastModifiedBy>
  <dcterms:modified xsi:type="dcterms:W3CDTF">2003-01-03T08:02:06Z</dcterms:modified>
  <cp:revision>7</cp:revision>
  <dc:subject/>
  <dc:title>PowerPoint Presentation</dc:title>
</cp:coreProperties>
</file>