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C510-08F0-4470-95B2-7177F151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EF37-48D9-4CCA-B6B4-4BB5D9E5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96EC-C92A-4047-9D99-9AC4D0E1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70A0-608F-4CD1-9467-54B681D8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558A-9A45-475C-B0AD-B477B12B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1A60-282F-4954-9408-2C1C1795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24EB-41B8-4C0B-AEE3-58F2E2F2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556D-7339-4948-89F9-FDB3AB9C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4F7E-E442-46C9-AF1E-72BEC03B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6BE8-02F2-4276-85F1-A76CB692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3C4F-70E8-4F8E-8C4A-ED3F326E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678A-E0A4-4009-A297-D3FE1924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F91D-5C9E-47FD-83E2-5076D4D4EC64}" type="slidenum"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Arial Black"/>
              </a:rPr>
              <a:t>D</a:t>
            </a:r>
            <a:r>
              <a:rPr b="1" lang="lv-LV" sz="32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arba dev</a:t>
            </a:r>
            <a:r>
              <a:rPr b="1" lang="lv-LV" sz="3200" spc="-1" strike="noStrike">
                <a:solidFill>
                  <a:srgbClr val="008000"/>
                </a:solidFill>
                <a:latin typeface="Arial Black"/>
              </a:rPr>
              <a:t>ē</a:t>
            </a:r>
            <a:r>
              <a:rPr b="1" lang="lv-LV" sz="32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ju viedokl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par </a:t>
            </a:r>
            <a:r>
              <a:rPr b="1" lang="lv-LV" sz="3200" spc="-1" strike="noStrike">
                <a:solidFill>
                  <a:srgbClr val="008000"/>
                </a:solidFill>
                <a:latin typeface="Arial Black"/>
              </a:rPr>
              <a:t>darba liku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3333cc"/>
                </a:solidFill>
                <a:latin typeface="Arial Black"/>
              </a:rPr>
              <a:t>A/s “I.B.N.A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cc"/>
                </a:solidFill>
                <a:latin typeface="Arial Black"/>
              </a:rPr>
              <a:t>2002.gada 26.novembris – 2002.gada 16.decemb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8. Vai uzskatāt, ka Darba likumā ir nepieciešams veikt grozījumu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3520" y="1938240"/>
          <a:ext cx="7924680" cy="449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938240"/>
                    <a:ext cx="792468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10. Vai Darba likuma piemērošana ietekmēja Jūsu uzņēmuma darbību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2090880"/>
          <a:ext cx="7848720" cy="4456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90880"/>
                    <a:ext cx="784872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11. Kur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 jom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 J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ū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su uz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ņē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muma darbību ir sk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rušas izmai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ņ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a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33520" y="1933560"/>
          <a:ext cx="7696080" cy="4368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933560"/>
                    <a:ext cx="7696080" cy="43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14. Izvērtējot iepriekšējās atbildes, kā, Jūsuprāt, Darba likuma jaunās prasības kopumā iespaido uzņēmējdarbību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80880" y="2244600"/>
          <a:ext cx="7772400" cy="438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44600"/>
                    <a:ext cx="777240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15. Kādā sektorā darbojas Jūsu uzņēmum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2235240"/>
          <a:ext cx="8077320" cy="4300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235240"/>
                    <a:ext cx="807732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16. Cik cilvēku strādā Jūsu uzņēmumā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938240"/>
          <a:ext cx="7772400" cy="4381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38240"/>
                    <a:ext cx="777240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I. INFORM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Ē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ŠANA PAR DARBA LIKUMU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1. Informēšanas laik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2. Informācijas avot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3. Informācijas pasniegšanas forma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II. IZPRATNE PAR DARBA LIKUMU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1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Vidējās izpeļņas aprēķināšana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2.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Atvaļinājuma un atvaļinājuma naudas aprēķināšana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3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Uzteikum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4.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Darba līguma uzteikums sakarā ar tajā piedāvātajiem grozījum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Times New Roman"/>
              </a:rPr>
              <a:t>5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Times New Roman"/>
              </a:rPr>
              <a:t>Summētais darba laik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6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Vidējās izpeļņas saglabāšana svētku dienā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7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Neērtās nianse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III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.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 CITAS GR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Ū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TĪBA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1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Invalīdu atlaišana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Interneta resursu un bukletu palielinā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2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Uzteikuma termiņš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3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Vienlīdzīgu tiesību princip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IV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.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  PRIEKŠLIKUMI DARBA LIKUMA PRECIZ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ĒŠ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ANAI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1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Vidējās izpeļņas aprēķinā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2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Atvaļinājuma un atvaļinājuma naudas aprēķināšana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3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Uzteikums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4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Darba līguma uzteikums sakarā ar tajā piedāvātajiem grozījumiem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5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Summētais darba laiks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6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Vidējās izpeļņas saglabāšana svētku dienās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7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Uzteikuma termiņš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8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Darbinieku skaita samazināšana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cc3300"/>
                </a:solidFill>
                <a:latin typeface="Times New Roman"/>
              </a:rPr>
              <a:t>SAT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b0f9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b0f9a"/>
                </a:solidFill>
                <a:latin typeface="Times New Roman"/>
              </a:rPr>
              <a:t>ANKETAS D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b0f9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b0f9a"/>
                </a:solidFill>
                <a:latin typeface="Times New Roman"/>
              </a:rPr>
              <a:t>SECINĀJUMI UN IETEIK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b0f9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b0f9a"/>
                </a:solidFill>
                <a:latin typeface="Times New Roman"/>
              </a:rPr>
              <a:t>DEB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1. Vai pirms Darba likuma sp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ē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k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 st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š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an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s Jums bija inform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cija par to, ka gaid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ms jauns darba attiec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ī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bas regul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ē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jo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š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s likums?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4920" y="1631880"/>
          <a:ext cx="8839080" cy="4722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631880"/>
                    <a:ext cx="88390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14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2. Vai J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ū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supr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t par Darba likuma m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ē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rķi un gaidāmajām izmaiņām tika sniegta pilnīga informācija?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2033640"/>
          <a:ext cx="8153280" cy="4621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033640"/>
                    <a:ext cx="8153280" cy="46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640" y="1488960"/>
            <a:ext cx="77724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3. Kur jūs ieguvāt informāciju par Darba likumu?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295280" y="1895400"/>
          <a:ext cx="8163000" cy="4633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895400"/>
                    <a:ext cx="81630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4. Kuru institūciju sniegtajiem Darba likuma skaidrojumiem Jūs uzticaties visvairāk (atzīmēt ar skaitļiem 1,2,3 tās trīs institūcijas, kurām uzticaties visvairāk, piešķirot skaitli 1 institūcijai, kurai visvairāk uzticatie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0988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2476440"/>
          <a:ext cx="6858000" cy="4219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476440"/>
                    <a:ext cx="685800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5. Kā Jūs vērtējat savas zināšanas par Darba likumu?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2092320"/>
          <a:ext cx="8001000" cy="453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92320"/>
                    <a:ext cx="800100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6. Kādus tieši jautājumus pārzināt vissliktāk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14400" y="2244600"/>
          <a:ext cx="7543800" cy="4257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244600"/>
                    <a:ext cx="754380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7. Darba likuma prasību piemērošana uzņēmuma darbībā ir: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00200" y="2192400"/>
          <a:ext cx="7132680" cy="3797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0200" y="2192400"/>
                    <a:ext cx="713268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7:12:40Z</dcterms:created>
  <dc:creator>x</dc:creator>
  <dc:description/>
  <dc:language>en-US</dc:language>
  <cp:lastModifiedBy>peteris</cp:lastModifiedBy>
  <dcterms:modified xsi:type="dcterms:W3CDTF">2003-01-03T09:33:51Z</dcterms:modified>
  <cp:revision>140</cp:revision>
  <dc:subject/>
  <dc:title>Mikroklimats un Ventilācija</dc:title>
</cp:coreProperties>
</file>