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0D9-CFDD-4E08-8610-A99FC35B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B75-515C-4C6B-9FC9-5989A17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7C9-68D6-4AD6-B8A5-6AE4DB56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C8A-6C02-4BDD-8F3E-8B52B826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C4D-CACA-437D-B85B-576C6A8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84F-0D78-4242-9EEE-E92CAC22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12C-7A75-40E0-939E-15EF6003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5AA-9B1B-41C6-BED4-32A6F02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F8C-F71F-4BB8-AB7A-C5803B0C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442-5073-4A39-82EF-6C5A74A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6CD-F383-46A5-8CE6-F59144F4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C75-7642-43D0-BCEB-947D1466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ECA6-6DF5-4323-A470-199C887843ED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arba lik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cc"/>
                </a:solidFill>
                <a:latin typeface="Arial Black"/>
              </a:rPr>
              <a:t>2002.gada 26.novembris – 2002.gada 16.dec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8. Vai uzskatāt, ka Darba likumā ir nepieciešams veikt grozījumu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938240"/>
          <a:ext cx="7924680" cy="449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8240"/>
                    <a:ext cx="7924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0. Vai Darba likuma piemērošana ietekmēja Jūsu uzņēmuma 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090880"/>
          <a:ext cx="7848720" cy="445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0880"/>
                    <a:ext cx="7848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11. Ku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o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su uz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muma darbību ir s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rušas izmai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933560"/>
          <a:ext cx="7696080" cy="436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3560"/>
                    <a:ext cx="76960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4. Izvērtējot iepriekšējās atbildes, kā, Jūsuprāt, Darba likuma jaunās prasības kopumā iespaido uzņēmēj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244600"/>
          <a:ext cx="7772400" cy="438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44600"/>
                    <a:ext cx="77724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5. Kādā sektorā darbojas Jūsu uzņēmum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2235240"/>
          <a:ext cx="8077320" cy="430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35240"/>
                    <a:ext cx="80773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6. Cik cilvēku strādā Jūsu uzņēmumā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38240"/>
          <a:ext cx="7772400" cy="438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38240"/>
                    <a:ext cx="77724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. INFORM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Ē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ŠANA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Informēšanas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Informācijas avot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Informācijas pasniegšanas form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. IZPRATNE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4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Darba līguma uzteikums sakarā ar tajā piedāvātajiem grozīj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5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Summētais darba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Neērtās nianse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I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CITAS GR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Ū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TĪBA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nvalīdu atlai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Interneta resursu un bukletu paliel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enlīdzīgu tiesību princip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IV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  PRIEKŠLIKUMI DARBA LIKUMA PRECIZ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Ē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NAI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aprēķ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4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a līguma uzteikums sakarā ar tajā piedāvātajiem grozījumiem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5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Summētais darba laik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8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inieku skaita samaz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. Vai pirms Darba likuma sp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 st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an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Jums bija infor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cija par to, ka gaid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ms jauns darba attiec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bas regul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jo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likums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631880"/>
          <a:ext cx="8839080" cy="472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31880"/>
                    <a:ext cx="88390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2. Vai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up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t par Darba likuma 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rķi un gaidāmajām izmaiņām tika sniegta pilnīga informācija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033640"/>
          <a:ext cx="8153280" cy="462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33640"/>
                    <a:ext cx="81532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640" y="148896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3. Kur jūs ieguvāt informāciju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5280" y="1895400"/>
          <a:ext cx="81630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95400"/>
                    <a:ext cx="81630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4. Kuru institūciju sniegtajiem Darba likuma skaidrojumiem Jūs uzticaties visvairāk (atzīmēt ar skaitļiem 1,2,3 tās trīs institūcijas, kurām uzticaties visvairāk, piešķirot skaitli 1 institūcijai, kurai visvairāk uzticatie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98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476440"/>
          <a:ext cx="6858000" cy="421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476440"/>
                    <a:ext cx="6858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5. Kā Jūs vērtējat savas zināšanas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2092320"/>
          <a:ext cx="800100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2320"/>
                    <a:ext cx="80010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6. Kādus tieši jautājumus pārzināt vissliktāk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244600"/>
          <a:ext cx="7543800" cy="425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44600"/>
                    <a:ext cx="75438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7. Darba likuma prasību piemērošana uzņēmuma darbībā ir: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0200" y="2192400"/>
          <a:ext cx="7132680" cy="379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2192400"/>
                    <a:ext cx="71326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9:33:51Z</dcterms:modified>
  <cp:revision>140</cp:revision>
  <dc:subject/>
  <dc:title>Mikroklimats un Ventilācija</dc:title>
</cp:coreProperties>
</file>