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57D-BE7C-4DD7-BC5C-D09B7F77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31C-F366-47EB-AFC9-12EA76F6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D61-D110-40E1-A6F1-DE828BF6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125-3AB0-4CF0-9794-258DE665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F09-08DD-4EBE-BC76-8DF44040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9A5-7A15-45AD-892C-75C97870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4F6-DACF-4C42-99CC-E3D1F91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3B5-DEF1-4D1F-9E35-53BA70F6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A38-EBE6-408B-8B60-7E241F96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F74-DB09-4E62-A115-9EA3B71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0E2-FC10-4135-968B-CA391C8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37F-144A-4CB8-BE14-8317268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0E2-2D2A-483A-94BE-D5BF048638B0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arba li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cc"/>
                </a:solidFill>
                <a:latin typeface="Arial Black"/>
              </a:rPr>
              <a:t>2002.gada 26.novembris – 2002.gada 16.dec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8. Vai uzskatāt, ka Darba likumā ir nepieciešams veikt grozījumu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938240"/>
          <a:ext cx="792468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824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0. Vai Darba likuma piemērošana ietekmēja Jūsu uzņēmuma 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090880"/>
          <a:ext cx="7848720" cy="44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0880"/>
                    <a:ext cx="7848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11. Ku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o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su uz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muma darbību ir s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rušas izmai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933560"/>
          <a:ext cx="769608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3560"/>
                    <a:ext cx="76960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4. Izvērtējot iepriekšējās atbildes, kā, Jūsuprāt, Darba likuma jaunās prasības kopumā iespaido uzņēmēj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244600"/>
          <a:ext cx="77724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44600"/>
                    <a:ext cx="7772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5. Kādā sektorā darbojas Jūsu uzņēmum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35240"/>
          <a:ext cx="807732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35240"/>
                    <a:ext cx="80773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6. Cik cilvēku strādā Jūsu uzņēmum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38240"/>
          <a:ext cx="777240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38240"/>
                    <a:ext cx="77724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. INFORM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Ē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ŠANA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Informēšanas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Informācijas avot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Informācijas pasniegšanas form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. IZPRATNE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4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Darba līguma uzteikums sakarā ar tajā piedāvātajiem groz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5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Summētais darba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Neērtās nianse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I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CITAS GR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Ū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TĪBA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nvalīdu atlai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Interneta resursu un bukletu palie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enlīdzīgu tiesību princip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IV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  PRIEKŠLIKUMI DARBA LIKUMA PRECIZ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Ē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NAI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aprēķ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4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a līguma uzteikums sakarā ar tajā piedāvātajiem grozījumiem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5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Summētais darba laik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8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inieku skaita samaz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. Vai pirms Darba likuma sp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 st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an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Jums bija infor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cija par to, ka gaid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ms jauns darba attiec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bas regul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jo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likums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631880"/>
          <a:ext cx="8839080" cy="472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31880"/>
                    <a:ext cx="88390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2. Vai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up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t par Darba likuma 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rķi un gaidāmajām izmaiņām tika sniegta pilnīga informācija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033640"/>
          <a:ext cx="8153280" cy="462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33640"/>
                    <a:ext cx="81532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48896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3. Kur jūs ieguvāt informāciju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1895400"/>
          <a:ext cx="81630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95400"/>
                    <a:ext cx="81630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4. Kuru institūciju sniegtajiem Darba likuma skaidrojumiem Jūs uzticaties visvairāk (atzīmēt ar skaitļiem 1,2,3 tās trīs institūcijas, kurām uzticaties visvairāk, piešķirot skaitli 1 institūcijai, kurai visvairāk uzticatie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476440"/>
          <a:ext cx="6858000" cy="421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476440"/>
                    <a:ext cx="6858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5. Kā Jūs vērtējat savas zināšanas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2092320"/>
          <a:ext cx="800100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2320"/>
                    <a:ext cx="8001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6. Kādus tieši jautājumus pārzināt vissliktāk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244600"/>
          <a:ext cx="7543800" cy="425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44600"/>
                    <a:ext cx="7543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7. Darba likuma prasību piemērošana uzņēmuma darbībā ir: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0200" y="2192400"/>
          <a:ext cx="7132680" cy="37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2192400"/>
                    <a:ext cx="71326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9:33:51Z</dcterms:modified>
  <cp:revision>140</cp:revision>
  <dc:subject/>
  <dc:title>Mikroklimats un Ventilācija</dc:title>
</cp:coreProperties>
</file>