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1A0-6319-4199-86B5-A234DC67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4CB-F90A-4CDC-B58B-01D1E80C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5CC-8E42-455A-9E52-DFA663C1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D14-CB66-4B8E-9969-054DB3C7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72C-DFBE-4431-9C2D-64D5746C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948-E627-464D-8CC5-2C29DCDF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A2C-B15A-4D16-8A69-83BCFB2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D67-A79A-44BA-9A00-6FFB31A1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77C-6A80-4C11-AB8B-24188996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099-09C8-4259-BC61-B468FA9B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56F-2DC6-4B95-AB7B-9B1591F3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8D6-FA29-4C4A-ABFC-13FCEEA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D58D-0582-4B12-972D-0954FECB6B23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arba dev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ē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ju viedok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par </a:t>
            </a:r>
            <a:r>
              <a:rPr b="1" lang="lv-LV" sz="3200" spc="-1" strike="noStrike">
                <a:solidFill>
                  <a:srgbClr val="008000"/>
                </a:solidFill>
                <a:latin typeface="Arial Black"/>
              </a:rPr>
              <a:t>darba lik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cc"/>
                </a:solidFill>
                <a:latin typeface="Arial Black"/>
              </a:rPr>
              <a:t>A/s “I.B.N.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cc"/>
                </a:solidFill>
                <a:latin typeface="Arial Black"/>
              </a:rPr>
              <a:t>2002.gada 26.novembris – 2002.gada 16.dec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8. Vai uzskatāt, ka Darba likumā ir nepieciešams veikt grozījumu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938240"/>
          <a:ext cx="7924680" cy="449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8240"/>
                    <a:ext cx="79246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0. Vai Darba likuma piemērošana ietekmēja Jūsu uzņēmuma 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090880"/>
          <a:ext cx="7848720" cy="445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0880"/>
                    <a:ext cx="78487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11. Ku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o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su uz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muma darbību ir s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rušas izmai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ņ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933560"/>
          <a:ext cx="7696080" cy="436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933560"/>
                    <a:ext cx="76960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4. Izvērtējot iepriekšējās atbildes, kā, Jūsuprāt, Darba likuma jaunās prasības kopumā iespaido uzņēmējdarbību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244600"/>
          <a:ext cx="7772400" cy="438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44600"/>
                    <a:ext cx="77724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5. Kādā sektorā darbojas Jūsu uzņēmum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2235240"/>
          <a:ext cx="8077320" cy="430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35240"/>
                    <a:ext cx="80773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6. Cik cilvēku strādā Jūsu uzņēmumā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38240"/>
          <a:ext cx="7772400" cy="4381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38240"/>
                    <a:ext cx="77724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. INFORM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Ē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ŠANA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Informēšanas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Informācijas avot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Informācijas pasniegšanas form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. IZPRATNE PAR DARBA LIKUMU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4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Darba līguma uzteikums sakarā ar tajā piedāvātajiem grozīj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5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Times New Roman"/>
              </a:rPr>
              <a:t>Summētais darba laik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Neērtās nianse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II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 CITAS GR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Ū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TĪBA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Invalīdu atlaišana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Interneta resursu un bukletu paliel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  <a:ea typeface="Arial"/>
              </a:rPr>
              <a:t>Vienlīdzīgu tiesību princips</a:t>
            </a:r>
            <a:r>
              <a:rPr b="1" lang="lv-LV" sz="2400" spc="-1" strike="noStrike">
                <a:solidFill>
                  <a:srgbClr val="b921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892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Secinājumi un ieteiku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IV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.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  PRIEKŠLIKUMI DARBA LIKUMA PRECIZ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Ē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NAI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1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aprēķinā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2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Atvaļinājuma un atvaļinājuma naudas aprēķ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3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4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a līguma uzteikums sakarā ar tajā piedāvātajiem grozījumiem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5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Summētais darba laik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6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Vidējās izpeļņas saglabāšana svētku dienās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7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Uzteikuma termiņš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8. 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  <a:ea typeface="Arial"/>
              </a:rPr>
              <a:t>Darbinieku skaita samazināšana</a:t>
            </a:r>
            <a:r>
              <a:rPr b="1" lang="lv-LV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c3300"/>
                </a:solidFill>
                <a:latin typeface="Times New Roman"/>
              </a:rPr>
              <a:t>SAT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ANKETAS 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SECINĀJUMI UN IE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b0f9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b0f9a"/>
                </a:solidFill>
                <a:latin typeface="Times New Roman"/>
              </a:rPr>
              <a:t>DEB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1. Vai pirms Darba likuma sp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k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 st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an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Jums bija infor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cija par to, ka gaid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ms jauns darba attiec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bas regul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jo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 likums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631880"/>
          <a:ext cx="8839080" cy="472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31880"/>
                    <a:ext cx="88390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2. Vai J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ū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supr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ā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t par Darba likuma m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ē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rķi un gaidāmajām izmaiņām tika sniegta pilnīga informācija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2033640"/>
          <a:ext cx="8153280" cy="462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33640"/>
                    <a:ext cx="815328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640" y="148896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3. Kur jūs ieguvāt informāciju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95280" y="1895400"/>
          <a:ext cx="8163000" cy="46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95400"/>
                    <a:ext cx="81630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4. Kuru institūciju sniegtajiem Darba likuma skaidrojumiem Jūs uzticaties visvairāk (atzīmēt ar skaitļiem 1,2,3 tās trīs institūcijas, kurām uzticaties visvairāk, piešķirot skaitli 1 institūcijai, kurai visvairāk uzticaties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98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476440"/>
          <a:ext cx="6858000" cy="421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476440"/>
                    <a:ext cx="68580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5. Kā Jūs vērtējat savas zināšanas par Darba likumu?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2092320"/>
          <a:ext cx="8001000" cy="453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92320"/>
                    <a:ext cx="800100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6. Kādus tieši jautājumus pārzināt vissliktāk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2244600"/>
          <a:ext cx="7543800" cy="4257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44600"/>
                    <a:ext cx="75438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c3300"/>
                </a:solidFill>
                <a:latin typeface="Times New Roman"/>
              </a:rPr>
              <a:t>Anketēšanas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cc3300"/>
                </a:solidFill>
                <a:latin typeface="Arial"/>
                <a:ea typeface="Arial"/>
              </a:rPr>
              <a:t>7. Darba likuma prasību piemērošana uzņēmuma darbībā ir:</a:t>
            </a:r>
            <a:r>
              <a:rPr b="1" lang="lv-LV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0200" y="2192400"/>
          <a:ext cx="7132680" cy="379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2192400"/>
                    <a:ext cx="71326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7:12:40Z</dcterms:created>
  <dc:creator>x</dc:creator>
  <dc:description/>
  <dc:language>en-US</dc:language>
  <cp:lastModifiedBy>peteris</cp:lastModifiedBy>
  <dcterms:modified xsi:type="dcterms:W3CDTF">2003-01-03T09:33:51Z</dcterms:modified>
  <cp:revision>140</cp:revision>
  <dc:subject/>
  <dc:title>Mikroklimats un Ventilācija</dc:title>
</cp:coreProperties>
</file>