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18F-1C56-47D6-B106-B49D161F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79C-1F1F-4251-8881-A669632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82C-634C-4ACC-BC5B-34AB2EB6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2C3-931B-456D-998B-73606F02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123-3383-4B49-8D01-AC716329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52C-CC7C-4684-89E0-90DA798F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F71-A562-47C7-85BB-F58175DE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EDA-18DC-423C-BE58-48BFFFF8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450-6AAD-4BB5-9BD4-C107791A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5C3-5FFD-4FA3-A69F-899E699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3A9-D960-4393-98E6-A8852707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97B-C4AB-4EAC-97C8-9AD1F84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FD24-9F94-4D96-8666-F13C70DC99FF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Latvijas ties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u ak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“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ndustr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lo iek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tirgus uzraudz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48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Kuriem no šiem apgalvojumiem p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t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36720" y="2251080"/>
            <a:ext cx="6644880" cy="3503520"/>
            <a:chOff x="1836720" y="2251080"/>
            <a:chExt cx="6644880" cy="3503520"/>
          </a:xfrm>
        </p:grpSpPr>
        <p:sp>
          <p:nvSpPr>
            <p:cNvPr id="40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0" y="203"/>
                  </a:moveTo>
                  <a:lnTo>
                    <a:pt x="267" y="0"/>
                  </a:lnTo>
                  <a:lnTo>
                    <a:pt x="2303" y="0"/>
                  </a:lnTo>
                  <a:lnTo>
                    <a:pt x="203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485316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4371840"/>
              <a:ext cx="3655800" cy="3207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1880" y="390384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880" y="343548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71880" y="295272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880" y="2486160"/>
              <a:ext cx="3655800" cy="3204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2303" y="0"/>
                  </a:moveTo>
                  <a:lnTo>
                    <a:pt x="2036" y="203"/>
                  </a:lnTo>
                  <a:lnTo>
                    <a:pt x="0" y="203"/>
                  </a:lnTo>
                  <a:lnTo>
                    <a:pt x="267" y="0"/>
                  </a:lnTo>
                  <a:lnTo>
                    <a:pt x="230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5480" y="2895480"/>
              <a:ext cx="176040" cy="2659320"/>
            </a:xfrm>
            <a:custGeom>
              <a:avLst/>
              <a:gdLst/>
              <a:ahLst/>
              <a:rect l="l" t="t" r="r" b="b"/>
              <a:pathLst>
                <a:path w="111" h="1675">
                  <a:moveTo>
                    <a:pt x="0" y="1675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1593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8680" y="3027240"/>
              <a:ext cx="496800" cy="252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8680" y="2895480"/>
              <a:ext cx="67284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080" y="5000760"/>
              <a:ext cx="174600" cy="554040"/>
            </a:xfrm>
            <a:custGeom>
              <a:avLst/>
              <a:gdLst/>
              <a:ahLst/>
              <a:rect l="l" t="t" r="r" b="b"/>
              <a:pathLst>
                <a:path w="110" h="349">
                  <a:moveTo>
                    <a:pt x="0" y="349"/>
                  </a:moveTo>
                  <a:lnTo>
                    <a:pt x="0" y="82"/>
                  </a:lnTo>
                  <a:lnTo>
                    <a:pt x="110" y="0"/>
                  </a:lnTo>
                  <a:lnTo>
                    <a:pt x="110" y="267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5480" y="5130720"/>
              <a:ext cx="498600" cy="424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5480" y="5000760"/>
              <a:ext cx="673200" cy="129960"/>
            </a:xfrm>
            <a:custGeom>
              <a:avLst/>
              <a:gdLst/>
              <a:ahLst/>
              <a:rect l="l" t="t" r="r" b="b"/>
              <a:pathLst>
                <a:path w="424" h="82">
                  <a:moveTo>
                    <a:pt x="314" y="82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2"/>
                  </a:lnTo>
                  <a:lnTo>
                    <a:pt x="314" y="8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5057640"/>
              <a:ext cx="174600" cy="49716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0" y="313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3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4080" y="5189400"/>
              <a:ext cx="496800" cy="3654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4080" y="505764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102280"/>
              <a:ext cx="174600" cy="45252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285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0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0880" y="5234040"/>
              <a:ext cx="496800" cy="3207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0880" y="510228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4480" y="53071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156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7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5438880"/>
              <a:ext cx="496800" cy="115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7680" y="5307120"/>
              <a:ext cx="67320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8680" y="3100320"/>
              <a:ext cx="4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5760" y="5205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7960" y="5248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9360" y="5262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0240" y="5043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71880" y="2806200"/>
              <a:ext cx="1440" cy="28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128680" y="5643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28680" y="5175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28680" y="4692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128680" y="4226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128680" y="3757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28680" y="3274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28680" y="28065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8680" y="552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0040" y="505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6720" y="4576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6720" y="4108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36720" y="363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6720" y="3157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720" y="2690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07120" y="232560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5840" y="2251080"/>
              <a:ext cx="159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vietē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7640" y="248616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3100320"/>
              <a:ext cx="1033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1880" y="3027240"/>
              <a:ext cx="161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ārvals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7640" y="326088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07120" y="3875040"/>
              <a:ext cx="1033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6200" y="380196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kaitē viet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6560" y="4035600"/>
              <a:ext cx="10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07120" y="464976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0520" y="457668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neietekm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2240" y="4809960"/>
              <a:ext cx="20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, bet tikai tēr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400" y="504360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valsts budže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7120" y="5424480"/>
              <a:ext cx="103320" cy="101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11960" y="53514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ien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varat raksturot CE m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ķ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u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as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028960" y="2325600"/>
            <a:ext cx="5895720" cy="1985400"/>
            <a:chOff x="2028960" y="2325600"/>
            <a:chExt cx="5895720" cy="1985400"/>
          </a:xfrm>
        </p:grpSpPr>
        <p:sp>
          <p:nvSpPr>
            <p:cNvPr id="476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0" y="275"/>
                  </a:moveTo>
                  <a:lnTo>
                    <a:pt x="363" y="0"/>
                  </a:lnTo>
                  <a:lnTo>
                    <a:pt x="3489" y="0"/>
                  </a:lnTo>
                  <a:lnTo>
                    <a:pt x="3127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6080" y="3041640"/>
              <a:ext cx="5538600" cy="4348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6080" y="2325600"/>
              <a:ext cx="5538600" cy="43524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3489" y="0"/>
                  </a:moveTo>
                  <a:lnTo>
                    <a:pt x="3127" y="275"/>
                  </a:lnTo>
                  <a:lnTo>
                    <a:pt x="0" y="275"/>
                  </a:lnTo>
                  <a:lnTo>
                    <a:pt x="363" y="0"/>
                  </a:lnTo>
                  <a:lnTo>
                    <a:pt x="348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24200" y="3600360"/>
              <a:ext cx="217440" cy="466920"/>
            </a:xfrm>
            <a:custGeom>
              <a:avLst/>
              <a:gdLst/>
              <a:ahLst/>
              <a:rect l="l" t="t" r="r" b="b"/>
              <a:pathLst>
                <a:path w="137" h="294">
                  <a:moveTo>
                    <a:pt x="0" y="294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18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3772080"/>
              <a:ext cx="668160" cy="295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56040" y="3600360"/>
              <a:ext cx="88560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8320" y="2808360"/>
              <a:ext cx="233280" cy="1258920"/>
            </a:xfrm>
            <a:custGeom>
              <a:avLst/>
              <a:gdLst/>
              <a:ahLst/>
              <a:rect l="l" t="t" r="r" b="b"/>
              <a:pathLst>
                <a:path w="147" h="793">
                  <a:moveTo>
                    <a:pt x="0" y="793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686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24200" y="2978280"/>
              <a:ext cx="654120" cy="10890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4200" y="2808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6840" y="3833640"/>
              <a:ext cx="217440" cy="23364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0" y="147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8320" y="4005360"/>
              <a:ext cx="668520" cy="61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78320" y="38336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0600" y="3430440"/>
              <a:ext cx="233640" cy="636840"/>
            </a:xfrm>
            <a:custGeom>
              <a:avLst/>
              <a:gdLst/>
              <a:ahLst/>
              <a:rect l="l" t="t" r="r" b="b"/>
              <a:pathLst>
                <a:path w="147" h="401">
                  <a:moveTo>
                    <a:pt x="0" y="401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29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3600360"/>
              <a:ext cx="653760" cy="466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343044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69120" y="3538440"/>
              <a:ext cx="217440" cy="528840"/>
            </a:xfrm>
            <a:custGeom>
              <a:avLst/>
              <a:gdLst/>
              <a:ahLst/>
              <a:rect l="l" t="t" r="r" b="b"/>
              <a:pathLst>
                <a:path w="137" h="333">
                  <a:moveTo>
                    <a:pt x="0" y="333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22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0600" y="3710160"/>
              <a:ext cx="668520" cy="35712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0600" y="35384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9120" y="3897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bf606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600" y="381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2080" y="3103560"/>
              <a:ext cx="60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9240" y="3413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7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1960" y="372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1440" y="36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386080" y="2760480"/>
              <a:ext cx="1440" cy="14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40000" y="419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340000" y="34765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340000" y="2760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2800" y="406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28960" y="3352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28960" y="2637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84480" y="4595760"/>
            <a:ext cx="6688440" cy="1691640"/>
            <a:chOff x="2184480" y="4595760"/>
            <a:chExt cx="6688440" cy="1691640"/>
          </a:xfrm>
        </p:grpSpPr>
        <p:sp>
          <p:nvSpPr>
            <p:cNvPr id="515" name=""/>
            <p:cNvSpPr/>
            <p:nvPr/>
          </p:nvSpPr>
          <p:spPr>
            <a:xfrm>
              <a:off x="2184480" y="4659480"/>
              <a:ext cx="921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26320" y="4595760"/>
              <a:ext cx="312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Eiropas Savienības kvalitātes zī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4954680"/>
              <a:ext cx="9216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18760" y="4892760"/>
              <a:ext cx="44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zīme, ka produkcija atbilst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4480" y="5249880"/>
              <a:ext cx="92160" cy="936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2360" y="5187960"/>
              <a:ext cx="339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valsts, kurā atļauts iekārtu pārd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4480" y="5545080"/>
              <a:ext cx="92160" cy="936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8040" y="5483160"/>
              <a:ext cx="455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iestāde, kas veikusi attiecīgās iekārtas pārbau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84480" y="5840280"/>
              <a:ext cx="92160" cy="939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320" y="5778360"/>
              <a:ext cx="656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iekārtai piešķir ražotājs, kurš deklarē iekārtas atbilstību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4480" y="6137280"/>
              <a:ext cx="92160" cy="92160"/>
            </a:xfrm>
            <a:prstGeom prst="rect">
              <a:avLst/>
            </a:prstGeom>
            <a:solidFill>
              <a:srgbClr val="ff808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3520" y="607392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ekārta ir bīst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5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ir Latvijas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rt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, kas atrodas darba vie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36720" y="2681280"/>
            <a:ext cx="4224240" cy="3297240"/>
            <a:chOff x="1836720" y="2681280"/>
            <a:chExt cx="4224240" cy="3297240"/>
          </a:xfrm>
        </p:grpSpPr>
        <p:sp>
          <p:nvSpPr>
            <p:cNvPr id="532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0" y="249"/>
                  </a:moveTo>
                  <a:lnTo>
                    <a:pt x="332" y="0"/>
                  </a:lnTo>
                  <a:lnTo>
                    <a:pt x="2450" y="0"/>
                  </a:lnTo>
                  <a:lnTo>
                    <a:pt x="2118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71880" y="51944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71880" y="491652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46386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3624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71880" y="4068720"/>
              <a:ext cx="3889080" cy="409680"/>
            </a:xfrm>
            <a:custGeom>
              <a:avLst/>
              <a:gdLst/>
              <a:ahLst/>
              <a:rect l="l" t="t" r="r" b="b"/>
              <a:pathLst>
                <a:path w="266" h="28">
                  <a:moveTo>
                    <a:pt x="0" y="28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71880" y="37908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1880" y="35132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71880" y="323676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2959200"/>
              <a:ext cx="3889080" cy="3934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71880" y="26812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2450" y="0"/>
                  </a:moveTo>
                  <a:lnTo>
                    <a:pt x="2118" y="249"/>
                  </a:lnTo>
                  <a:lnTo>
                    <a:pt x="0" y="249"/>
                  </a:lnTo>
                  <a:lnTo>
                    <a:pt x="332" y="0"/>
                  </a:lnTo>
                  <a:lnTo>
                    <a:pt x="24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0560" y="5048280"/>
              <a:ext cx="204480" cy="701640"/>
            </a:xfrm>
            <a:custGeom>
              <a:avLst/>
              <a:gdLst/>
              <a:ahLst/>
              <a:rect l="l" t="t" r="r" b="b"/>
              <a:pathLst>
                <a:path w="129" h="442">
                  <a:moveTo>
                    <a:pt x="0" y="44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41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86040" y="5210280"/>
              <a:ext cx="614520" cy="539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6040" y="5048280"/>
              <a:ext cx="819000" cy="16200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4720" y="3718080"/>
              <a:ext cx="204840" cy="2031840"/>
            </a:xfrm>
            <a:custGeom>
              <a:avLst/>
              <a:gdLst/>
              <a:ahLst/>
              <a:rect l="l" t="t" r="r" b="b"/>
              <a:pathLst>
                <a:path w="129" h="1280">
                  <a:moveTo>
                    <a:pt x="0" y="1280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1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0560" y="3879720"/>
              <a:ext cx="614160" cy="1870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0560" y="371808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27440" y="3016080"/>
              <a:ext cx="204840" cy="2733840"/>
            </a:xfrm>
            <a:custGeom>
              <a:avLst/>
              <a:gdLst/>
              <a:ahLst/>
              <a:rect l="l" t="t" r="r" b="b"/>
              <a:pathLst>
                <a:path w="129" h="1722">
                  <a:moveTo>
                    <a:pt x="0" y="172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621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178080"/>
              <a:ext cx="612720" cy="2571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720" y="3016080"/>
              <a:ext cx="817560" cy="162000"/>
            </a:xfrm>
            <a:custGeom>
              <a:avLst/>
              <a:gdLst/>
              <a:ahLst/>
              <a:rect l="l" t="t" r="r" b="b"/>
              <a:pathLst>
                <a:path w="515" h="102">
                  <a:moveTo>
                    <a:pt x="386" y="102"/>
                  </a:moveTo>
                  <a:lnTo>
                    <a:pt x="515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6" y="102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41960" y="5062680"/>
              <a:ext cx="204840" cy="687240"/>
            </a:xfrm>
            <a:custGeom>
              <a:avLst/>
              <a:gdLst/>
              <a:ahLst/>
              <a:rect l="l" t="t" r="r" b="b"/>
              <a:pathLst>
                <a:path w="129" h="433">
                  <a:moveTo>
                    <a:pt x="0" y="433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3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7440" y="5224320"/>
              <a:ext cx="614520" cy="5256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7440" y="5062680"/>
              <a:ext cx="81936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83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59240" y="3995640"/>
              <a:ext cx="55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1740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171880" y="3075120"/>
              <a:ext cx="1440" cy="27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28680" y="5589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128680" y="53118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128680" y="503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128680" y="47563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28680" y="44784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28680" y="41860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28680" y="39085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28680" y="36306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28680" y="33526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28680" y="30751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6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40040" y="547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40040" y="519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916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40040" y="463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6720" y="43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6720" y="406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6720" y="3790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36720" y="351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672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6720" y="2959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40400" y="3324240"/>
            <a:ext cx="2067480" cy="1851120"/>
            <a:chOff x="6440400" y="3324240"/>
            <a:chExt cx="2067480" cy="1851120"/>
          </a:xfrm>
        </p:grpSpPr>
        <p:sp>
          <p:nvSpPr>
            <p:cNvPr id="589" name=""/>
            <p:cNvSpPr/>
            <p:nvPr/>
          </p:nvSpPr>
          <p:spPr>
            <a:xfrm>
              <a:off x="6440400" y="339732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41640" y="3324240"/>
              <a:ext cx="18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stingr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4160" y="355752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3936960"/>
              <a:ext cx="103320" cy="103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44160" y="3863880"/>
              <a:ext cx="164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vāj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7040" y="409896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40400" y="4478400"/>
              <a:ext cx="103320" cy="1029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43080" y="440532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rasības ir optimāl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0400" y="501984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7760" y="494676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zin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23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z 1999.gada 1.jan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m Valsts darba inspekcija ie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u projek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 un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o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, 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mon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s un apkalpošanas organi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 izsniedza licences u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ņēmē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rb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i Latvijas teritor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š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atuma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pras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r atceltas un attiec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starp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un pa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r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nosaka savstar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is 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ums, atbil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 no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ilnvarotās insti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as, un tirgus kontroli veic tirgus uzraud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e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s. Vai 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piek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m risin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am?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12600" y="3170160"/>
            <a:ext cx="5954400" cy="2925720"/>
            <a:chOff x="1812600" y="3170160"/>
            <a:chExt cx="5954400" cy="2925720"/>
          </a:xfrm>
        </p:grpSpPr>
        <p:sp>
          <p:nvSpPr>
            <p:cNvPr id="604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0" y="221"/>
                  </a:moveTo>
                  <a:lnTo>
                    <a:pt x="286" y="0"/>
                  </a:lnTo>
                  <a:lnTo>
                    <a:pt x="2143" y="0"/>
                  </a:lnTo>
                  <a:lnTo>
                    <a:pt x="185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0240" y="515772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0240" y="466416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0240" y="4170240"/>
              <a:ext cx="3402000" cy="33840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0240" y="367668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0240" y="3170160"/>
              <a:ext cx="3402000" cy="35100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2143" y="0"/>
                  </a:moveTo>
                  <a:lnTo>
                    <a:pt x="1857" y="221"/>
                  </a:lnTo>
                  <a:lnTo>
                    <a:pt x="0" y="221"/>
                  </a:lnTo>
                  <a:lnTo>
                    <a:pt x="286" y="0"/>
                  </a:lnTo>
                  <a:lnTo>
                    <a:pt x="214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78080" y="54957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253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16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1960" y="5638680"/>
              <a:ext cx="546120" cy="258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31960" y="5495760"/>
              <a:ext cx="728640" cy="142920"/>
            </a:xfrm>
            <a:custGeom>
              <a:avLst/>
              <a:gdLst/>
              <a:ahLst/>
              <a:rect l="l" t="t" r="r" b="b"/>
              <a:pathLst>
                <a:path w="459" h="90">
                  <a:moveTo>
                    <a:pt x="344" y="90"/>
                  </a:moveTo>
                  <a:lnTo>
                    <a:pt x="459" y="0"/>
                  </a:lnTo>
                  <a:lnTo>
                    <a:pt x="123" y="0"/>
                  </a:lnTo>
                  <a:lnTo>
                    <a:pt x="0" y="90"/>
                  </a:lnTo>
                  <a:lnTo>
                    <a:pt x="344" y="9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0160" y="4195800"/>
              <a:ext cx="182520" cy="1701720"/>
            </a:xfrm>
            <a:custGeom>
              <a:avLst/>
              <a:gdLst/>
              <a:ahLst/>
              <a:rect l="l" t="t" r="r" b="b"/>
              <a:pathLst>
                <a:path w="115" h="1072">
                  <a:moveTo>
                    <a:pt x="0" y="1072"/>
                  </a:moveTo>
                  <a:lnTo>
                    <a:pt x="0" y="82"/>
                  </a:lnTo>
                  <a:lnTo>
                    <a:pt x="115" y="0"/>
                  </a:lnTo>
                  <a:lnTo>
                    <a:pt x="115" y="982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78080" y="4325760"/>
              <a:ext cx="532080" cy="157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78080" y="4195800"/>
              <a:ext cx="714600" cy="12996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5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5" y="82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3320" y="3728880"/>
              <a:ext cx="181080" cy="2168640"/>
            </a:xfrm>
            <a:custGeom>
              <a:avLst/>
              <a:gdLst/>
              <a:ahLst/>
              <a:rect l="l" t="t" r="r" b="b"/>
              <a:pathLst>
                <a:path w="114" h="1366">
                  <a:moveTo>
                    <a:pt x="0" y="1366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114" y="127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10160" y="3859200"/>
              <a:ext cx="533160" cy="20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0160" y="3728880"/>
              <a:ext cx="714240" cy="13032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6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6" y="82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5040" y="5689440"/>
              <a:ext cx="182880" cy="20808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31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4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43320" y="5832360"/>
              <a:ext cx="531720" cy="6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43320" y="5689440"/>
              <a:ext cx="714600" cy="142920"/>
            </a:xfrm>
            <a:custGeom>
              <a:avLst/>
              <a:gdLst/>
              <a:ahLst/>
              <a:rect l="l" t="t" r="r" b="b"/>
              <a:pathLst>
                <a:path w="450" h="90">
                  <a:moveTo>
                    <a:pt x="335" y="90"/>
                  </a:moveTo>
                  <a:lnTo>
                    <a:pt x="450" y="0"/>
                  </a:lnTo>
                  <a:lnTo>
                    <a:pt x="114" y="0"/>
                  </a:lnTo>
                  <a:lnTo>
                    <a:pt x="0" y="90"/>
                  </a:lnTo>
                  <a:lnTo>
                    <a:pt x="335" y="90"/>
                  </a:lnTo>
                  <a:close/>
                </a:path>
              </a:pathLst>
            </a:custGeom>
            <a:solidFill>
              <a:srgbClr val="99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62280" y="5213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3600" y="4465800"/>
              <a:ext cx="37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949560"/>
              <a:ext cx="46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5080" y="541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60640" y="6002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060640" y="5495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060640" y="5002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060640" y="4508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060640" y="4014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060640" y="35211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89720" y="589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5391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12600" y="48974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600" y="4403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600" y="39099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12600" y="34164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35680" y="3581280"/>
              <a:ext cx="1831320" cy="2076480"/>
              <a:chOff x="5935680" y="3581280"/>
              <a:chExt cx="1831320" cy="2076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935680" y="3646440"/>
                <a:ext cx="90360" cy="92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400" y="358128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35680" y="4103640"/>
                <a:ext cx="90360" cy="903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1480" y="4038480"/>
                <a:ext cx="99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ē, ne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35680" y="4484520"/>
                <a:ext cx="90360" cy="90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2920" y="4419720"/>
                <a:ext cx="1409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, tomēr i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1480" y="4627440"/>
                <a:ext cx="130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aktivizē ražotāj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3640" y="4835520"/>
                <a:ext cx="1683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atkarīgas pārbaud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2920" y="5043600"/>
                <a:ext cx="1491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un tirgus uzraudzīb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35680" y="5524560"/>
                <a:ext cx="90360" cy="92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9680" y="5459400"/>
                <a:ext cx="48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zin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 ne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, tad galvenie iemesli ir: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496160" y="2344680"/>
            <a:ext cx="6909120" cy="3692520"/>
            <a:chOff x="1496160" y="2344680"/>
            <a:chExt cx="6909120" cy="3692520"/>
          </a:xfrm>
        </p:grpSpPr>
        <p:grpSp>
          <p:nvGrpSpPr>
            <p:cNvPr id="660" name=""/>
            <p:cNvGrpSpPr/>
            <p:nvPr/>
          </p:nvGrpSpPr>
          <p:grpSpPr>
            <a:xfrm>
              <a:off x="1496160" y="2344680"/>
              <a:ext cx="4230000" cy="3692520"/>
              <a:chOff x="1496160" y="2344680"/>
              <a:chExt cx="4230000" cy="3692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03320" y="5927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03320" y="534672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03320" y="4778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03320" y="419580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03320" y="3614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3320" y="304632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3320" y="2465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noFill/>
              <a:ln w="144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30440" y="5241960"/>
                <a:ext cx="851040" cy="68580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81480" y="3106800"/>
                <a:ext cx="850680" cy="282096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2160" y="4883040"/>
                <a:ext cx="851040" cy="10447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03320" y="2465280"/>
                <a:ext cx="1800" cy="34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3200" y="5927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43200" y="53467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43200" y="47782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43200" y="419580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43200" y="3614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43200" y="304632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00520" y="49132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51200" y="2778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9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03680" y="45543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00640" y="5808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1640" y="5226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1640" y="46594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1640" y="407664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1640" y="34941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96160" y="29275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6160" y="23446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272640" y="3719520"/>
              <a:ext cx="213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rada draudus iekār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840" y="4748040"/>
              <a:ext cx="18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precīzs viedokli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64120" y="2689200"/>
              <a:ext cx="1958400" cy="2527200"/>
              <a:chOff x="5964120" y="2689200"/>
              <a:chExt cx="1958400" cy="2527200"/>
            </a:xfrm>
          </p:grpSpPr>
          <p:sp>
            <p:nvSpPr>
              <p:cNvPr id="693" name=""/>
              <p:cNvSpPr/>
              <p:nvPr/>
            </p:nvSpPr>
            <p:spPr>
              <a:xfrm>
                <a:off x="5964120" y="2763720"/>
                <a:ext cx="104760" cy="10332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43480" y="2689200"/>
                <a:ext cx="1503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as rada grūtība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7080" y="2927520"/>
                <a:ext cx="167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kurēt ar ārval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27280" y="3166920"/>
                <a:ext cx="114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uzņēmum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120" y="3794040"/>
                <a:ext cx="104760" cy="10332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51400" y="3957480"/>
                <a:ext cx="1652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pasūtītājiem, jo na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7800" y="4195800"/>
                <a:ext cx="1643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trole pār iekār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17200" y="4435560"/>
                <a:ext cx="88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ražotāj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64120" y="4824360"/>
                <a:ext cx="104760" cy="1033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35560" y="4987800"/>
                <a:ext cx="1386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omēr nepiekrī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8.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 un/vai iev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249200" y="2289240"/>
            <a:ext cx="6802920" cy="3727440"/>
            <a:chOff x="1249200" y="2289240"/>
            <a:chExt cx="6802920" cy="3727440"/>
          </a:xfrm>
        </p:grpSpPr>
        <p:sp>
          <p:nvSpPr>
            <p:cNvPr id="708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0" y="321"/>
                  </a:moveTo>
                  <a:lnTo>
                    <a:pt x="408" y="0"/>
                  </a:lnTo>
                  <a:lnTo>
                    <a:pt x="3551" y="0"/>
                  </a:lnTo>
                  <a:lnTo>
                    <a:pt x="3144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5080" y="339732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5080" y="284328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5080" y="2289240"/>
              <a:ext cx="5637240" cy="50796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3551" y="0"/>
                  </a:moveTo>
                  <a:lnTo>
                    <a:pt x="3144" y="321"/>
                  </a:lnTo>
                  <a:lnTo>
                    <a:pt x="0" y="321"/>
                  </a:lnTo>
                  <a:lnTo>
                    <a:pt x="408" y="0"/>
                  </a:lnTo>
                  <a:lnTo>
                    <a:pt x="355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597040"/>
              <a:ext cx="261720" cy="1693800"/>
            </a:xfrm>
            <a:custGeom>
              <a:avLst/>
              <a:gdLst/>
              <a:ahLst/>
              <a:rect l="l" t="t" r="r" b="b"/>
              <a:pathLst>
                <a:path w="165" h="1067">
                  <a:moveTo>
                    <a:pt x="0" y="1067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94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05120" y="2797200"/>
              <a:ext cx="770040" cy="14936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5120" y="259704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6640" y="4043520"/>
              <a:ext cx="260280" cy="24732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0" y="156"/>
                  </a:moveTo>
                  <a:lnTo>
                    <a:pt x="0" y="127"/>
                  </a:lnTo>
                  <a:lnTo>
                    <a:pt x="164" y="0"/>
                  </a:lnTo>
                  <a:lnTo>
                    <a:pt x="164" y="2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5160" y="4245120"/>
              <a:ext cx="771480" cy="457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75160" y="4043520"/>
              <a:ext cx="1031760" cy="201600"/>
            </a:xfrm>
            <a:custGeom>
              <a:avLst/>
              <a:gdLst/>
              <a:ahLst/>
              <a:rect l="l" t="t" r="r" b="b"/>
              <a:pathLst>
                <a:path w="650" h="127">
                  <a:moveTo>
                    <a:pt x="486" y="127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7"/>
                  </a:lnTo>
                  <a:lnTo>
                    <a:pt x="486" y="12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0480" y="3289320"/>
              <a:ext cx="262080" cy="1001520"/>
            </a:xfrm>
            <a:custGeom>
              <a:avLst/>
              <a:gdLst/>
              <a:ahLst/>
              <a:rect l="l" t="t" r="r" b="b"/>
              <a:pathLst>
                <a:path w="165" h="631">
                  <a:moveTo>
                    <a:pt x="0" y="631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504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46640" y="3489480"/>
              <a:ext cx="753840" cy="80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6640" y="3289320"/>
              <a:ext cx="1015920" cy="200160"/>
            </a:xfrm>
            <a:custGeom>
              <a:avLst/>
              <a:gdLst/>
              <a:ahLst/>
              <a:rect l="l" t="t" r="r" b="b"/>
              <a:pathLst>
                <a:path w="640" h="126">
                  <a:moveTo>
                    <a:pt x="475" y="126"/>
                  </a:moveTo>
                  <a:lnTo>
                    <a:pt x="640" y="0"/>
                  </a:lnTo>
                  <a:lnTo>
                    <a:pt x="164" y="0"/>
                  </a:lnTo>
                  <a:lnTo>
                    <a:pt x="0" y="126"/>
                  </a:lnTo>
                  <a:lnTo>
                    <a:pt x="475" y="12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0520" y="3921120"/>
              <a:ext cx="26208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0480" y="4121280"/>
              <a:ext cx="770040" cy="1695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3921120"/>
              <a:ext cx="103212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40560" y="3921120"/>
              <a:ext cx="26172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70520" y="4121280"/>
              <a:ext cx="770040" cy="1695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70520" y="392112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50920" y="2935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24080" y="3657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8320" y="3519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97120" y="388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32040" y="364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035080" y="2796840"/>
              <a:ext cx="1800" cy="16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89000" y="444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89000" y="3889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989000" y="3335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89000" y="2797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4320" y="432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81200" y="376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1200" y="321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1200" y="2673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49200" y="4710240"/>
              <a:ext cx="939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19120" y="4648320"/>
              <a:ext cx="585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ES direktīvas, kas ir adaptētas nacionālajā līmenī kā Ministru kabineta noteik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49200" y="5002200"/>
              <a:ext cx="93960" cy="921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14440" y="4940280"/>
              <a:ext cx="428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ās PSRS normas, kas bija Latvijā spēkā līdz 1991.gad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9200" y="5294160"/>
              <a:ext cx="93960" cy="92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9760" y="523224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peciāli Latvijas sagatavoti tiesību ak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9200" y="5587920"/>
              <a:ext cx="93960" cy="921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6880" y="552600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9200" y="5880240"/>
              <a:ext cx="93960" cy="918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22000" y="5818320"/>
              <a:ext cx="663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ā nav speciālas prasības, kas  regulē industriālu iekārtu izgatavošanu un/vai ievešan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9. Vai i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specifiski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, kur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nav no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 ar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em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3040" y="2508120"/>
            <a:ext cx="6648840" cy="3669120"/>
            <a:chOff x="1823040" y="2508120"/>
            <a:chExt cx="6648840" cy="3669120"/>
          </a:xfrm>
        </p:grpSpPr>
        <p:sp>
          <p:nvSpPr>
            <p:cNvPr id="762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0" y="143"/>
                  </a:moveTo>
                  <a:lnTo>
                    <a:pt x="198" y="0"/>
                  </a:lnTo>
                  <a:lnTo>
                    <a:pt x="2331" y="0"/>
                  </a:lnTo>
                  <a:lnTo>
                    <a:pt x="2134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4240" y="53118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4240" y="502596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54240" y="472752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54240" y="4443480"/>
              <a:ext cx="3700440" cy="2268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4240" y="415764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240" y="387360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54240" y="35892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54240" y="3290760"/>
              <a:ext cx="3700440" cy="241560"/>
            </a:xfrm>
            <a:custGeom>
              <a:avLst/>
              <a:gdLst/>
              <a:ahLst/>
              <a:rect l="l" t="t" r="r" b="b"/>
              <a:pathLst>
                <a:path w="260" h="17">
                  <a:moveTo>
                    <a:pt x="0" y="17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54240" y="300528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54240" y="272088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2331" y="0"/>
                  </a:moveTo>
                  <a:lnTo>
                    <a:pt x="2134" y="143"/>
                  </a:lnTo>
                  <a:lnTo>
                    <a:pt x="0" y="143"/>
                  </a:lnTo>
                  <a:lnTo>
                    <a:pt x="198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81440" y="5340240"/>
              <a:ext cx="112680" cy="412920"/>
            </a:xfrm>
            <a:custGeom>
              <a:avLst/>
              <a:gdLst/>
              <a:ahLst/>
              <a:rect l="l" t="t" r="r" b="b"/>
              <a:pathLst>
                <a:path w="71" h="260">
                  <a:moveTo>
                    <a:pt x="0" y="260"/>
                  </a:moveTo>
                  <a:lnTo>
                    <a:pt x="0" y="53"/>
                  </a:lnTo>
                  <a:lnTo>
                    <a:pt x="71" y="0"/>
                  </a:lnTo>
                  <a:lnTo>
                    <a:pt x="71" y="206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3960" y="5424480"/>
              <a:ext cx="357480" cy="328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23960" y="5340240"/>
              <a:ext cx="47016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5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5" y="5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6760" y="5381640"/>
              <a:ext cx="11304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81440" y="5467320"/>
              <a:ext cx="355320" cy="285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8144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92440" y="5381640"/>
              <a:ext cx="11268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6760" y="5467320"/>
              <a:ext cx="355680" cy="285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676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48120" y="55818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108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5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2440" y="5667480"/>
              <a:ext cx="35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2440" y="558180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3800" y="5126040"/>
              <a:ext cx="114120" cy="627120"/>
            </a:xfrm>
            <a:custGeom>
              <a:avLst/>
              <a:gdLst/>
              <a:ahLst/>
              <a:rect l="l" t="t" r="r" b="b"/>
              <a:pathLst>
                <a:path w="72" h="395">
                  <a:moveTo>
                    <a:pt x="0" y="395"/>
                  </a:moveTo>
                  <a:lnTo>
                    <a:pt x="0" y="63"/>
                  </a:lnTo>
                  <a:lnTo>
                    <a:pt x="72" y="0"/>
                  </a:lnTo>
                  <a:lnTo>
                    <a:pt x="72" y="341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8120" y="5226120"/>
              <a:ext cx="355680" cy="5270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48120" y="5126040"/>
              <a:ext cx="469800" cy="100080"/>
            </a:xfrm>
            <a:custGeom>
              <a:avLst/>
              <a:gdLst/>
              <a:ahLst/>
              <a:rect l="l" t="t" r="r" b="b"/>
              <a:pathLst>
                <a:path w="296" h="63">
                  <a:moveTo>
                    <a:pt x="224" y="63"/>
                  </a:moveTo>
                  <a:lnTo>
                    <a:pt x="296" y="0"/>
                  </a:lnTo>
                  <a:lnTo>
                    <a:pt x="71" y="0"/>
                  </a:lnTo>
                  <a:lnTo>
                    <a:pt x="0" y="63"/>
                  </a:lnTo>
                  <a:lnTo>
                    <a:pt x="224" y="6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59480" y="5438880"/>
              <a:ext cx="114120" cy="31428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8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44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03800" y="5524560"/>
              <a:ext cx="355680" cy="22860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03800" y="5438880"/>
              <a:ext cx="469800" cy="8568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800" y="4116240"/>
              <a:ext cx="114480" cy="1636920"/>
            </a:xfrm>
            <a:custGeom>
              <a:avLst/>
              <a:gdLst/>
              <a:ahLst/>
              <a:rect l="l" t="t" r="r" b="b"/>
              <a:pathLst>
                <a:path w="72" h="1031">
                  <a:moveTo>
                    <a:pt x="0" y="1031"/>
                  </a:moveTo>
                  <a:lnTo>
                    <a:pt x="0" y="53"/>
                  </a:lnTo>
                  <a:lnTo>
                    <a:pt x="72" y="0"/>
                  </a:lnTo>
                  <a:lnTo>
                    <a:pt x="72" y="977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9480" y="4200480"/>
              <a:ext cx="355320" cy="1552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9480" y="4116240"/>
              <a:ext cx="46980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4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4" y="53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70480" y="2849400"/>
              <a:ext cx="114480" cy="2903760"/>
            </a:xfrm>
            <a:custGeom>
              <a:avLst/>
              <a:gdLst/>
              <a:ahLst/>
              <a:rect l="l" t="t" r="r" b="b"/>
              <a:pathLst>
                <a:path w="72" h="1829">
                  <a:moveTo>
                    <a:pt x="0" y="1829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775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800" y="2935440"/>
              <a:ext cx="355680" cy="28177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800" y="2849400"/>
              <a:ext cx="470160" cy="860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2280" y="5054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3400" y="509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49800" y="5111640"/>
              <a:ext cx="2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62000" y="532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08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60320" y="5524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58760" y="4243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1408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154240" y="2948040"/>
              <a:ext cx="144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2111040" y="5823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1104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11040" y="5254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11040" y="4956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111040" y="4670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11040" y="43862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111040" y="410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11104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111040" y="3532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111040" y="3233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111040" y="2948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23560" y="5710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514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455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3040" y="4272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3040" y="3987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3040" y="3703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23040" y="3417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3040" y="3119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3040" y="2835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5960" y="2563920"/>
              <a:ext cx="8568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60920" y="250812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projektē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2040" y="27068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nosacīj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5960" y="3033720"/>
              <a:ext cx="85680" cy="85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62360" y="29764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izgatav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07640" y="31766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5960" y="350352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2520" y="3446640"/>
              <a:ext cx="17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materiā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9720" y="3646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zvē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5960" y="397368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95120" y="391644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tehniskajā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21320" y="411624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ārbaudē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5960" y="4443480"/>
              <a:ext cx="8568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7200" y="438624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liet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6200" y="4584600"/>
              <a:ext cx="197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strukcijām un marķējum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95960" y="4913280"/>
              <a:ext cx="85680" cy="842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7200" y="485604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ražotāja pienāku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6640" y="505476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5960" y="5381640"/>
              <a:ext cx="85680" cy="85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4880" y="5326200"/>
              <a:ext cx="149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Kompetento institūci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3520" y="55245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5960" y="5851440"/>
              <a:ext cx="85680" cy="856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85040" y="579420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rgus uzraudzības iestāž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3520" y="59943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. Kādi tiesību akti Latvijā regulē industriālu iekārtu lietošanu un tehnisko apkop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87240" y="2682720"/>
            <a:ext cx="6438600" cy="3171960"/>
            <a:chOff x="1587240" y="2682720"/>
            <a:chExt cx="6438600" cy="3171960"/>
          </a:xfrm>
        </p:grpSpPr>
        <p:sp>
          <p:nvSpPr>
            <p:cNvPr id="863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0" y="223"/>
                  </a:moveTo>
                  <a:lnTo>
                    <a:pt x="303" y="0"/>
                  </a:lnTo>
                  <a:lnTo>
                    <a:pt x="2247" y="0"/>
                  </a:lnTo>
                  <a:lnTo>
                    <a:pt x="1943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7720" y="51166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17720" y="48481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17720" y="45640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7720" y="42958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7720" y="4027320"/>
              <a:ext cx="3567240" cy="36684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7720" y="37576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17720" y="34894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7720" y="32194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17720" y="29512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17720" y="26827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2247" y="0"/>
                  </a:moveTo>
                  <a:lnTo>
                    <a:pt x="1943" y="223"/>
                  </a:lnTo>
                  <a:lnTo>
                    <a:pt x="0" y="223"/>
                  </a:lnTo>
                  <a:lnTo>
                    <a:pt x="303" y="0"/>
                  </a:lnTo>
                  <a:lnTo>
                    <a:pt x="224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560" y="5413320"/>
              <a:ext cx="184320" cy="22716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143"/>
                  </a:moveTo>
                  <a:lnTo>
                    <a:pt x="0" y="89"/>
                  </a:lnTo>
                  <a:lnTo>
                    <a:pt x="116" y="0"/>
                  </a:lnTo>
                  <a:lnTo>
                    <a:pt x="116" y="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5554800"/>
              <a:ext cx="56520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84360" y="5413320"/>
              <a:ext cx="74952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6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02160" y="2922480"/>
              <a:ext cx="198360" cy="2718000"/>
            </a:xfrm>
            <a:custGeom>
              <a:avLst/>
              <a:gdLst/>
              <a:ahLst/>
              <a:rect l="l" t="t" r="r" b="b"/>
              <a:pathLst>
                <a:path w="125" h="1712">
                  <a:moveTo>
                    <a:pt x="0" y="1712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61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560" y="3063960"/>
              <a:ext cx="552600" cy="2576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9560" y="2922480"/>
              <a:ext cx="750960" cy="141480"/>
            </a:xfrm>
            <a:custGeom>
              <a:avLst/>
              <a:gdLst/>
              <a:ahLst/>
              <a:rect l="l" t="t" r="r" b="b"/>
              <a:pathLst>
                <a:path w="473" h="89">
                  <a:moveTo>
                    <a:pt x="348" y="89"/>
                  </a:moveTo>
                  <a:lnTo>
                    <a:pt x="473" y="0"/>
                  </a:lnTo>
                  <a:lnTo>
                    <a:pt x="116" y="0"/>
                  </a:lnTo>
                  <a:lnTo>
                    <a:pt x="0" y="89"/>
                  </a:lnTo>
                  <a:lnTo>
                    <a:pt x="348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68800" y="4960800"/>
              <a:ext cx="182520" cy="679680"/>
            </a:xfrm>
            <a:custGeom>
              <a:avLst/>
              <a:gdLst/>
              <a:ahLst/>
              <a:rect l="l" t="t" r="r" b="b"/>
              <a:pathLst>
                <a:path w="115" h="428">
                  <a:moveTo>
                    <a:pt x="0" y="428"/>
                  </a:moveTo>
                  <a:lnTo>
                    <a:pt x="0" y="89"/>
                  </a:lnTo>
                  <a:lnTo>
                    <a:pt x="115" y="0"/>
                  </a:lnTo>
                  <a:lnTo>
                    <a:pt x="115" y="33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02160" y="5102280"/>
              <a:ext cx="566640" cy="5382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02160" y="49608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7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19600" y="4975200"/>
              <a:ext cx="198360" cy="665280"/>
            </a:xfrm>
            <a:custGeom>
              <a:avLst/>
              <a:gdLst/>
              <a:ahLst/>
              <a:rect l="l" t="t" r="r" b="b"/>
              <a:pathLst>
                <a:path w="125" h="419">
                  <a:moveTo>
                    <a:pt x="0" y="419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321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68800" y="5116680"/>
              <a:ext cx="550800" cy="52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68800" y="49752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47" y="89"/>
                  </a:moveTo>
                  <a:lnTo>
                    <a:pt x="472" y="0"/>
                  </a:lnTo>
                  <a:lnTo>
                    <a:pt x="115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31680" y="5334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4360" y="322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9800" y="51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7240" y="5130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17720" y="3036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7452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874520" y="54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874520" y="520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874520" y="493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874520" y="4664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87452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874520" y="4125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874520" y="3857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74520" y="35733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874520" y="3305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874520" y="3036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632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0560" y="535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90560" y="50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90560" y="481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90560" y="454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87240" y="4281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87240" y="401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87240" y="374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7240" y="346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7240" y="319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7240" y="292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3000" y="3333600"/>
              <a:ext cx="85680" cy="84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61600" y="3276720"/>
              <a:ext cx="186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ās PSRS normas, kas b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6920" y="3475080"/>
              <a:ext cx="20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spēkā līdz 1991.gad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3000" y="3867120"/>
              <a:ext cx="85680" cy="84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58720" y="380988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Speciāli Latvijas sagatavo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3400" y="40086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esību a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3000" y="439416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6960" y="433872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23000" y="484200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0160" y="4786200"/>
              <a:ext cx="1411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nav speciā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61240" y="498312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, kas  regu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58000" y="518148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dustriālu iekārtu lietoš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080" y="5380200"/>
              <a:ext cx="151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/vai tehnisko apko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uzsk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a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pilda vis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, kuras nosaka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gie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37480" y="2719440"/>
            <a:ext cx="6475320" cy="3475080"/>
            <a:chOff x="1437480" y="2719440"/>
            <a:chExt cx="6475320" cy="3475080"/>
          </a:xfrm>
        </p:grpSpPr>
        <p:sp>
          <p:nvSpPr>
            <p:cNvPr id="937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0" y="395"/>
                  </a:moveTo>
                  <a:lnTo>
                    <a:pt x="520" y="0"/>
                  </a:lnTo>
                  <a:lnTo>
                    <a:pt x="3265" y="0"/>
                  </a:lnTo>
                  <a:lnTo>
                    <a:pt x="2744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4913280"/>
              <a:ext cx="5183280" cy="625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70120" y="4357800"/>
              <a:ext cx="5183280" cy="6253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70120" y="381636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70120" y="3260880"/>
              <a:ext cx="5183280" cy="62676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120" y="271944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3265" y="0"/>
                  </a:moveTo>
                  <a:lnTo>
                    <a:pt x="2744" y="395"/>
                  </a:lnTo>
                  <a:lnTo>
                    <a:pt x="0" y="395"/>
                  </a:lnTo>
                  <a:lnTo>
                    <a:pt x="520" y="0"/>
                  </a:lnTo>
                  <a:lnTo>
                    <a:pt x="32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19520" y="3959280"/>
              <a:ext cx="328680" cy="1935000"/>
            </a:xfrm>
            <a:custGeom>
              <a:avLst/>
              <a:gdLst/>
              <a:ahLst/>
              <a:rect l="l" t="t" r="r" b="b"/>
              <a:pathLst>
                <a:path w="207" h="1219">
                  <a:moveTo>
                    <a:pt x="0" y="1219"/>
                  </a:moveTo>
                  <a:lnTo>
                    <a:pt x="0" y="152"/>
                  </a:lnTo>
                  <a:lnTo>
                    <a:pt x="207" y="0"/>
                  </a:lnTo>
                  <a:lnTo>
                    <a:pt x="207" y="105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2560" y="4200480"/>
              <a:ext cx="966960" cy="1693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2560" y="395928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152">
                  <a:moveTo>
                    <a:pt x="609" y="152"/>
                  </a:moveTo>
                  <a:lnTo>
                    <a:pt x="816" y="0"/>
                  </a:lnTo>
                  <a:lnTo>
                    <a:pt x="206" y="0"/>
                  </a:lnTo>
                  <a:lnTo>
                    <a:pt x="0" y="152"/>
                  </a:lnTo>
                  <a:lnTo>
                    <a:pt x="609" y="15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3520" y="5510160"/>
              <a:ext cx="328680" cy="384120"/>
            </a:xfrm>
            <a:custGeom>
              <a:avLst/>
              <a:gdLst/>
              <a:ahLst/>
              <a:rect l="l" t="t" r="r" b="b"/>
              <a:pathLst>
                <a:path w="207" h="242">
                  <a:moveTo>
                    <a:pt x="0" y="242"/>
                  </a:moveTo>
                  <a:lnTo>
                    <a:pt x="0" y="162"/>
                  </a:lnTo>
                  <a:lnTo>
                    <a:pt x="207" y="0"/>
                  </a:lnTo>
                  <a:lnTo>
                    <a:pt x="207" y="81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520" y="5767560"/>
              <a:ext cx="954000" cy="126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19520" y="5510160"/>
              <a:ext cx="1282680" cy="257400"/>
            </a:xfrm>
            <a:custGeom>
              <a:avLst/>
              <a:gdLst/>
              <a:ahLst/>
              <a:rect l="l" t="t" r="r" b="b"/>
              <a:pathLst>
                <a:path w="808" h="162">
                  <a:moveTo>
                    <a:pt x="601" y="162"/>
                  </a:moveTo>
                  <a:lnTo>
                    <a:pt x="808" y="0"/>
                  </a:lnTo>
                  <a:lnTo>
                    <a:pt x="207" y="0"/>
                  </a:lnTo>
                  <a:lnTo>
                    <a:pt x="0" y="162"/>
                  </a:lnTo>
                  <a:lnTo>
                    <a:pt x="601" y="16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41920" y="3133800"/>
              <a:ext cx="328680" cy="2760480"/>
            </a:xfrm>
            <a:custGeom>
              <a:avLst/>
              <a:gdLst/>
              <a:ahLst/>
              <a:rect l="l" t="t" r="r" b="b"/>
              <a:pathLst>
                <a:path w="207" h="1739">
                  <a:moveTo>
                    <a:pt x="0" y="1739"/>
                  </a:moveTo>
                  <a:lnTo>
                    <a:pt x="0" y="161"/>
                  </a:lnTo>
                  <a:lnTo>
                    <a:pt x="207" y="0"/>
                  </a:lnTo>
                  <a:lnTo>
                    <a:pt x="207" y="1578"/>
                  </a:lnTo>
                  <a:lnTo>
                    <a:pt x="0" y="1739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3520" y="3389400"/>
              <a:ext cx="968400" cy="25048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3133800"/>
              <a:ext cx="1297080" cy="255600"/>
            </a:xfrm>
            <a:custGeom>
              <a:avLst/>
              <a:gdLst/>
              <a:ahLst/>
              <a:rect l="l" t="t" r="r" b="b"/>
              <a:pathLst>
                <a:path w="817" h="161">
                  <a:moveTo>
                    <a:pt x="610" y="161"/>
                  </a:moveTo>
                  <a:lnTo>
                    <a:pt x="817" y="0"/>
                  </a:lnTo>
                  <a:lnTo>
                    <a:pt x="207" y="0"/>
                  </a:lnTo>
                  <a:lnTo>
                    <a:pt x="0" y="161"/>
                  </a:lnTo>
                  <a:lnTo>
                    <a:pt x="610" y="16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840" y="431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3520" y="5195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1480" y="3487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726920" y="6080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2692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26920" y="4983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26920" y="4443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726920" y="38876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26920" y="3346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8000" y="5965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3360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37480" y="48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37480" y="432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37480" y="37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7480" y="323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08720" y="403380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3880" y="396252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8720" y="444348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01320" y="4371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08720" y="487188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3880" y="48006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2. Vai Jūs sekojat līdzi un esat informēts par jaunu tehnisko standartu pieņemšanu iekārtu izgatavošan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820880" y="2668680"/>
            <a:ext cx="6467400" cy="3200400"/>
            <a:chOff x="1820880" y="2668680"/>
            <a:chExt cx="6467400" cy="3200400"/>
          </a:xfrm>
        </p:grpSpPr>
        <p:sp>
          <p:nvSpPr>
            <p:cNvPr id="984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0" y="285"/>
                  </a:moveTo>
                  <a:lnTo>
                    <a:pt x="375" y="0"/>
                  </a:lnTo>
                  <a:lnTo>
                    <a:pt x="2318" y="0"/>
                  </a:lnTo>
                  <a:lnTo>
                    <a:pt x="1943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51000" y="504684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51000" y="47768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51000" y="4508640"/>
              <a:ext cx="3679920" cy="4521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51000" y="42530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51000" y="39844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51000" y="3728880"/>
              <a:ext cx="3679920" cy="4399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51000" y="3460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51000" y="320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51000" y="293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51000" y="2668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2318" y="0"/>
                  </a:moveTo>
                  <a:lnTo>
                    <a:pt x="1943" y="285"/>
                  </a:lnTo>
                  <a:lnTo>
                    <a:pt x="0" y="285"/>
                  </a:lnTo>
                  <a:lnTo>
                    <a:pt x="375" y="0"/>
                  </a:lnTo>
                  <a:lnTo>
                    <a:pt x="23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24400" y="3008160"/>
              <a:ext cx="239400" cy="2603520"/>
            </a:xfrm>
            <a:custGeom>
              <a:avLst/>
              <a:gdLst/>
              <a:ahLst/>
              <a:rect l="l" t="t" r="r" b="b"/>
              <a:pathLst>
                <a:path w="151" h="1640">
                  <a:moveTo>
                    <a:pt x="0" y="1640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533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4720" y="3178080"/>
              <a:ext cx="679680" cy="2433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4720" y="3008160"/>
              <a:ext cx="919080" cy="16992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28" y="107"/>
                  </a:moveTo>
                  <a:lnTo>
                    <a:pt x="579" y="0"/>
                  </a:lnTo>
                  <a:lnTo>
                    <a:pt x="143" y="0"/>
                  </a:lnTo>
                  <a:lnTo>
                    <a:pt x="0" y="107"/>
                  </a:lnTo>
                  <a:lnTo>
                    <a:pt x="428" y="107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8120" y="3616200"/>
              <a:ext cx="239760" cy="1995480"/>
            </a:xfrm>
            <a:custGeom>
              <a:avLst/>
              <a:gdLst/>
              <a:ahLst/>
              <a:rect l="l" t="t" r="r" b="b"/>
              <a:pathLst>
                <a:path w="151" h="1257">
                  <a:moveTo>
                    <a:pt x="0" y="1257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150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4400" y="3786120"/>
              <a:ext cx="693720" cy="1825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4400" y="3616200"/>
              <a:ext cx="933480" cy="169920"/>
            </a:xfrm>
            <a:custGeom>
              <a:avLst/>
              <a:gdLst/>
              <a:ahLst/>
              <a:rect l="l" t="t" r="r" b="b"/>
              <a:pathLst>
                <a:path w="588" h="107">
                  <a:moveTo>
                    <a:pt x="437" y="107"/>
                  </a:moveTo>
                  <a:lnTo>
                    <a:pt x="588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7" y="107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10040" y="4508640"/>
              <a:ext cx="227160" cy="1103040"/>
            </a:xfrm>
            <a:custGeom>
              <a:avLst/>
              <a:gdLst/>
              <a:ahLst/>
              <a:rect l="l" t="t" r="r" b="b"/>
              <a:pathLst>
                <a:path w="143" h="695">
                  <a:moveTo>
                    <a:pt x="0" y="695"/>
                  </a:moveTo>
                  <a:lnTo>
                    <a:pt x="0" y="107"/>
                  </a:lnTo>
                  <a:lnTo>
                    <a:pt x="143" y="0"/>
                  </a:lnTo>
                  <a:lnTo>
                    <a:pt x="143" y="588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8120" y="4678200"/>
              <a:ext cx="691920" cy="933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8120" y="4508640"/>
              <a:ext cx="919080" cy="16956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36" y="107"/>
                  </a:moveTo>
                  <a:lnTo>
                    <a:pt x="579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6" y="10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43360" y="327672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0400" y="39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0440" y="474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51000" y="3120840"/>
              <a:ext cx="1800" cy="263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107800" y="5753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107800" y="5484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107800" y="52164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107800" y="4960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07800" y="469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107800" y="44370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2107800" y="416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10780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107800" y="364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107800" y="337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107800" y="3121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600" y="5640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4200" y="537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4200" y="510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4200" y="484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4200" y="4578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0880" y="432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0880" y="40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0880" y="353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0880" y="326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0880" y="300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99200" y="3276720"/>
              <a:ext cx="98280" cy="9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3240" y="32068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99200" y="3881520"/>
              <a:ext cx="982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8960" y="38098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403704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51840" y="4262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47768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96120" y="47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IEV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3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izgatav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820880" y="2682720"/>
            <a:ext cx="6482880" cy="3171960"/>
            <a:chOff x="1820880" y="2682720"/>
            <a:chExt cx="6482880" cy="3171960"/>
          </a:xfrm>
        </p:grpSpPr>
        <p:sp>
          <p:nvSpPr>
            <p:cNvPr id="1049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0" y="231"/>
                  </a:moveTo>
                  <a:lnTo>
                    <a:pt x="312" y="0"/>
                  </a:lnTo>
                  <a:lnTo>
                    <a:pt x="2282" y="0"/>
                  </a:lnTo>
                  <a:lnTo>
                    <a:pt x="197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1000" y="50324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51000" y="469260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51000" y="43671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51000" y="40273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1000" y="36878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51000" y="336240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51000" y="30225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51000" y="26827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2282" y="0"/>
                  </a:moveTo>
                  <a:lnTo>
                    <a:pt x="1970" y="231"/>
                  </a:lnTo>
                  <a:lnTo>
                    <a:pt x="0" y="231"/>
                  </a:lnTo>
                  <a:lnTo>
                    <a:pt x="312" y="0"/>
                  </a:lnTo>
                  <a:lnTo>
                    <a:pt x="228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97240" y="3078000"/>
              <a:ext cx="198360" cy="2548080"/>
            </a:xfrm>
            <a:custGeom>
              <a:avLst/>
              <a:gdLst/>
              <a:ahLst/>
              <a:rect l="l" t="t" r="r" b="b"/>
              <a:pathLst>
                <a:path w="125" h="1605">
                  <a:moveTo>
                    <a:pt x="0" y="1605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51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32040" y="3219480"/>
              <a:ext cx="565200" cy="2406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2040" y="3078000"/>
              <a:ext cx="763560" cy="141480"/>
            </a:xfrm>
            <a:custGeom>
              <a:avLst/>
              <a:gdLst/>
              <a:ahLst/>
              <a:rect l="l" t="t" r="r" b="b"/>
              <a:pathLst>
                <a:path w="481" h="89">
                  <a:moveTo>
                    <a:pt x="356" y="89"/>
                  </a:moveTo>
                  <a:lnTo>
                    <a:pt x="481" y="0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63880" y="3319560"/>
              <a:ext cx="198360" cy="2306520"/>
            </a:xfrm>
            <a:custGeom>
              <a:avLst/>
              <a:gdLst/>
              <a:ahLst/>
              <a:rect l="l" t="t" r="r" b="b"/>
              <a:pathLst>
                <a:path w="125" h="1453">
                  <a:moveTo>
                    <a:pt x="0" y="1453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364"/>
                  </a:lnTo>
                  <a:lnTo>
                    <a:pt x="0" y="1453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7240" y="3460680"/>
              <a:ext cx="566640" cy="216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3319560"/>
              <a:ext cx="765000" cy="141120"/>
            </a:xfrm>
            <a:custGeom>
              <a:avLst/>
              <a:gdLst/>
              <a:ahLst/>
              <a:rect l="l" t="t" r="r" b="b"/>
              <a:pathLst>
                <a:path w="482" h="89">
                  <a:moveTo>
                    <a:pt x="357" y="8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29080" y="5159520"/>
              <a:ext cx="198360" cy="466560"/>
            </a:xfrm>
            <a:custGeom>
              <a:avLst/>
              <a:gdLst/>
              <a:ahLst/>
              <a:rect l="l" t="t" r="r" b="b"/>
              <a:pathLst>
                <a:path w="125" h="294">
                  <a:moveTo>
                    <a:pt x="0" y="294"/>
                  </a:moveTo>
                  <a:lnTo>
                    <a:pt x="0" y="98"/>
                  </a:lnTo>
                  <a:lnTo>
                    <a:pt x="125" y="0"/>
                  </a:lnTo>
                  <a:lnTo>
                    <a:pt x="125" y="20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63880" y="5315040"/>
              <a:ext cx="565200" cy="311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63880" y="5159520"/>
              <a:ext cx="763560" cy="155520"/>
            </a:xfrm>
            <a:custGeom>
              <a:avLst/>
              <a:gdLst/>
              <a:ahLst/>
              <a:rect l="l" t="t" r="r" b="b"/>
              <a:pathLst>
                <a:path w="481" h="98">
                  <a:moveTo>
                    <a:pt x="356" y="98"/>
                  </a:moveTo>
                  <a:lnTo>
                    <a:pt x="481" y="0"/>
                  </a:lnTo>
                  <a:lnTo>
                    <a:pt x="125" y="0"/>
                  </a:lnTo>
                  <a:lnTo>
                    <a:pt x="0" y="98"/>
                  </a:lnTo>
                  <a:lnTo>
                    <a:pt x="356" y="98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95720" y="4549680"/>
              <a:ext cx="198720" cy="1076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678"/>
                  </a:moveTo>
                  <a:lnTo>
                    <a:pt x="0" y="99"/>
                  </a:lnTo>
                  <a:lnTo>
                    <a:pt x="125" y="0"/>
                  </a:lnTo>
                  <a:lnTo>
                    <a:pt x="125" y="589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29080" y="4707000"/>
              <a:ext cx="566640" cy="919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9080" y="4549680"/>
              <a:ext cx="765360" cy="157320"/>
            </a:xfrm>
            <a:custGeom>
              <a:avLst/>
              <a:gdLst/>
              <a:ahLst/>
              <a:rect l="l" t="t" r="r" b="b"/>
              <a:pathLst>
                <a:path w="482" h="99">
                  <a:moveTo>
                    <a:pt x="357" y="9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99"/>
                  </a:lnTo>
                  <a:lnTo>
                    <a:pt x="357" y="9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832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4480" y="354168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2240" y="5340240"/>
              <a:ext cx="2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6720" y="4795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1000" y="3049560"/>
              <a:ext cx="1800" cy="268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0780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07800" y="53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107800" y="5059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107800" y="4734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10780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2107800" y="4054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107800" y="3728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2107800" y="3389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107800" y="3049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60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4200" y="5286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4200" y="4946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24200" y="4621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242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088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2088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20880" y="327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20880" y="2936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27920" y="2908440"/>
              <a:ext cx="98280" cy="99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04320" y="28386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27920" y="3500280"/>
              <a:ext cx="98280" cy="986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9120" y="34290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7680" y="365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27920" y="41846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0200" y="411480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78400" y="434016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78760" y="456732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127920" y="5159520"/>
              <a:ext cx="98280" cy="982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6760" y="508788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86680" y="5315040"/>
              <a:ext cx="201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atbilstošu institūcij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4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163520" y="3560760"/>
            <a:ext cx="7157160" cy="1204920"/>
            <a:chOff x="1163520" y="3560760"/>
            <a:chExt cx="7157160" cy="1204920"/>
          </a:xfrm>
        </p:grpSpPr>
        <p:sp>
          <p:nvSpPr>
            <p:cNvPr id="1116" name=""/>
            <p:cNvSpPr/>
            <p:nvPr/>
          </p:nvSpPr>
          <p:spPr>
            <a:xfrm>
              <a:off x="1611360" y="3940200"/>
              <a:ext cx="1106280" cy="774720"/>
            </a:xfrm>
            <a:custGeom>
              <a:avLst/>
              <a:gdLst/>
              <a:ahLst/>
              <a:rect l="l" t="t" r="r" b="b"/>
              <a:pathLst>
                <a:path w="697" h="488">
                  <a:moveTo>
                    <a:pt x="697" y="229"/>
                  </a:moveTo>
                  <a:lnTo>
                    <a:pt x="655" y="229"/>
                  </a:lnTo>
                  <a:lnTo>
                    <a:pt x="624" y="218"/>
                  </a:lnTo>
                  <a:lnTo>
                    <a:pt x="572" y="218"/>
                  </a:lnTo>
                  <a:lnTo>
                    <a:pt x="551" y="218"/>
                  </a:lnTo>
                  <a:lnTo>
                    <a:pt x="499" y="208"/>
                  </a:lnTo>
                  <a:lnTo>
                    <a:pt x="478" y="208"/>
                  </a:lnTo>
                  <a:lnTo>
                    <a:pt x="437" y="197"/>
                  </a:lnTo>
                  <a:lnTo>
                    <a:pt x="406" y="197"/>
                  </a:lnTo>
                  <a:lnTo>
                    <a:pt x="364" y="187"/>
                  </a:lnTo>
                  <a:lnTo>
                    <a:pt x="343" y="187"/>
                  </a:lnTo>
                  <a:lnTo>
                    <a:pt x="302" y="177"/>
                  </a:lnTo>
                  <a:lnTo>
                    <a:pt x="281" y="166"/>
                  </a:lnTo>
                  <a:lnTo>
                    <a:pt x="250" y="156"/>
                  </a:lnTo>
                  <a:lnTo>
                    <a:pt x="229" y="156"/>
                  </a:lnTo>
                  <a:lnTo>
                    <a:pt x="198" y="146"/>
                  </a:lnTo>
                  <a:lnTo>
                    <a:pt x="167" y="135"/>
                  </a:lnTo>
                  <a:lnTo>
                    <a:pt x="146" y="125"/>
                  </a:lnTo>
                  <a:lnTo>
                    <a:pt x="125" y="114"/>
                  </a:lnTo>
                  <a:lnTo>
                    <a:pt x="104" y="114"/>
                  </a:lnTo>
                  <a:lnTo>
                    <a:pt x="83" y="94"/>
                  </a:lnTo>
                  <a:lnTo>
                    <a:pt x="73" y="94"/>
                  </a:lnTo>
                  <a:lnTo>
                    <a:pt x="52" y="83"/>
                  </a:lnTo>
                  <a:lnTo>
                    <a:pt x="42" y="73"/>
                  </a:lnTo>
                  <a:lnTo>
                    <a:pt x="31" y="62"/>
                  </a:lnTo>
                  <a:lnTo>
                    <a:pt x="21" y="52"/>
                  </a:lnTo>
                  <a:lnTo>
                    <a:pt x="11" y="42"/>
                  </a:lnTo>
                  <a:lnTo>
                    <a:pt x="11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1" y="291"/>
                  </a:lnTo>
                  <a:lnTo>
                    <a:pt x="11" y="301"/>
                  </a:lnTo>
                  <a:lnTo>
                    <a:pt x="21" y="312"/>
                  </a:lnTo>
                  <a:lnTo>
                    <a:pt x="31" y="322"/>
                  </a:lnTo>
                  <a:lnTo>
                    <a:pt x="42" y="333"/>
                  </a:lnTo>
                  <a:lnTo>
                    <a:pt x="52" y="343"/>
                  </a:lnTo>
                  <a:lnTo>
                    <a:pt x="73" y="353"/>
                  </a:lnTo>
                  <a:lnTo>
                    <a:pt x="83" y="353"/>
                  </a:lnTo>
                  <a:lnTo>
                    <a:pt x="104" y="374"/>
                  </a:lnTo>
                  <a:lnTo>
                    <a:pt x="125" y="374"/>
                  </a:lnTo>
                  <a:lnTo>
                    <a:pt x="146" y="384"/>
                  </a:lnTo>
                  <a:lnTo>
                    <a:pt x="167" y="395"/>
                  </a:lnTo>
                  <a:lnTo>
                    <a:pt x="198" y="405"/>
                  </a:lnTo>
                  <a:lnTo>
                    <a:pt x="229" y="416"/>
                  </a:lnTo>
                  <a:lnTo>
                    <a:pt x="250" y="416"/>
                  </a:lnTo>
                  <a:lnTo>
                    <a:pt x="281" y="426"/>
                  </a:lnTo>
                  <a:lnTo>
                    <a:pt x="302" y="436"/>
                  </a:lnTo>
                  <a:lnTo>
                    <a:pt x="343" y="447"/>
                  </a:lnTo>
                  <a:lnTo>
                    <a:pt x="364" y="447"/>
                  </a:lnTo>
                  <a:lnTo>
                    <a:pt x="406" y="457"/>
                  </a:lnTo>
                  <a:lnTo>
                    <a:pt x="437" y="457"/>
                  </a:lnTo>
                  <a:lnTo>
                    <a:pt x="478" y="468"/>
                  </a:lnTo>
                  <a:lnTo>
                    <a:pt x="499" y="468"/>
                  </a:lnTo>
                  <a:lnTo>
                    <a:pt x="551" y="478"/>
                  </a:lnTo>
                  <a:lnTo>
                    <a:pt x="572" y="478"/>
                  </a:lnTo>
                  <a:lnTo>
                    <a:pt x="624" y="478"/>
                  </a:lnTo>
                  <a:lnTo>
                    <a:pt x="655" y="488"/>
                  </a:lnTo>
                  <a:lnTo>
                    <a:pt x="697" y="488"/>
                  </a:lnTo>
                  <a:lnTo>
                    <a:pt x="697" y="22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3840" y="3940200"/>
              <a:ext cx="345960" cy="774720"/>
            </a:xfrm>
            <a:custGeom>
              <a:avLst/>
              <a:gdLst/>
              <a:ahLst/>
              <a:rect l="l" t="t" r="r" b="b"/>
              <a:pathLst>
                <a:path w="218" h="488">
                  <a:moveTo>
                    <a:pt x="218" y="0"/>
                  </a:moveTo>
                  <a:lnTo>
                    <a:pt x="0" y="229"/>
                  </a:lnTo>
                  <a:lnTo>
                    <a:pt x="0" y="488"/>
                  </a:lnTo>
                  <a:lnTo>
                    <a:pt x="218" y="26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11360" y="3560760"/>
              <a:ext cx="1468440" cy="743040"/>
            </a:xfrm>
            <a:custGeom>
              <a:avLst/>
              <a:gdLst/>
              <a:ahLst/>
              <a:rect l="l" t="t" r="r" b="b"/>
              <a:pathLst>
                <a:path w="925" h="468">
                  <a:moveTo>
                    <a:pt x="697" y="468"/>
                  </a:moveTo>
                  <a:lnTo>
                    <a:pt x="655" y="468"/>
                  </a:lnTo>
                  <a:lnTo>
                    <a:pt x="624" y="457"/>
                  </a:lnTo>
                  <a:lnTo>
                    <a:pt x="572" y="457"/>
                  </a:lnTo>
                  <a:lnTo>
                    <a:pt x="530" y="457"/>
                  </a:lnTo>
                  <a:lnTo>
                    <a:pt x="499" y="447"/>
                  </a:lnTo>
                  <a:lnTo>
                    <a:pt x="458" y="447"/>
                  </a:lnTo>
                  <a:lnTo>
                    <a:pt x="437" y="436"/>
                  </a:lnTo>
                  <a:lnTo>
                    <a:pt x="395" y="436"/>
                  </a:lnTo>
                  <a:lnTo>
                    <a:pt x="354" y="426"/>
                  </a:lnTo>
                  <a:lnTo>
                    <a:pt x="333" y="416"/>
                  </a:lnTo>
                  <a:lnTo>
                    <a:pt x="291" y="416"/>
                  </a:lnTo>
                  <a:lnTo>
                    <a:pt x="260" y="405"/>
                  </a:lnTo>
                  <a:lnTo>
                    <a:pt x="239" y="395"/>
                  </a:lnTo>
                  <a:lnTo>
                    <a:pt x="208" y="385"/>
                  </a:lnTo>
                  <a:lnTo>
                    <a:pt x="177" y="374"/>
                  </a:lnTo>
                  <a:lnTo>
                    <a:pt x="156" y="374"/>
                  </a:lnTo>
                  <a:lnTo>
                    <a:pt x="125" y="364"/>
                  </a:lnTo>
                  <a:lnTo>
                    <a:pt x="115" y="353"/>
                  </a:lnTo>
                  <a:lnTo>
                    <a:pt x="94" y="343"/>
                  </a:lnTo>
                  <a:lnTo>
                    <a:pt x="73" y="333"/>
                  </a:lnTo>
                  <a:lnTo>
                    <a:pt x="63" y="322"/>
                  </a:lnTo>
                  <a:lnTo>
                    <a:pt x="42" y="312"/>
                  </a:lnTo>
                  <a:lnTo>
                    <a:pt x="31" y="301"/>
                  </a:lnTo>
                  <a:lnTo>
                    <a:pt x="21" y="291"/>
                  </a:lnTo>
                  <a:lnTo>
                    <a:pt x="11" y="281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08"/>
                  </a:lnTo>
                  <a:lnTo>
                    <a:pt x="11" y="208"/>
                  </a:lnTo>
                  <a:lnTo>
                    <a:pt x="11" y="187"/>
                  </a:lnTo>
                  <a:lnTo>
                    <a:pt x="21" y="177"/>
                  </a:lnTo>
                  <a:lnTo>
                    <a:pt x="31" y="166"/>
                  </a:lnTo>
                  <a:lnTo>
                    <a:pt x="52" y="156"/>
                  </a:lnTo>
                  <a:lnTo>
                    <a:pt x="63" y="156"/>
                  </a:lnTo>
                  <a:lnTo>
                    <a:pt x="73" y="135"/>
                  </a:lnTo>
                  <a:lnTo>
                    <a:pt x="94" y="125"/>
                  </a:lnTo>
                  <a:lnTo>
                    <a:pt x="115" y="125"/>
                  </a:lnTo>
                  <a:lnTo>
                    <a:pt x="135" y="114"/>
                  </a:lnTo>
                  <a:lnTo>
                    <a:pt x="167" y="104"/>
                  </a:lnTo>
                  <a:lnTo>
                    <a:pt x="187" y="94"/>
                  </a:lnTo>
                  <a:lnTo>
                    <a:pt x="218" y="83"/>
                  </a:lnTo>
                  <a:lnTo>
                    <a:pt x="250" y="73"/>
                  </a:lnTo>
                  <a:lnTo>
                    <a:pt x="270" y="62"/>
                  </a:lnTo>
                  <a:lnTo>
                    <a:pt x="302" y="62"/>
                  </a:lnTo>
                  <a:lnTo>
                    <a:pt x="333" y="52"/>
                  </a:lnTo>
                  <a:lnTo>
                    <a:pt x="364" y="42"/>
                  </a:lnTo>
                  <a:lnTo>
                    <a:pt x="406" y="42"/>
                  </a:lnTo>
                  <a:lnTo>
                    <a:pt x="437" y="31"/>
                  </a:lnTo>
                  <a:lnTo>
                    <a:pt x="478" y="31"/>
                  </a:lnTo>
                  <a:lnTo>
                    <a:pt x="520" y="21"/>
                  </a:lnTo>
                  <a:lnTo>
                    <a:pt x="551" y="21"/>
                  </a:lnTo>
                  <a:lnTo>
                    <a:pt x="593" y="10"/>
                  </a:lnTo>
                  <a:lnTo>
                    <a:pt x="634" y="10"/>
                  </a:lnTo>
                  <a:lnTo>
                    <a:pt x="665" y="10"/>
                  </a:lnTo>
                  <a:lnTo>
                    <a:pt x="717" y="0"/>
                  </a:lnTo>
                  <a:lnTo>
                    <a:pt x="749" y="0"/>
                  </a:lnTo>
                  <a:lnTo>
                    <a:pt x="790" y="0"/>
                  </a:lnTo>
                  <a:lnTo>
                    <a:pt x="842" y="0"/>
                  </a:lnTo>
                  <a:lnTo>
                    <a:pt x="873" y="0"/>
                  </a:lnTo>
                  <a:lnTo>
                    <a:pt x="925" y="0"/>
                  </a:lnTo>
                  <a:lnTo>
                    <a:pt x="925" y="239"/>
                  </a:lnTo>
                  <a:lnTo>
                    <a:pt x="697" y="46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3400" y="3973680"/>
              <a:ext cx="1830240" cy="792000"/>
            </a:xfrm>
            <a:custGeom>
              <a:avLst/>
              <a:gdLst/>
              <a:ahLst/>
              <a:rect l="l" t="t" r="r" b="b"/>
              <a:pathLst>
                <a:path w="1153" h="499">
                  <a:moveTo>
                    <a:pt x="1153" y="0"/>
                  </a:moveTo>
                  <a:lnTo>
                    <a:pt x="1153" y="10"/>
                  </a:lnTo>
                  <a:lnTo>
                    <a:pt x="1143" y="21"/>
                  </a:lnTo>
                  <a:lnTo>
                    <a:pt x="1143" y="31"/>
                  </a:lnTo>
                  <a:lnTo>
                    <a:pt x="1133" y="41"/>
                  </a:lnTo>
                  <a:lnTo>
                    <a:pt x="1122" y="52"/>
                  </a:lnTo>
                  <a:lnTo>
                    <a:pt x="1112" y="62"/>
                  </a:lnTo>
                  <a:lnTo>
                    <a:pt x="1101" y="73"/>
                  </a:lnTo>
                  <a:lnTo>
                    <a:pt x="1091" y="83"/>
                  </a:lnTo>
                  <a:lnTo>
                    <a:pt x="1070" y="93"/>
                  </a:lnTo>
                  <a:lnTo>
                    <a:pt x="1049" y="104"/>
                  </a:lnTo>
                  <a:lnTo>
                    <a:pt x="1039" y="114"/>
                  </a:lnTo>
                  <a:lnTo>
                    <a:pt x="1008" y="125"/>
                  </a:lnTo>
                  <a:lnTo>
                    <a:pt x="987" y="135"/>
                  </a:lnTo>
                  <a:lnTo>
                    <a:pt x="966" y="145"/>
                  </a:lnTo>
                  <a:lnTo>
                    <a:pt x="935" y="156"/>
                  </a:lnTo>
                  <a:lnTo>
                    <a:pt x="904" y="156"/>
                  </a:lnTo>
                  <a:lnTo>
                    <a:pt x="883" y="166"/>
                  </a:lnTo>
                  <a:lnTo>
                    <a:pt x="842" y="176"/>
                  </a:lnTo>
                  <a:lnTo>
                    <a:pt x="810" y="187"/>
                  </a:lnTo>
                  <a:lnTo>
                    <a:pt x="779" y="187"/>
                  </a:lnTo>
                  <a:lnTo>
                    <a:pt x="748" y="197"/>
                  </a:lnTo>
                  <a:lnTo>
                    <a:pt x="706" y="197"/>
                  </a:lnTo>
                  <a:lnTo>
                    <a:pt x="675" y="208"/>
                  </a:lnTo>
                  <a:lnTo>
                    <a:pt x="634" y="208"/>
                  </a:lnTo>
                  <a:lnTo>
                    <a:pt x="592" y="218"/>
                  </a:lnTo>
                  <a:lnTo>
                    <a:pt x="561" y="218"/>
                  </a:lnTo>
                  <a:lnTo>
                    <a:pt x="509" y="228"/>
                  </a:lnTo>
                  <a:lnTo>
                    <a:pt x="467" y="228"/>
                  </a:lnTo>
                  <a:lnTo>
                    <a:pt x="436" y="228"/>
                  </a:lnTo>
                  <a:lnTo>
                    <a:pt x="384" y="228"/>
                  </a:lnTo>
                  <a:lnTo>
                    <a:pt x="343" y="239"/>
                  </a:lnTo>
                  <a:lnTo>
                    <a:pt x="312" y="239"/>
                  </a:lnTo>
                  <a:lnTo>
                    <a:pt x="260" y="239"/>
                  </a:lnTo>
                  <a:lnTo>
                    <a:pt x="208" y="239"/>
                  </a:lnTo>
                  <a:lnTo>
                    <a:pt x="176" y="239"/>
                  </a:lnTo>
                  <a:lnTo>
                    <a:pt x="125" y="239"/>
                  </a:lnTo>
                  <a:lnTo>
                    <a:pt x="83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488"/>
                  </a:lnTo>
                  <a:lnTo>
                    <a:pt x="52" y="488"/>
                  </a:lnTo>
                  <a:lnTo>
                    <a:pt x="83" y="488"/>
                  </a:lnTo>
                  <a:lnTo>
                    <a:pt x="125" y="499"/>
                  </a:lnTo>
                  <a:lnTo>
                    <a:pt x="176" y="499"/>
                  </a:lnTo>
                  <a:lnTo>
                    <a:pt x="208" y="499"/>
                  </a:lnTo>
                  <a:lnTo>
                    <a:pt x="260" y="499"/>
                  </a:lnTo>
                  <a:lnTo>
                    <a:pt x="312" y="499"/>
                  </a:lnTo>
                  <a:lnTo>
                    <a:pt x="343" y="499"/>
                  </a:lnTo>
                  <a:lnTo>
                    <a:pt x="384" y="488"/>
                  </a:lnTo>
                  <a:lnTo>
                    <a:pt x="436" y="488"/>
                  </a:lnTo>
                  <a:lnTo>
                    <a:pt x="467" y="488"/>
                  </a:lnTo>
                  <a:lnTo>
                    <a:pt x="509" y="488"/>
                  </a:lnTo>
                  <a:lnTo>
                    <a:pt x="561" y="478"/>
                  </a:lnTo>
                  <a:lnTo>
                    <a:pt x="592" y="478"/>
                  </a:lnTo>
                  <a:lnTo>
                    <a:pt x="634" y="467"/>
                  </a:lnTo>
                  <a:lnTo>
                    <a:pt x="675" y="467"/>
                  </a:lnTo>
                  <a:lnTo>
                    <a:pt x="706" y="457"/>
                  </a:lnTo>
                  <a:lnTo>
                    <a:pt x="748" y="457"/>
                  </a:lnTo>
                  <a:lnTo>
                    <a:pt x="779" y="447"/>
                  </a:lnTo>
                  <a:lnTo>
                    <a:pt x="810" y="447"/>
                  </a:lnTo>
                  <a:lnTo>
                    <a:pt x="842" y="436"/>
                  </a:lnTo>
                  <a:lnTo>
                    <a:pt x="883" y="426"/>
                  </a:lnTo>
                  <a:lnTo>
                    <a:pt x="904" y="415"/>
                  </a:lnTo>
                  <a:lnTo>
                    <a:pt x="935" y="415"/>
                  </a:lnTo>
                  <a:lnTo>
                    <a:pt x="966" y="405"/>
                  </a:lnTo>
                  <a:lnTo>
                    <a:pt x="987" y="395"/>
                  </a:lnTo>
                  <a:lnTo>
                    <a:pt x="1008" y="384"/>
                  </a:lnTo>
                  <a:lnTo>
                    <a:pt x="1039" y="374"/>
                  </a:lnTo>
                  <a:lnTo>
                    <a:pt x="1049" y="363"/>
                  </a:lnTo>
                  <a:lnTo>
                    <a:pt x="1070" y="353"/>
                  </a:lnTo>
                  <a:lnTo>
                    <a:pt x="1091" y="343"/>
                  </a:lnTo>
                  <a:lnTo>
                    <a:pt x="1101" y="332"/>
                  </a:lnTo>
                  <a:lnTo>
                    <a:pt x="1112" y="322"/>
                  </a:lnTo>
                  <a:lnTo>
                    <a:pt x="1122" y="312"/>
                  </a:lnTo>
                  <a:lnTo>
                    <a:pt x="1133" y="301"/>
                  </a:lnTo>
                  <a:lnTo>
                    <a:pt x="1143" y="291"/>
                  </a:lnTo>
                  <a:lnTo>
                    <a:pt x="1143" y="280"/>
                  </a:lnTo>
                  <a:lnTo>
                    <a:pt x="1153" y="270"/>
                  </a:lnTo>
                  <a:lnTo>
                    <a:pt x="1153" y="260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43400" y="3594240"/>
              <a:ext cx="1830240" cy="758520"/>
            </a:xfrm>
            <a:custGeom>
              <a:avLst/>
              <a:gdLst/>
              <a:ahLst/>
              <a:rect l="l" t="t" r="r" b="b"/>
              <a:pathLst>
                <a:path w="1153" h="478">
                  <a:moveTo>
                    <a:pt x="228" y="0"/>
                  </a:moveTo>
                  <a:lnTo>
                    <a:pt x="270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84" y="0"/>
                  </a:lnTo>
                  <a:lnTo>
                    <a:pt x="436" y="0"/>
                  </a:lnTo>
                  <a:lnTo>
                    <a:pt x="478" y="10"/>
                  </a:lnTo>
                  <a:lnTo>
                    <a:pt x="509" y="10"/>
                  </a:lnTo>
                  <a:lnTo>
                    <a:pt x="561" y="10"/>
                  </a:lnTo>
                  <a:lnTo>
                    <a:pt x="592" y="21"/>
                  </a:lnTo>
                  <a:lnTo>
                    <a:pt x="634" y="21"/>
                  </a:lnTo>
                  <a:lnTo>
                    <a:pt x="665" y="21"/>
                  </a:lnTo>
                  <a:lnTo>
                    <a:pt x="706" y="31"/>
                  </a:lnTo>
                  <a:lnTo>
                    <a:pt x="748" y="41"/>
                  </a:lnTo>
                  <a:lnTo>
                    <a:pt x="769" y="41"/>
                  </a:lnTo>
                  <a:lnTo>
                    <a:pt x="810" y="52"/>
                  </a:lnTo>
                  <a:lnTo>
                    <a:pt x="831" y="52"/>
                  </a:lnTo>
                  <a:lnTo>
                    <a:pt x="873" y="62"/>
                  </a:lnTo>
                  <a:lnTo>
                    <a:pt x="904" y="73"/>
                  </a:lnTo>
                  <a:lnTo>
                    <a:pt x="925" y="83"/>
                  </a:lnTo>
                  <a:lnTo>
                    <a:pt x="956" y="93"/>
                  </a:lnTo>
                  <a:lnTo>
                    <a:pt x="977" y="93"/>
                  </a:lnTo>
                  <a:lnTo>
                    <a:pt x="997" y="104"/>
                  </a:lnTo>
                  <a:lnTo>
                    <a:pt x="1018" y="114"/>
                  </a:lnTo>
                  <a:lnTo>
                    <a:pt x="1039" y="125"/>
                  </a:lnTo>
                  <a:lnTo>
                    <a:pt x="1060" y="135"/>
                  </a:lnTo>
                  <a:lnTo>
                    <a:pt x="1081" y="145"/>
                  </a:lnTo>
                  <a:lnTo>
                    <a:pt x="1091" y="156"/>
                  </a:lnTo>
                  <a:lnTo>
                    <a:pt x="1101" y="166"/>
                  </a:lnTo>
                  <a:lnTo>
                    <a:pt x="1122" y="176"/>
                  </a:lnTo>
                  <a:lnTo>
                    <a:pt x="1133" y="187"/>
                  </a:lnTo>
                  <a:lnTo>
                    <a:pt x="1133" y="197"/>
                  </a:lnTo>
                  <a:lnTo>
                    <a:pt x="1143" y="208"/>
                  </a:lnTo>
                  <a:lnTo>
                    <a:pt x="1143" y="218"/>
                  </a:lnTo>
                  <a:lnTo>
                    <a:pt x="1153" y="228"/>
                  </a:lnTo>
                  <a:lnTo>
                    <a:pt x="1153" y="239"/>
                  </a:lnTo>
                  <a:lnTo>
                    <a:pt x="1153" y="249"/>
                  </a:lnTo>
                  <a:lnTo>
                    <a:pt x="1143" y="260"/>
                  </a:lnTo>
                  <a:lnTo>
                    <a:pt x="1143" y="270"/>
                  </a:lnTo>
                  <a:lnTo>
                    <a:pt x="1133" y="280"/>
                  </a:lnTo>
                  <a:lnTo>
                    <a:pt x="1122" y="291"/>
                  </a:lnTo>
                  <a:lnTo>
                    <a:pt x="1112" y="301"/>
                  </a:lnTo>
                  <a:lnTo>
                    <a:pt x="1101" y="312"/>
                  </a:lnTo>
                  <a:lnTo>
                    <a:pt x="1091" y="322"/>
                  </a:lnTo>
                  <a:lnTo>
                    <a:pt x="1070" y="332"/>
                  </a:lnTo>
                  <a:lnTo>
                    <a:pt x="1060" y="343"/>
                  </a:lnTo>
                  <a:lnTo>
                    <a:pt x="1039" y="353"/>
                  </a:lnTo>
                  <a:lnTo>
                    <a:pt x="1008" y="364"/>
                  </a:lnTo>
                  <a:lnTo>
                    <a:pt x="997" y="374"/>
                  </a:lnTo>
                  <a:lnTo>
                    <a:pt x="966" y="384"/>
                  </a:lnTo>
                  <a:lnTo>
                    <a:pt x="946" y="384"/>
                  </a:lnTo>
                  <a:lnTo>
                    <a:pt x="914" y="395"/>
                  </a:lnTo>
                  <a:lnTo>
                    <a:pt x="883" y="405"/>
                  </a:lnTo>
                  <a:lnTo>
                    <a:pt x="852" y="415"/>
                  </a:lnTo>
                  <a:lnTo>
                    <a:pt x="821" y="415"/>
                  </a:lnTo>
                  <a:lnTo>
                    <a:pt x="800" y="426"/>
                  </a:lnTo>
                  <a:lnTo>
                    <a:pt x="758" y="436"/>
                  </a:lnTo>
                  <a:lnTo>
                    <a:pt x="727" y="436"/>
                  </a:lnTo>
                  <a:lnTo>
                    <a:pt x="686" y="447"/>
                  </a:lnTo>
                  <a:lnTo>
                    <a:pt x="644" y="447"/>
                  </a:lnTo>
                  <a:lnTo>
                    <a:pt x="613" y="457"/>
                  </a:lnTo>
                  <a:lnTo>
                    <a:pt x="571" y="457"/>
                  </a:lnTo>
                  <a:lnTo>
                    <a:pt x="540" y="457"/>
                  </a:lnTo>
                  <a:lnTo>
                    <a:pt x="499" y="467"/>
                  </a:lnTo>
                  <a:lnTo>
                    <a:pt x="447" y="467"/>
                  </a:lnTo>
                  <a:lnTo>
                    <a:pt x="416" y="467"/>
                  </a:lnTo>
                  <a:lnTo>
                    <a:pt x="374" y="467"/>
                  </a:lnTo>
                  <a:lnTo>
                    <a:pt x="343" y="478"/>
                  </a:lnTo>
                  <a:lnTo>
                    <a:pt x="291" y="478"/>
                  </a:lnTo>
                  <a:lnTo>
                    <a:pt x="260" y="478"/>
                  </a:lnTo>
                  <a:lnTo>
                    <a:pt x="208" y="478"/>
                  </a:lnTo>
                  <a:lnTo>
                    <a:pt x="166" y="478"/>
                  </a:lnTo>
                  <a:lnTo>
                    <a:pt x="125" y="478"/>
                  </a:lnTo>
                  <a:lnTo>
                    <a:pt x="83" y="467"/>
                  </a:lnTo>
                  <a:lnTo>
                    <a:pt x="52" y="467"/>
                  </a:lnTo>
                  <a:lnTo>
                    <a:pt x="0" y="467"/>
                  </a:lnTo>
                  <a:lnTo>
                    <a:pt x="228" y="23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7760" y="43196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3520" y="3741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12040" y="3816360"/>
              <a:ext cx="115920" cy="115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2760" y="373392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12040" y="4286160"/>
              <a:ext cx="115920" cy="115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32000" y="4203720"/>
              <a:ext cx="1588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5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861560" y="2446200"/>
            <a:ext cx="7019280" cy="3569760"/>
            <a:chOff x="1861560" y="2446200"/>
            <a:chExt cx="7019280" cy="3569760"/>
          </a:xfrm>
        </p:grpSpPr>
        <p:sp>
          <p:nvSpPr>
            <p:cNvPr id="1132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0" y="233"/>
                  </a:moveTo>
                  <a:lnTo>
                    <a:pt x="291" y="0"/>
                  </a:lnTo>
                  <a:lnTo>
                    <a:pt x="2542" y="0"/>
                  </a:lnTo>
                  <a:lnTo>
                    <a:pt x="2251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14640" y="51879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14640" y="484812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14640" y="45100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4640" y="417024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14640" y="38163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4640" y="347832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14640" y="31384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4640" y="280044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14640" y="24462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2542" y="0"/>
                  </a:moveTo>
                  <a:lnTo>
                    <a:pt x="2251" y="233"/>
                  </a:lnTo>
                  <a:lnTo>
                    <a:pt x="0" y="233"/>
                  </a:lnTo>
                  <a:lnTo>
                    <a:pt x="291" y="0"/>
                  </a:lnTo>
                  <a:lnTo>
                    <a:pt x="2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2630520"/>
              <a:ext cx="184320" cy="3157560"/>
            </a:xfrm>
            <a:custGeom>
              <a:avLst/>
              <a:gdLst/>
              <a:ahLst/>
              <a:rect l="l" t="t" r="r" b="b"/>
              <a:pathLst>
                <a:path w="116" h="1989">
                  <a:moveTo>
                    <a:pt x="0" y="1989"/>
                  </a:moveTo>
                  <a:lnTo>
                    <a:pt x="0" y="88"/>
                  </a:lnTo>
                  <a:lnTo>
                    <a:pt x="116" y="0"/>
                  </a:lnTo>
                  <a:lnTo>
                    <a:pt x="116" y="1892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52840" y="2770200"/>
              <a:ext cx="555480" cy="30178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2840" y="2630520"/>
              <a:ext cx="739800" cy="13968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350" y="88"/>
                  </a:moveTo>
                  <a:lnTo>
                    <a:pt x="466" y="0"/>
                  </a:lnTo>
                  <a:lnTo>
                    <a:pt x="126" y="0"/>
                  </a:lnTo>
                  <a:lnTo>
                    <a:pt x="0" y="88"/>
                  </a:lnTo>
                  <a:lnTo>
                    <a:pt x="350" y="8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62360" y="4402080"/>
              <a:ext cx="184320" cy="1386000"/>
            </a:xfrm>
            <a:custGeom>
              <a:avLst/>
              <a:gdLst/>
              <a:ahLst/>
              <a:rect l="l" t="t" r="r" b="b"/>
              <a:pathLst>
                <a:path w="116" h="873">
                  <a:moveTo>
                    <a:pt x="0" y="873"/>
                  </a:moveTo>
                  <a:lnTo>
                    <a:pt x="0" y="97"/>
                  </a:lnTo>
                  <a:lnTo>
                    <a:pt x="116" y="0"/>
                  </a:lnTo>
                  <a:lnTo>
                    <a:pt x="116" y="776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08320" y="4556160"/>
              <a:ext cx="554040" cy="1231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08320" y="4402080"/>
              <a:ext cx="738360" cy="154080"/>
            </a:xfrm>
            <a:custGeom>
              <a:avLst/>
              <a:gdLst/>
              <a:ahLst/>
              <a:rect l="l" t="t" r="r" b="b"/>
              <a:pathLst>
                <a:path w="465" h="97">
                  <a:moveTo>
                    <a:pt x="349" y="97"/>
                  </a:moveTo>
                  <a:lnTo>
                    <a:pt x="465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1640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62360" y="5649840"/>
              <a:ext cx="554040" cy="1382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6236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044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16400" y="5649840"/>
              <a:ext cx="554040" cy="1382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1640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0440" y="563400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0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0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60480" y="2890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00120" y="4600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2420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178600" y="5265720"/>
              <a:ext cx="19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114640" y="2815920"/>
              <a:ext cx="1440" cy="307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68560" y="5896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068560" y="55418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68560" y="520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068560" y="4863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068560" y="452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068560" y="4170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068560" y="383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068560" y="34923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2068560" y="31543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068560" y="281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2080" y="57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72080" y="541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61560" y="507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61560" y="47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6156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61560" y="4048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6156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1560" y="337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61560" y="303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61560" y="269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50200" y="2954160"/>
              <a:ext cx="10764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46400" y="2876400"/>
              <a:ext cx="21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0200" y="3524400"/>
              <a:ext cx="107640" cy="10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50000" y="3446640"/>
              <a:ext cx="177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9000" y="36939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50200" y="4094280"/>
              <a:ext cx="107640" cy="1080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51440" y="401652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50200" y="4664160"/>
              <a:ext cx="107640" cy="1080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8560" y="458640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0200" y="5234040"/>
              <a:ext cx="10764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61880" y="515628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58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6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ekojat 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zi un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jaunu tehnisko standartu pi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šan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eksplu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791720" y="2681280"/>
            <a:ext cx="6654960" cy="3297240"/>
            <a:chOff x="1791720" y="2681280"/>
            <a:chExt cx="6654960" cy="3297240"/>
          </a:xfrm>
        </p:grpSpPr>
        <p:sp>
          <p:nvSpPr>
            <p:cNvPr id="120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0" y="295"/>
                  </a:moveTo>
                  <a:lnTo>
                    <a:pt x="387" y="0"/>
                  </a:lnTo>
                  <a:lnTo>
                    <a:pt x="2395" y="0"/>
                  </a:lnTo>
                  <a:lnTo>
                    <a:pt x="2008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1880" y="494676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71880" y="449280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1880" y="404028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71880" y="358632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1880" y="313380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1880" y="268128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2395" y="0"/>
                  </a:moveTo>
                  <a:lnTo>
                    <a:pt x="2008" y="295"/>
                  </a:lnTo>
                  <a:lnTo>
                    <a:pt x="0" y="295"/>
                  </a:lnTo>
                  <a:lnTo>
                    <a:pt x="387" y="0"/>
                  </a:lnTo>
                  <a:lnTo>
                    <a:pt x="239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91000" y="3220920"/>
              <a:ext cx="247680" cy="2500560"/>
            </a:xfrm>
            <a:custGeom>
              <a:avLst/>
              <a:gdLst/>
              <a:ahLst/>
              <a:rect l="l" t="t" r="r" b="b"/>
              <a:pathLst>
                <a:path w="156" h="1575">
                  <a:moveTo>
                    <a:pt x="0" y="1575"/>
                  </a:moveTo>
                  <a:lnTo>
                    <a:pt x="0" y="120"/>
                  </a:lnTo>
                  <a:lnTo>
                    <a:pt x="156" y="0"/>
                  </a:lnTo>
                  <a:lnTo>
                    <a:pt x="156" y="1464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7560" y="3411360"/>
              <a:ext cx="703440" cy="2310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7560" y="3220920"/>
              <a:ext cx="951120" cy="190440"/>
            </a:xfrm>
            <a:custGeom>
              <a:avLst/>
              <a:gdLst/>
              <a:ahLst/>
              <a:rect l="l" t="t" r="r" b="b"/>
              <a:pathLst>
                <a:path w="599" h="120">
                  <a:moveTo>
                    <a:pt x="443" y="120"/>
                  </a:moveTo>
                  <a:lnTo>
                    <a:pt x="599" y="0"/>
                  </a:lnTo>
                  <a:lnTo>
                    <a:pt x="148" y="0"/>
                  </a:lnTo>
                  <a:lnTo>
                    <a:pt x="0" y="120"/>
                  </a:lnTo>
                  <a:lnTo>
                    <a:pt x="443" y="120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07040" y="5005440"/>
              <a:ext cx="247320" cy="716040"/>
            </a:xfrm>
            <a:custGeom>
              <a:avLst/>
              <a:gdLst/>
              <a:ahLst/>
              <a:rect l="l" t="t" r="r" b="b"/>
              <a:pathLst>
                <a:path w="156" h="451">
                  <a:moveTo>
                    <a:pt x="0" y="451"/>
                  </a:moveTo>
                  <a:lnTo>
                    <a:pt x="0" y="119"/>
                  </a:lnTo>
                  <a:lnTo>
                    <a:pt x="156" y="0"/>
                  </a:lnTo>
                  <a:lnTo>
                    <a:pt x="156" y="34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94440"/>
              <a:ext cx="716040" cy="527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005440"/>
              <a:ext cx="963360" cy="189000"/>
            </a:xfrm>
            <a:custGeom>
              <a:avLst/>
              <a:gdLst/>
              <a:ahLst/>
              <a:rect l="l" t="t" r="r" b="b"/>
              <a:pathLst>
                <a:path w="607" h="119">
                  <a:moveTo>
                    <a:pt x="451" y="119"/>
                  </a:moveTo>
                  <a:lnTo>
                    <a:pt x="607" y="0"/>
                  </a:lnTo>
                  <a:lnTo>
                    <a:pt x="156" y="0"/>
                  </a:lnTo>
                  <a:lnTo>
                    <a:pt x="0" y="119"/>
                  </a:lnTo>
                  <a:lnTo>
                    <a:pt x="451" y="11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2720" y="4815000"/>
              <a:ext cx="233640" cy="906480"/>
            </a:xfrm>
            <a:custGeom>
              <a:avLst/>
              <a:gdLst/>
              <a:ahLst/>
              <a:rect l="l" t="t" r="r" b="b"/>
              <a:pathLst>
                <a:path w="147" h="571">
                  <a:moveTo>
                    <a:pt x="0" y="571"/>
                  </a:moveTo>
                  <a:lnTo>
                    <a:pt x="0" y="120"/>
                  </a:lnTo>
                  <a:lnTo>
                    <a:pt x="147" y="0"/>
                  </a:lnTo>
                  <a:lnTo>
                    <a:pt x="147" y="46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7040" y="5005440"/>
              <a:ext cx="715680" cy="716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7040" y="481500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451" y="120"/>
                  </a:moveTo>
                  <a:lnTo>
                    <a:pt x="598" y="0"/>
                  </a:lnTo>
                  <a:lnTo>
                    <a:pt x="156" y="0"/>
                  </a:lnTo>
                  <a:lnTo>
                    <a:pt x="0" y="120"/>
                  </a:lnTo>
                  <a:lnTo>
                    <a:pt x="451" y="120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90160" y="3492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7960" y="5284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3640" y="510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71880" y="314784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128680" y="5413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2128680" y="49608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128680" y="45086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128680" y="4054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128680" y="36021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2128680" y="31478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9656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3240" y="529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91720" y="48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91720" y="439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917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1720" y="348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91720" y="303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53280" y="3654360"/>
              <a:ext cx="10296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13120" y="35812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53280" y="4084560"/>
              <a:ext cx="10296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07360" y="40114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10240" y="42451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0600" y="4478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53280" y="4915080"/>
              <a:ext cx="10296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127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liet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853280" y="2703600"/>
            <a:ext cx="6841800" cy="3335400"/>
            <a:chOff x="1853280" y="2703600"/>
            <a:chExt cx="6841800" cy="3335400"/>
          </a:xfrm>
        </p:grpSpPr>
        <p:sp>
          <p:nvSpPr>
            <p:cNvPr id="1256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0" y="292"/>
                  </a:moveTo>
                  <a:lnTo>
                    <a:pt x="386" y="0"/>
                  </a:lnTo>
                  <a:lnTo>
                    <a:pt x="2408" y="0"/>
                  </a:lnTo>
                  <a:lnTo>
                    <a:pt x="202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5920" y="50626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85920" y="467532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85920" y="42861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85920" y="38829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85920" y="349560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5920" y="31068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5920" y="27036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2408" y="0"/>
                  </a:moveTo>
                  <a:lnTo>
                    <a:pt x="2022" y="292"/>
                  </a:lnTo>
                  <a:lnTo>
                    <a:pt x="0" y="292"/>
                  </a:lnTo>
                  <a:lnTo>
                    <a:pt x="386" y="0"/>
                  </a:lnTo>
                  <a:lnTo>
                    <a:pt x="240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19440" y="3122640"/>
              <a:ext cx="238320" cy="2657520"/>
            </a:xfrm>
            <a:custGeom>
              <a:avLst/>
              <a:gdLst/>
              <a:ahLst/>
              <a:rect l="l" t="t" r="r" b="b"/>
              <a:pathLst>
                <a:path w="150" h="1674">
                  <a:moveTo>
                    <a:pt x="0" y="1674"/>
                  </a:moveTo>
                  <a:lnTo>
                    <a:pt x="0" y="113"/>
                  </a:lnTo>
                  <a:lnTo>
                    <a:pt x="150" y="0"/>
                  </a:lnTo>
                  <a:lnTo>
                    <a:pt x="150" y="1561"/>
                  </a:lnTo>
                  <a:lnTo>
                    <a:pt x="0" y="16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01960" y="3301920"/>
              <a:ext cx="717480" cy="2478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01960" y="312264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2" y="113"/>
                  </a:moveTo>
                  <a:lnTo>
                    <a:pt x="602" y="0"/>
                  </a:lnTo>
                  <a:lnTo>
                    <a:pt x="160" y="0"/>
                  </a:lnTo>
                  <a:lnTo>
                    <a:pt x="0" y="113"/>
                  </a:lnTo>
                  <a:lnTo>
                    <a:pt x="452" y="11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35480" y="5048280"/>
              <a:ext cx="239760" cy="731880"/>
            </a:xfrm>
            <a:custGeom>
              <a:avLst/>
              <a:gdLst/>
              <a:ahLst/>
              <a:rect l="l" t="t" r="r" b="b"/>
              <a:pathLst>
                <a:path w="151" h="461">
                  <a:moveTo>
                    <a:pt x="0" y="461"/>
                  </a:moveTo>
                  <a:lnTo>
                    <a:pt x="0" y="113"/>
                  </a:lnTo>
                  <a:lnTo>
                    <a:pt x="151" y="0"/>
                  </a:lnTo>
                  <a:lnTo>
                    <a:pt x="151" y="348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19440" y="5227560"/>
              <a:ext cx="716040" cy="5526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19440" y="504828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1" y="113"/>
                  </a:moveTo>
                  <a:lnTo>
                    <a:pt x="602" y="0"/>
                  </a:lnTo>
                  <a:lnTo>
                    <a:pt x="150" y="0"/>
                  </a:lnTo>
                  <a:lnTo>
                    <a:pt x="0" y="113"/>
                  </a:lnTo>
                  <a:lnTo>
                    <a:pt x="451" y="11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38560" y="5540400"/>
              <a:ext cx="254160" cy="239760"/>
            </a:xfrm>
            <a:custGeom>
              <a:avLst/>
              <a:gdLst/>
              <a:ahLst/>
              <a:rect l="l" t="t" r="r" b="b"/>
              <a:pathLst>
                <a:path w="160" h="151">
                  <a:moveTo>
                    <a:pt x="0" y="151"/>
                  </a:moveTo>
                  <a:lnTo>
                    <a:pt x="0" y="113"/>
                  </a:lnTo>
                  <a:lnTo>
                    <a:pt x="160" y="0"/>
                  </a:lnTo>
                  <a:lnTo>
                    <a:pt x="160" y="3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5719680"/>
              <a:ext cx="703080" cy="60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35480" y="5540400"/>
              <a:ext cx="957240" cy="179280"/>
            </a:xfrm>
            <a:custGeom>
              <a:avLst/>
              <a:gdLst/>
              <a:ahLst/>
              <a:rect l="l" t="t" r="r" b="b"/>
              <a:pathLst>
                <a:path w="603" h="113">
                  <a:moveTo>
                    <a:pt x="443" y="113"/>
                  </a:moveTo>
                  <a:lnTo>
                    <a:pt x="603" y="0"/>
                  </a:lnTo>
                  <a:lnTo>
                    <a:pt x="151" y="0"/>
                  </a:lnTo>
                  <a:lnTo>
                    <a:pt x="0" y="113"/>
                  </a:lnTo>
                  <a:lnTo>
                    <a:pt x="443" y="11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12480" y="3400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040" y="5278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06720" y="522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141280" y="5929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141280" y="55260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1280" y="5137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141280" y="4749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141280" y="434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141280" y="39574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41280" y="35701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141280" y="3166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57760" y="5810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59120" y="540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53280" y="5018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53280" y="463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53280" y="422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53280" y="3838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53280" y="3451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53280" y="3048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81720" y="3579840"/>
              <a:ext cx="104760" cy="104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44080" y="350532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81720" y="4122720"/>
              <a:ext cx="104760" cy="1047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680" y="40482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72600" y="428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1720" y="4913280"/>
              <a:ext cx="104760" cy="1047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7640" y="483876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1080" y="507852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69000" y="531648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8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1440720" y="3724200"/>
            <a:ext cx="7014240" cy="1230480"/>
            <a:chOff x="1440720" y="3724200"/>
            <a:chExt cx="7014240" cy="1230480"/>
          </a:xfrm>
        </p:grpSpPr>
        <p:sp>
          <p:nvSpPr>
            <p:cNvPr id="1312" name=""/>
            <p:cNvSpPr/>
            <p:nvPr/>
          </p:nvSpPr>
          <p:spPr>
            <a:xfrm>
              <a:off x="1851120" y="4095720"/>
              <a:ext cx="679320" cy="728640"/>
            </a:xfrm>
            <a:custGeom>
              <a:avLst/>
              <a:gdLst/>
              <a:ahLst/>
              <a:rect l="l" t="t" r="r" b="b"/>
              <a:pathLst>
                <a:path w="428" h="459">
                  <a:moveTo>
                    <a:pt x="428" y="204"/>
                  </a:moveTo>
                  <a:lnTo>
                    <a:pt x="398" y="204"/>
                  </a:lnTo>
                  <a:lnTo>
                    <a:pt x="367" y="194"/>
                  </a:lnTo>
                  <a:lnTo>
                    <a:pt x="337" y="194"/>
                  </a:lnTo>
                  <a:lnTo>
                    <a:pt x="306" y="184"/>
                  </a:lnTo>
                  <a:lnTo>
                    <a:pt x="275" y="174"/>
                  </a:lnTo>
                  <a:lnTo>
                    <a:pt x="245" y="163"/>
                  </a:lnTo>
                  <a:lnTo>
                    <a:pt x="224" y="163"/>
                  </a:lnTo>
                  <a:lnTo>
                    <a:pt x="204" y="153"/>
                  </a:lnTo>
                  <a:lnTo>
                    <a:pt x="173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23"/>
                  </a:lnTo>
                  <a:lnTo>
                    <a:pt x="102" y="113"/>
                  </a:lnTo>
                  <a:lnTo>
                    <a:pt x="82" y="102"/>
                  </a:lnTo>
                  <a:lnTo>
                    <a:pt x="61" y="92"/>
                  </a:lnTo>
                  <a:lnTo>
                    <a:pt x="51" y="82"/>
                  </a:lnTo>
                  <a:lnTo>
                    <a:pt x="41" y="72"/>
                  </a:lnTo>
                  <a:lnTo>
                    <a:pt x="20" y="62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10" y="296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41" y="327"/>
                  </a:lnTo>
                  <a:lnTo>
                    <a:pt x="51" y="337"/>
                  </a:lnTo>
                  <a:lnTo>
                    <a:pt x="61" y="347"/>
                  </a:lnTo>
                  <a:lnTo>
                    <a:pt x="82" y="357"/>
                  </a:lnTo>
                  <a:lnTo>
                    <a:pt x="102" y="367"/>
                  </a:lnTo>
                  <a:lnTo>
                    <a:pt x="112" y="378"/>
                  </a:lnTo>
                  <a:lnTo>
                    <a:pt x="133" y="378"/>
                  </a:lnTo>
                  <a:lnTo>
                    <a:pt x="153" y="388"/>
                  </a:lnTo>
                  <a:lnTo>
                    <a:pt x="173" y="398"/>
                  </a:lnTo>
                  <a:lnTo>
                    <a:pt x="204" y="408"/>
                  </a:lnTo>
                  <a:lnTo>
                    <a:pt x="224" y="418"/>
                  </a:lnTo>
                  <a:lnTo>
                    <a:pt x="245" y="418"/>
                  </a:lnTo>
                  <a:lnTo>
                    <a:pt x="275" y="429"/>
                  </a:lnTo>
                  <a:lnTo>
                    <a:pt x="306" y="439"/>
                  </a:lnTo>
                  <a:lnTo>
                    <a:pt x="337" y="449"/>
                  </a:lnTo>
                  <a:lnTo>
                    <a:pt x="367" y="449"/>
                  </a:lnTo>
                  <a:lnTo>
                    <a:pt x="398" y="459"/>
                  </a:lnTo>
                  <a:lnTo>
                    <a:pt x="428" y="459"/>
                  </a:lnTo>
                  <a:lnTo>
                    <a:pt x="428" y="20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46280" y="4095720"/>
              <a:ext cx="762120" cy="728640"/>
            </a:xfrm>
            <a:custGeom>
              <a:avLst/>
              <a:gdLst/>
              <a:ahLst/>
              <a:rect l="l" t="t" r="r" b="b"/>
              <a:pathLst>
                <a:path w="480" h="459">
                  <a:moveTo>
                    <a:pt x="480" y="0"/>
                  </a:moveTo>
                  <a:lnTo>
                    <a:pt x="0" y="204"/>
                  </a:lnTo>
                  <a:lnTo>
                    <a:pt x="0" y="459"/>
                  </a:lnTo>
                  <a:lnTo>
                    <a:pt x="480" y="255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51120" y="3724200"/>
              <a:ext cx="1457280" cy="695520"/>
            </a:xfrm>
            <a:custGeom>
              <a:avLst/>
              <a:gdLst/>
              <a:ahLst/>
              <a:rect l="l" t="t" r="r" b="b"/>
              <a:pathLst>
                <a:path w="918" h="438">
                  <a:moveTo>
                    <a:pt x="428" y="438"/>
                  </a:moveTo>
                  <a:lnTo>
                    <a:pt x="387" y="428"/>
                  </a:lnTo>
                  <a:lnTo>
                    <a:pt x="367" y="428"/>
                  </a:lnTo>
                  <a:lnTo>
                    <a:pt x="326" y="418"/>
                  </a:lnTo>
                  <a:lnTo>
                    <a:pt x="306" y="418"/>
                  </a:lnTo>
                  <a:lnTo>
                    <a:pt x="265" y="408"/>
                  </a:lnTo>
                  <a:lnTo>
                    <a:pt x="235" y="397"/>
                  </a:lnTo>
                  <a:lnTo>
                    <a:pt x="214" y="387"/>
                  </a:lnTo>
                  <a:lnTo>
                    <a:pt x="184" y="377"/>
                  </a:lnTo>
                  <a:lnTo>
                    <a:pt x="163" y="377"/>
                  </a:lnTo>
                  <a:lnTo>
                    <a:pt x="133" y="367"/>
                  </a:lnTo>
                  <a:lnTo>
                    <a:pt x="112" y="357"/>
                  </a:lnTo>
                  <a:lnTo>
                    <a:pt x="102" y="347"/>
                  </a:lnTo>
                  <a:lnTo>
                    <a:pt x="82" y="336"/>
                  </a:lnTo>
                  <a:lnTo>
                    <a:pt x="61" y="326"/>
                  </a:lnTo>
                  <a:lnTo>
                    <a:pt x="51" y="316"/>
                  </a:lnTo>
                  <a:lnTo>
                    <a:pt x="31" y="306"/>
                  </a:lnTo>
                  <a:lnTo>
                    <a:pt x="20" y="296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65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10" y="194"/>
                  </a:lnTo>
                  <a:lnTo>
                    <a:pt x="20" y="183"/>
                  </a:lnTo>
                  <a:lnTo>
                    <a:pt x="31" y="173"/>
                  </a:lnTo>
                  <a:lnTo>
                    <a:pt x="41" y="163"/>
                  </a:lnTo>
                  <a:lnTo>
                    <a:pt x="51" y="153"/>
                  </a:lnTo>
                  <a:lnTo>
                    <a:pt x="61" y="143"/>
                  </a:lnTo>
                  <a:lnTo>
                    <a:pt x="82" y="132"/>
                  </a:lnTo>
                  <a:lnTo>
                    <a:pt x="102" y="122"/>
                  </a:lnTo>
                  <a:lnTo>
                    <a:pt x="122" y="112"/>
                  </a:lnTo>
                  <a:lnTo>
                    <a:pt x="143" y="102"/>
                  </a:lnTo>
                  <a:lnTo>
                    <a:pt x="163" y="102"/>
                  </a:lnTo>
                  <a:lnTo>
                    <a:pt x="194" y="92"/>
                  </a:lnTo>
                  <a:lnTo>
                    <a:pt x="224" y="81"/>
                  </a:lnTo>
                  <a:lnTo>
                    <a:pt x="245" y="71"/>
                  </a:lnTo>
                  <a:lnTo>
                    <a:pt x="275" y="61"/>
                  </a:lnTo>
                  <a:lnTo>
                    <a:pt x="306" y="61"/>
                  </a:lnTo>
                  <a:lnTo>
                    <a:pt x="337" y="51"/>
                  </a:lnTo>
                  <a:lnTo>
                    <a:pt x="377" y="41"/>
                  </a:lnTo>
                  <a:lnTo>
                    <a:pt x="398" y="41"/>
                  </a:lnTo>
                  <a:lnTo>
                    <a:pt x="438" y="31"/>
                  </a:lnTo>
                  <a:lnTo>
                    <a:pt x="469" y="31"/>
                  </a:lnTo>
                  <a:lnTo>
                    <a:pt x="510" y="20"/>
                  </a:lnTo>
                  <a:lnTo>
                    <a:pt x="561" y="20"/>
                  </a:lnTo>
                  <a:lnTo>
                    <a:pt x="581" y="10"/>
                  </a:lnTo>
                  <a:lnTo>
                    <a:pt x="632" y="10"/>
                  </a:lnTo>
                  <a:lnTo>
                    <a:pt x="663" y="10"/>
                  </a:lnTo>
                  <a:lnTo>
                    <a:pt x="714" y="0"/>
                  </a:lnTo>
                  <a:lnTo>
                    <a:pt x="755" y="0"/>
                  </a:lnTo>
                  <a:lnTo>
                    <a:pt x="785" y="0"/>
                  </a:lnTo>
                  <a:lnTo>
                    <a:pt x="836" y="0"/>
                  </a:lnTo>
                  <a:lnTo>
                    <a:pt x="867" y="0"/>
                  </a:lnTo>
                  <a:lnTo>
                    <a:pt x="918" y="0"/>
                  </a:lnTo>
                  <a:lnTo>
                    <a:pt x="918" y="234"/>
                  </a:lnTo>
                  <a:lnTo>
                    <a:pt x="428" y="43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3240" y="4160880"/>
              <a:ext cx="2233800" cy="793800"/>
            </a:xfrm>
            <a:custGeom>
              <a:avLst/>
              <a:gdLst/>
              <a:ahLst/>
              <a:rect l="l" t="t" r="r" b="b"/>
              <a:pathLst>
                <a:path w="1407" h="500">
                  <a:moveTo>
                    <a:pt x="1407" y="0"/>
                  </a:moveTo>
                  <a:lnTo>
                    <a:pt x="1407" y="10"/>
                  </a:lnTo>
                  <a:lnTo>
                    <a:pt x="1397" y="21"/>
                  </a:lnTo>
                  <a:lnTo>
                    <a:pt x="1397" y="41"/>
                  </a:lnTo>
                  <a:lnTo>
                    <a:pt x="1386" y="41"/>
                  </a:lnTo>
                  <a:lnTo>
                    <a:pt x="1376" y="61"/>
                  </a:lnTo>
                  <a:lnTo>
                    <a:pt x="1376" y="61"/>
                  </a:lnTo>
                  <a:lnTo>
                    <a:pt x="1356" y="82"/>
                  </a:lnTo>
                  <a:lnTo>
                    <a:pt x="1346" y="82"/>
                  </a:lnTo>
                  <a:lnTo>
                    <a:pt x="1335" y="92"/>
                  </a:lnTo>
                  <a:lnTo>
                    <a:pt x="1315" y="102"/>
                  </a:lnTo>
                  <a:lnTo>
                    <a:pt x="1295" y="112"/>
                  </a:lnTo>
                  <a:lnTo>
                    <a:pt x="1274" y="122"/>
                  </a:lnTo>
                  <a:lnTo>
                    <a:pt x="1254" y="133"/>
                  </a:lnTo>
                  <a:lnTo>
                    <a:pt x="1233" y="143"/>
                  </a:lnTo>
                  <a:lnTo>
                    <a:pt x="1213" y="153"/>
                  </a:lnTo>
                  <a:lnTo>
                    <a:pt x="1183" y="163"/>
                  </a:lnTo>
                  <a:lnTo>
                    <a:pt x="1162" y="163"/>
                  </a:lnTo>
                  <a:lnTo>
                    <a:pt x="1121" y="173"/>
                  </a:lnTo>
                  <a:lnTo>
                    <a:pt x="1101" y="184"/>
                  </a:lnTo>
                  <a:lnTo>
                    <a:pt x="1060" y="194"/>
                  </a:lnTo>
                  <a:lnTo>
                    <a:pt x="1040" y="194"/>
                  </a:lnTo>
                  <a:lnTo>
                    <a:pt x="999" y="204"/>
                  </a:lnTo>
                  <a:lnTo>
                    <a:pt x="968" y="204"/>
                  </a:lnTo>
                  <a:lnTo>
                    <a:pt x="928" y="214"/>
                  </a:lnTo>
                  <a:lnTo>
                    <a:pt x="887" y="214"/>
                  </a:lnTo>
                  <a:lnTo>
                    <a:pt x="856" y="224"/>
                  </a:lnTo>
                  <a:lnTo>
                    <a:pt x="815" y="224"/>
                  </a:lnTo>
                  <a:lnTo>
                    <a:pt x="785" y="224"/>
                  </a:lnTo>
                  <a:lnTo>
                    <a:pt x="744" y="235"/>
                  </a:lnTo>
                  <a:lnTo>
                    <a:pt x="714" y="235"/>
                  </a:lnTo>
                  <a:lnTo>
                    <a:pt x="663" y="235"/>
                  </a:lnTo>
                  <a:lnTo>
                    <a:pt x="632" y="235"/>
                  </a:lnTo>
                  <a:lnTo>
                    <a:pt x="581" y="245"/>
                  </a:lnTo>
                  <a:lnTo>
                    <a:pt x="550" y="245"/>
                  </a:lnTo>
                  <a:lnTo>
                    <a:pt x="499" y="245"/>
                  </a:lnTo>
                  <a:lnTo>
                    <a:pt x="459" y="245"/>
                  </a:lnTo>
                  <a:lnTo>
                    <a:pt x="418" y="245"/>
                  </a:lnTo>
                  <a:lnTo>
                    <a:pt x="377" y="245"/>
                  </a:lnTo>
                  <a:lnTo>
                    <a:pt x="346" y="235"/>
                  </a:lnTo>
                  <a:lnTo>
                    <a:pt x="296" y="235"/>
                  </a:lnTo>
                  <a:lnTo>
                    <a:pt x="265" y="235"/>
                  </a:lnTo>
                  <a:lnTo>
                    <a:pt x="214" y="235"/>
                  </a:lnTo>
                  <a:lnTo>
                    <a:pt x="183" y="224"/>
                  </a:lnTo>
                  <a:lnTo>
                    <a:pt x="143" y="224"/>
                  </a:lnTo>
                  <a:lnTo>
                    <a:pt x="112" y="224"/>
                  </a:lnTo>
                  <a:lnTo>
                    <a:pt x="71" y="214"/>
                  </a:lnTo>
                  <a:lnTo>
                    <a:pt x="41" y="214"/>
                  </a:lnTo>
                  <a:lnTo>
                    <a:pt x="0" y="204"/>
                  </a:lnTo>
                  <a:lnTo>
                    <a:pt x="0" y="459"/>
                  </a:lnTo>
                  <a:lnTo>
                    <a:pt x="41" y="469"/>
                  </a:lnTo>
                  <a:lnTo>
                    <a:pt x="71" y="469"/>
                  </a:lnTo>
                  <a:lnTo>
                    <a:pt x="112" y="479"/>
                  </a:lnTo>
                  <a:lnTo>
                    <a:pt x="143" y="479"/>
                  </a:lnTo>
                  <a:lnTo>
                    <a:pt x="183" y="479"/>
                  </a:lnTo>
                  <a:lnTo>
                    <a:pt x="214" y="489"/>
                  </a:lnTo>
                  <a:lnTo>
                    <a:pt x="265" y="489"/>
                  </a:lnTo>
                  <a:lnTo>
                    <a:pt x="296" y="489"/>
                  </a:lnTo>
                  <a:lnTo>
                    <a:pt x="346" y="489"/>
                  </a:lnTo>
                  <a:lnTo>
                    <a:pt x="377" y="500"/>
                  </a:lnTo>
                  <a:lnTo>
                    <a:pt x="418" y="500"/>
                  </a:lnTo>
                  <a:lnTo>
                    <a:pt x="459" y="500"/>
                  </a:lnTo>
                  <a:lnTo>
                    <a:pt x="499" y="500"/>
                  </a:lnTo>
                  <a:lnTo>
                    <a:pt x="550" y="500"/>
                  </a:lnTo>
                  <a:lnTo>
                    <a:pt x="581" y="500"/>
                  </a:lnTo>
                  <a:lnTo>
                    <a:pt x="632" y="489"/>
                  </a:lnTo>
                  <a:lnTo>
                    <a:pt x="663" y="489"/>
                  </a:lnTo>
                  <a:lnTo>
                    <a:pt x="714" y="489"/>
                  </a:lnTo>
                  <a:lnTo>
                    <a:pt x="744" y="489"/>
                  </a:lnTo>
                  <a:lnTo>
                    <a:pt x="785" y="479"/>
                  </a:lnTo>
                  <a:lnTo>
                    <a:pt x="815" y="479"/>
                  </a:lnTo>
                  <a:lnTo>
                    <a:pt x="856" y="479"/>
                  </a:lnTo>
                  <a:lnTo>
                    <a:pt x="887" y="469"/>
                  </a:lnTo>
                  <a:lnTo>
                    <a:pt x="928" y="469"/>
                  </a:lnTo>
                  <a:lnTo>
                    <a:pt x="968" y="459"/>
                  </a:lnTo>
                  <a:lnTo>
                    <a:pt x="999" y="459"/>
                  </a:lnTo>
                  <a:lnTo>
                    <a:pt x="1040" y="449"/>
                  </a:lnTo>
                  <a:lnTo>
                    <a:pt x="1060" y="449"/>
                  </a:lnTo>
                  <a:lnTo>
                    <a:pt x="1101" y="439"/>
                  </a:lnTo>
                  <a:lnTo>
                    <a:pt x="1121" y="428"/>
                  </a:lnTo>
                  <a:lnTo>
                    <a:pt x="1162" y="418"/>
                  </a:lnTo>
                  <a:lnTo>
                    <a:pt x="1183" y="418"/>
                  </a:lnTo>
                  <a:lnTo>
                    <a:pt x="1213" y="408"/>
                  </a:lnTo>
                  <a:lnTo>
                    <a:pt x="1233" y="398"/>
                  </a:lnTo>
                  <a:lnTo>
                    <a:pt x="1254" y="388"/>
                  </a:lnTo>
                  <a:lnTo>
                    <a:pt x="1274" y="377"/>
                  </a:lnTo>
                  <a:lnTo>
                    <a:pt x="1295" y="367"/>
                  </a:lnTo>
                  <a:lnTo>
                    <a:pt x="1315" y="357"/>
                  </a:lnTo>
                  <a:lnTo>
                    <a:pt x="1335" y="347"/>
                  </a:lnTo>
                  <a:lnTo>
                    <a:pt x="1346" y="337"/>
                  </a:lnTo>
                  <a:lnTo>
                    <a:pt x="1356" y="337"/>
                  </a:lnTo>
                  <a:lnTo>
                    <a:pt x="1376" y="316"/>
                  </a:lnTo>
                  <a:lnTo>
                    <a:pt x="1376" y="316"/>
                  </a:lnTo>
                  <a:lnTo>
                    <a:pt x="1386" y="296"/>
                  </a:lnTo>
                  <a:lnTo>
                    <a:pt x="1397" y="296"/>
                  </a:lnTo>
                  <a:lnTo>
                    <a:pt x="1397" y="275"/>
                  </a:lnTo>
                  <a:lnTo>
                    <a:pt x="1407" y="265"/>
                  </a:lnTo>
                  <a:lnTo>
                    <a:pt x="1407" y="255"/>
                  </a:lnTo>
                  <a:lnTo>
                    <a:pt x="1407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43240" y="3789360"/>
              <a:ext cx="2233800" cy="760320"/>
            </a:xfrm>
            <a:custGeom>
              <a:avLst/>
              <a:gdLst/>
              <a:ahLst/>
              <a:rect l="l" t="t" r="r" b="b"/>
              <a:pathLst>
                <a:path w="1407" h="479">
                  <a:moveTo>
                    <a:pt x="489" y="0"/>
                  </a:moveTo>
                  <a:lnTo>
                    <a:pt x="530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42" y="0"/>
                  </a:lnTo>
                  <a:lnTo>
                    <a:pt x="693" y="0"/>
                  </a:lnTo>
                  <a:lnTo>
                    <a:pt x="744" y="10"/>
                  </a:lnTo>
                  <a:lnTo>
                    <a:pt x="775" y="10"/>
                  </a:lnTo>
                  <a:lnTo>
                    <a:pt x="815" y="10"/>
                  </a:lnTo>
                  <a:lnTo>
                    <a:pt x="856" y="20"/>
                  </a:lnTo>
                  <a:lnTo>
                    <a:pt x="887" y="20"/>
                  </a:lnTo>
                  <a:lnTo>
                    <a:pt x="928" y="30"/>
                  </a:lnTo>
                  <a:lnTo>
                    <a:pt x="958" y="30"/>
                  </a:lnTo>
                  <a:lnTo>
                    <a:pt x="999" y="40"/>
                  </a:lnTo>
                  <a:lnTo>
                    <a:pt x="1040" y="40"/>
                  </a:lnTo>
                  <a:lnTo>
                    <a:pt x="1060" y="51"/>
                  </a:lnTo>
                  <a:lnTo>
                    <a:pt x="1101" y="61"/>
                  </a:lnTo>
                  <a:lnTo>
                    <a:pt x="1121" y="61"/>
                  </a:lnTo>
                  <a:lnTo>
                    <a:pt x="1162" y="71"/>
                  </a:lnTo>
                  <a:lnTo>
                    <a:pt x="1193" y="81"/>
                  </a:lnTo>
                  <a:lnTo>
                    <a:pt x="1213" y="91"/>
                  </a:lnTo>
                  <a:lnTo>
                    <a:pt x="1233" y="102"/>
                  </a:lnTo>
                  <a:lnTo>
                    <a:pt x="1264" y="112"/>
                  </a:lnTo>
                  <a:lnTo>
                    <a:pt x="1284" y="112"/>
                  </a:lnTo>
                  <a:lnTo>
                    <a:pt x="1305" y="132"/>
                  </a:lnTo>
                  <a:lnTo>
                    <a:pt x="1315" y="132"/>
                  </a:lnTo>
                  <a:lnTo>
                    <a:pt x="1335" y="142"/>
                  </a:lnTo>
                  <a:lnTo>
                    <a:pt x="1356" y="163"/>
                  </a:lnTo>
                  <a:lnTo>
                    <a:pt x="1366" y="163"/>
                  </a:lnTo>
                  <a:lnTo>
                    <a:pt x="1376" y="183"/>
                  </a:lnTo>
                  <a:lnTo>
                    <a:pt x="1386" y="193"/>
                  </a:lnTo>
                  <a:lnTo>
                    <a:pt x="1397" y="204"/>
                  </a:lnTo>
                  <a:lnTo>
                    <a:pt x="1397" y="214"/>
                  </a:lnTo>
                  <a:lnTo>
                    <a:pt x="1407" y="224"/>
                  </a:lnTo>
                  <a:lnTo>
                    <a:pt x="1407" y="234"/>
                  </a:lnTo>
                  <a:lnTo>
                    <a:pt x="1407" y="244"/>
                  </a:lnTo>
                  <a:lnTo>
                    <a:pt x="1407" y="255"/>
                  </a:lnTo>
                  <a:lnTo>
                    <a:pt x="1397" y="265"/>
                  </a:lnTo>
                  <a:lnTo>
                    <a:pt x="1397" y="275"/>
                  </a:lnTo>
                  <a:lnTo>
                    <a:pt x="1386" y="285"/>
                  </a:lnTo>
                  <a:lnTo>
                    <a:pt x="1376" y="295"/>
                  </a:lnTo>
                  <a:lnTo>
                    <a:pt x="1366" y="306"/>
                  </a:lnTo>
                  <a:lnTo>
                    <a:pt x="1346" y="316"/>
                  </a:lnTo>
                  <a:lnTo>
                    <a:pt x="1335" y="326"/>
                  </a:lnTo>
                  <a:lnTo>
                    <a:pt x="1315" y="336"/>
                  </a:lnTo>
                  <a:lnTo>
                    <a:pt x="1295" y="346"/>
                  </a:lnTo>
                  <a:lnTo>
                    <a:pt x="1284" y="356"/>
                  </a:lnTo>
                  <a:lnTo>
                    <a:pt x="1254" y="367"/>
                  </a:lnTo>
                  <a:lnTo>
                    <a:pt x="1233" y="377"/>
                  </a:lnTo>
                  <a:lnTo>
                    <a:pt x="1213" y="387"/>
                  </a:lnTo>
                  <a:lnTo>
                    <a:pt x="1183" y="397"/>
                  </a:lnTo>
                  <a:lnTo>
                    <a:pt x="1162" y="397"/>
                  </a:lnTo>
                  <a:lnTo>
                    <a:pt x="1121" y="407"/>
                  </a:lnTo>
                  <a:lnTo>
                    <a:pt x="1091" y="418"/>
                  </a:lnTo>
                  <a:lnTo>
                    <a:pt x="1060" y="428"/>
                  </a:lnTo>
                  <a:lnTo>
                    <a:pt x="1030" y="428"/>
                  </a:lnTo>
                  <a:lnTo>
                    <a:pt x="989" y="438"/>
                  </a:lnTo>
                  <a:lnTo>
                    <a:pt x="958" y="438"/>
                  </a:lnTo>
                  <a:lnTo>
                    <a:pt x="917" y="448"/>
                  </a:lnTo>
                  <a:lnTo>
                    <a:pt x="887" y="448"/>
                  </a:lnTo>
                  <a:lnTo>
                    <a:pt x="846" y="458"/>
                  </a:lnTo>
                  <a:lnTo>
                    <a:pt x="805" y="458"/>
                  </a:lnTo>
                  <a:lnTo>
                    <a:pt x="775" y="469"/>
                  </a:lnTo>
                  <a:lnTo>
                    <a:pt x="724" y="469"/>
                  </a:lnTo>
                  <a:lnTo>
                    <a:pt x="673" y="469"/>
                  </a:lnTo>
                  <a:lnTo>
                    <a:pt x="642" y="469"/>
                  </a:lnTo>
                  <a:lnTo>
                    <a:pt x="601" y="479"/>
                  </a:lnTo>
                  <a:lnTo>
                    <a:pt x="571" y="479"/>
                  </a:lnTo>
                  <a:lnTo>
                    <a:pt x="520" y="479"/>
                  </a:lnTo>
                  <a:lnTo>
                    <a:pt x="469" y="479"/>
                  </a:lnTo>
                  <a:lnTo>
                    <a:pt x="438" y="479"/>
                  </a:lnTo>
                  <a:lnTo>
                    <a:pt x="387" y="479"/>
                  </a:lnTo>
                  <a:lnTo>
                    <a:pt x="357" y="479"/>
                  </a:lnTo>
                  <a:lnTo>
                    <a:pt x="316" y="469"/>
                  </a:lnTo>
                  <a:lnTo>
                    <a:pt x="265" y="469"/>
                  </a:lnTo>
                  <a:lnTo>
                    <a:pt x="234" y="469"/>
                  </a:lnTo>
                  <a:lnTo>
                    <a:pt x="183" y="458"/>
                  </a:lnTo>
                  <a:lnTo>
                    <a:pt x="143" y="458"/>
                  </a:lnTo>
                  <a:lnTo>
                    <a:pt x="112" y="458"/>
                  </a:lnTo>
                  <a:lnTo>
                    <a:pt x="71" y="448"/>
                  </a:lnTo>
                  <a:lnTo>
                    <a:pt x="41" y="448"/>
                  </a:lnTo>
                  <a:lnTo>
                    <a:pt x="0" y="438"/>
                  </a:lnTo>
                  <a:lnTo>
                    <a:pt x="489" y="234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50480" y="4597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0720" y="38210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89880" y="4129200"/>
              <a:ext cx="11412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04800" y="404820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89880" y="4468680"/>
              <a:ext cx="11412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02640" y="438768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9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64800" y="2441520"/>
            <a:ext cx="6971040" cy="3537720"/>
            <a:chOff x="1864800" y="2441520"/>
            <a:chExt cx="6971040" cy="3537720"/>
          </a:xfrm>
        </p:grpSpPr>
        <p:sp>
          <p:nvSpPr>
            <p:cNvPr id="1328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0" y="221"/>
                  </a:moveTo>
                  <a:lnTo>
                    <a:pt x="288" y="0"/>
                  </a:lnTo>
                  <a:lnTo>
                    <a:pt x="2535" y="0"/>
                  </a:lnTo>
                  <a:lnTo>
                    <a:pt x="224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08160" y="51703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08160" y="4819680"/>
              <a:ext cx="4024440" cy="3668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8160" y="4484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8160" y="4149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08160" y="3798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08160" y="34639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08160" y="3112920"/>
              <a:ext cx="4024440" cy="36540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08160" y="27781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08160" y="2441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2535" y="0"/>
                  </a:moveTo>
                  <a:lnTo>
                    <a:pt x="2247" y="221"/>
                  </a:lnTo>
                  <a:lnTo>
                    <a:pt x="0" y="221"/>
                  </a:lnTo>
                  <a:lnTo>
                    <a:pt x="288" y="0"/>
                  </a:lnTo>
                  <a:lnTo>
                    <a:pt x="253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5080" y="4454640"/>
              <a:ext cx="184320" cy="1295280"/>
            </a:xfrm>
            <a:custGeom>
              <a:avLst/>
              <a:gdLst/>
              <a:ahLst/>
              <a:rect l="l" t="t" r="r" b="b"/>
              <a:pathLst>
                <a:path w="116" h="816">
                  <a:moveTo>
                    <a:pt x="0" y="816"/>
                  </a:moveTo>
                  <a:lnTo>
                    <a:pt x="0" y="86"/>
                  </a:lnTo>
                  <a:lnTo>
                    <a:pt x="116" y="0"/>
                  </a:lnTo>
                  <a:lnTo>
                    <a:pt x="116" y="73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57520" y="4591080"/>
              <a:ext cx="547560" cy="11588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57520" y="4454640"/>
              <a:ext cx="73188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54440" y="2854440"/>
              <a:ext cx="182520" cy="2895480"/>
            </a:xfrm>
            <a:custGeom>
              <a:avLst/>
              <a:gdLst/>
              <a:ahLst/>
              <a:rect l="l" t="t" r="r" b="b"/>
              <a:pathLst>
                <a:path w="115" h="1824">
                  <a:moveTo>
                    <a:pt x="0" y="1824"/>
                  </a:moveTo>
                  <a:lnTo>
                    <a:pt x="0" y="86"/>
                  </a:lnTo>
                  <a:lnTo>
                    <a:pt x="115" y="0"/>
                  </a:lnTo>
                  <a:lnTo>
                    <a:pt x="115" y="1738"/>
                  </a:lnTo>
                  <a:lnTo>
                    <a:pt x="0" y="182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05080" y="2990880"/>
              <a:ext cx="549360" cy="27590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05080" y="2868480"/>
              <a:ext cx="731880" cy="12240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6" y="86"/>
                  </a:moveTo>
                  <a:lnTo>
                    <a:pt x="461" y="0"/>
                  </a:lnTo>
                  <a:lnTo>
                    <a:pt x="116" y="0"/>
                  </a:lnTo>
                  <a:lnTo>
                    <a:pt x="0" y="86"/>
                  </a:lnTo>
                  <a:lnTo>
                    <a:pt x="346" y="86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800" y="5170320"/>
              <a:ext cx="182520" cy="57960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0" y="36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279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54440" y="5308560"/>
              <a:ext cx="549360" cy="44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54440" y="5170320"/>
              <a:ext cx="731880" cy="13824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53160" y="5551560"/>
              <a:ext cx="18252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12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3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800" y="5689440"/>
              <a:ext cx="549360" cy="604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03800" y="5551560"/>
              <a:ext cx="731880" cy="13788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3160" y="5613480"/>
              <a:ext cx="73152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55440" y="468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4800" y="3112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5236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4200" y="530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2120" y="5278320"/>
              <a:ext cx="19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108160" y="2792520"/>
              <a:ext cx="180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62080" y="5856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062080" y="5521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062080" y="5186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062080" y="4835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62080" y="4500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062080" y="4149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062080" y="38149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062080" y="3478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062080" y="3129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062080" y="2792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681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480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4800" y="506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4800" y="4713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64800" y="4378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64800" y="4027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864800" y="3692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64800" y="335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64800" y="3006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64800" y="267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9320" y="2944800"/>
              <a:ext cx="10656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4440" y="2868480"/>
              <a:ext cx="211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9320" y="3429000"/>
              <a:ext cx="106560" cy="1062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97440" y="3352680"/>
              <a:ext cx="175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96720" y="35956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9320" y="4073400"/>
              <a:ext cx="106560" cy="1065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20840" y="3997440"/>
              <a:ext cx="196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29320" y="4572000"/>
              <a:ext cx="106560" cy="1062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94560" y="4495680"/>
              <a:ext cx="176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29320" y="5105520"/>
              <a:ext cx="10656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97080" y="5029200"/>
              <a:ext cx="36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0. A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asta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es esošo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evie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laikā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605600" y="2666880"/>
            <a:ext cx="6669720" cy="3505680"/>
            <a:chOff x="1605600" y="2666880"/>
            <a:chExt cx="6669720" cy="3505680"/>
          </a:xfrm>
        </p:grpSpPr>
        <p:sp>
          <p:nvSpPr>
            <p:cNvPr id="1399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0" y="149"/>
                  </a:moveTo>
                  <a:lnTo>
                    <a:pt x="194" y="0"/>
                  </a:lnTo>
                  <a:lnTo>
                    <a:pt x="2297" y="0"/>
                  </a:lnTo>
                  <a:lnTo>
                    <a:pt x="2103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514044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43280" y="453708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3280" y="394812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3280" y="335916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43280" y="27558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2297" y="0"/>
                  </a:moveTo>
                  <a:lnTo>
                    <a:pt x="2103" y="149"/>
                  </a:lnTo>
                  <a:lnTo>
                    <a:pt x="0" y="149"/>
                  </a:lnTo>
                  <a:lnTo>
                    <a:pt x="194" y="0"/>
                  </a:lnTo>
                  <a:lnTo>
                    <a:pt x="229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7800" y="4272120"/>
              <a:ext cx="133560" cy="1617480"/>
            </a:xfrm>
            <a:custGeom>
              <a:avLst/>
              <a:gdLst/>
              <a:ahLst/>
              <a:rect l="l" t="t" r="r" b="b"/>
              <a:pathLst>
                <a:path w="84" h="1019">
                  <a:moveTo>
                    <a:pt x="0" y="1019"/>
                  </a:moveTo>
                  <a:lnTo>
                    <a:pt x="0" y="65"/>
                  </a:lnTo>
                  <a:lnTo>
                    <a:pt x="84" y="0"/>
                  </a:lnTo>
                  <a:lnTo>
                    <a:pt x="84" y="964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09760" y="4375080"/>
              <a:ext cx="338040" cy="1514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9760" y="4272120"/>
              <a:ext cx="471600" cy="10296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13" y="65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65"/>
                  </a:lnTo>
                  <a:lnTo>
                    <a:pt x="213" y="6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02040" y="3976560"/>
              <a:ext cx="117360" cy="1913040"/>
            </a:xfrm>
            <a:custGeom>
              <a:avLst/>
              <a:gdLst/>
              <a:ahLst/>
              <a:rect l="l" t="t" r="r" b="b"/>
              <a:pathLst>
                <a:path w="74" h="1205">
                  <a:moveTo>
                    <a:pt x="0" y="1205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1150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7800" y="4079880"/>
              <a:ext cx="354240" cy="1809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7800" y="3976560"/>
              <a:ext cx="47160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4480" y="3373560"/>
              <a:ext cx="117360" cy="2516040"/>
            </a:xfrm>
            <a:custGeom>
              <a:avLst/>
              <a:gdLst/>
              <a:ahLst/>
              <a:rect l="l" t="t" r="r" b="b"/>
              <a:pathLst>
                <a:path w="74" h="1585">
                  <a:moveTo>
                    <a:pt x="0" y="1585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530"/>
                  </a:lnTo>
                  <a:lnTo>
                    <a:pt x="0" y="158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2040" y="3462480"/>
              <a:ext cx="352440" cy="242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2040" y="337356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06920" y="5772240"/>
              <a:ext cx="11880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74"/>
                  </a:moveTo>
                  <a:lnTo>
                    <a:pt x="0" y="56"/>
                  </a:lnTo>
                  <a:lnTo>
                    <a:pt x="75" y="0"/>
                  </a:lnTo>
                  <a:lnTo>
                    <a:pt x="75" y="1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354480" y="5861160"/>
              <a:ext cx="352440" cy="28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54480" y="5772240"/>
              <a:ext cx="47124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2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0" y="5257800"/>
              <a:ext cx="117360" cy="631800"/>
            </a:xfrm>
            <a:custGeom>
              <a:avLst/>
              <a:gdLst/>
              <a:ahLst/>
              <a:rect l="l" t="t" r="r" b="b"/>
              <a:pathLst>
                <a:path w="74" h="398">
                  <a:moveTo>
                    <a:pt x="0" y="398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343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06920" y="5361120"/>
              <a:ext cx="353880" cy="5284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06920" y="5257800"/>
              <a:ext cx="47124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75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13240" y="5506920"/>
              <a:ext cx="117360" cy="382680"/>
            </a:xfrm>
            <a:custGeom>
              <a:avLst/>
              <a:gdLst/>
              <a:ahLst/>
              <a:rect l="l" t="t" r="r" b="b"/>
              <a:pathLst>
                <a:path w="74" h="241">
                  <a:moveTo>
                    <a:pt x="0" y="241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86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60800" y="5595840"/>
              <a:ext cx="352440" cy="29376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60800" y="550692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51280" y="3917880"/>
              <a:ext cx="133560" cy="1971720"/>
            </a:xfrm>
            <a:custGeom>
              <a:avLst/>
              <a:gdLst/>
              <a:ahLst/>
              <a:rect l="l" t="t" r="r" b="b"/>
              <a:pathLst>
                <a:path w="84" h="1242">
                  <a:moveTo>
                    <a:pt x="0" y="1242"/>
                  </a:moveTo>
                  <a:lnTo>
                    <a:pt x="0" y="56"/>
                  </a:lnTo>
                  <a:lnTo>
                    <a:pt x="84" y="0"/>
                  </a:lnTo>
                  <a:lnTo>
                    <a:pt x="84" y="1187"/>
                  </a:lnTo>
                  <a:lnTo>
                    <a:pt x="0" y="1242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006800"/>
              <a:ext cx="338040" cy="188280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13240" y="391788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13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13" y="5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05520" y="5624640"/>
              <a:ext cx="117360" cy="26496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0" y="167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12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280" y="5713560"/>
              <a:ext cx="354240" cy="17604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51280" y="562464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3" y="56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56"/>
                  </a:lnTo>
                  <a:lnTo>
                    <a:pt x="223" y="5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24880" y="437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47080" y="4051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34440" y="3527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46000" y="5492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66320" y="5375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8760" y="556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13240" y="4051440"/>
              <a:ext cx="41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28400" y="5389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898640" y="59641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898640" y="5361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898640" y="4772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898640" y="418320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898640" y="357984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898640" y="2992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06840" y="584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3160" y="524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5600" y="465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5600" y="4065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5600" y="34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5600" y="28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58000" y="2711520"/>
              <a:ext cx="73080" cy="7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78240" y="266688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finansēj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58000" y="3094200"/>
              <a:ext cx="73080" cy="74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79680" y="3051000"/>
              <a:ext cx="168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as zināšanas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77520" y="322740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informā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58000" y="3624120"/>
              <a:ext cx="73080" cy="73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78600" y="3579840"/>
              <a:ext cx="174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ttiecīgo speciālistu 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58000" y="3930480"/>
              <a:ext cx="73080" cy="73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040" y="3886200"/>
              <a:ext cx="21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 uzņēmu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9680" y="406224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vadības (īpašnieka (-iem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58000" y="4459320"/>
              <a:ext cx="73080" cy="74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78240" y="44146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7520" y="4592520"/>
              <a:ext cx="80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darbiniek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58000" y="4975200"/>
              <a:ext cx="73080" cy="7308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78600" y="493092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skaidras prasības normatīvaj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5360" y="5106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k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58000" y="5504040"/>
              <a:ext cx="73080" cy="745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77880" y="5459400"/>
              <a:ext cx="193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ehnisko dokumentu (standart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75000" y="563724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8000" y="6033960"/>
              <a:ext cx="73080" cy="730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76440" y="5989680"/>
              <a:ext cx="48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kā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uztu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 2004.gada 1.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ij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903320" y="3036960"/>
            <a:ext cx="5585400" cy="2488320"/>
            <a:chOff x="1903320" y="3036960"/>
            <a:chExt cx="5585400" cy="2488320"/>
          </a:xfrm>
        </p:grpSpPr>
        <p:sp>
          <p:nvSpPr>
            <p:cNvPr id="1481" name=""/>
            <p:cNvSpPr/>
            <p:nvPr/>
          </p:nvSpPr>
          <p:spPr>
            <a:xfrm>
              <a:off x="4227480" y="3662280"/>
              <a:ext cx="1874880" cy="1009800"/>
            </a:xfrm>
            <a:custGeom>
              <a:avLst/>
              <a:gdLst/>
              <a:ahLst/>
              <a:rect l="l" t="t" r="r" b="b"/>
              <a:pathLst>
                <a:path w="1181" h="636">
                  <a:moveTo>
                    <a:pt x="0" y="223"/>
                  </a:moveTo>
                  <a:lnTo>
                    <a:pt x="1181" y="0"/>
                  </a:lnTo>
                  <a:lnTo>
                    <a:pt x="1181" y="414"/>
                  </a:lnTo>
                  <a:lnTo>
                    <a:pt x="0" y="6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27480" y="3406680"/>
              <a:ext cx="1890720" cy="609840"/>
            </a:xfrm>
            <a:custGeom>
              <a:avLst/>
              <a:gdLst/>
              <a:ahLst/>
              <a:rect l="l" t="t" r="r" b="b"/>
              <a:pathLst>
                <a:path w="1191" h="384">
                  <a:moveTo>
                    <a:pt x="0" y="0"/>
                  </a:moveTo>
                  <a:lnTo>
                    <a:pt x="50" y="0"/>
                  </a:lnTo>
                  <a:lnTo>
                    <a:pt x="80" y="0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02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333" y="10"/>
                  </a:lnTo>
                  <a:lnTo>
                    <a:pt x="383" y="10"/>
                  </a:lnTo>
                  <a:lnTo>
                    <a:pt x="403" y="10"/>
                  </a:lnTo>
                  <a:lnTo>
                    <a:pt x="454" y="20"/>
                  </a:lnTo>
                  <a:lnTo>
                    <a:pt x="504" y="20"/>
                  </a:lnTo>
                  <a:lnTo>
                    <a:pt x="525" y="20"/>
                  </a:lnTo>
                  <a:lnTo>
                    <a:pt x="575" y="30"/>
                  </a:lnTo>
                  <a:lnTo>
                    <a:pt x="626" y="30"/>
                  </a:lnTo>
                  <a:lnTo>
                    <a:pt x="646" y="40"/>
                  </a:lnTo>
                  <a:lnTo>
                    <a:pt x="696" y="40"/>
                  </a:lnTo>
                  <a:lnTo>
                    <a:pt x="716" y="50"/>
                  </a:lnTo>
                  <a:lnTo>
                    <a:pt x="757" y="50"/>
                  </a:lnTo>
                  <a:lnTo>
                    <a:pt x="797" y="60"/>
                  </a:lnTo>
                  <a:lnTo>
                    <a:pt x="828" y="60"/>
                  </a:lnTo>
                  <a:lnTo>
                    <a:pt x="868" y="71"/>
                  </a:lnTo>
                  <a:lnTo>
                    <a:pt x="908" y="81"/>
                  </a:lnTo>
                  <a:lnTo>
                    <a:pt x="928" y="81"/>
                  </a:lnTo>
                  <a:lnTo>
                    <a:pt x="969" y="91"/>
                  </a:lnTo>
                  <a:lnTo>
                    <a:pt x="999" y="101"/>
                  </a:lnTo>
                  <a:lnTo>
                    <a:pt x="1019" y="101"/>
                  </a:lnTo>
                  <a:lnTo>
                    <a:pt x="1060" y="111"/>
                  </a:lnTo>
                  <a:lnTo>
                    <a:pt x="1080" y="121"/>
                  </a:lnTo>
                  <a:lnTo>
                    <a:pt x="1110" y="131"/>
                  </a:lnTo>
                  <a:lnTo>
                    <a:pt x="1140" y="141"/>
                  </a:lnTo>
                  <a:lnTo>
                    <a:pt x="1161" y="141"/>
                  </a:lnTo>
                  <a:lnTo>
                    <a:pt x="1191" y="151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3320" y="4016520"/>
              <a:ext cx="4664160" cy="1265040"/>
            </a:xfrm>
            <a:custGeom>
              <a:avLst/>
              <a:gdLst/>
              <a:ahLst/>
              <a:rect l="l" t="t" r="r" b="b"/>
              <a:pathLst>
                <a:path w="2938" h="797">
                  <a:moveTo>
                    <a:pt x="2938" y="0"/>
                  </a:moveTo>
                  <a:lnTo>
                    <a:pt x="2938" y="10"/>
                  </a:lnTo>
                  <a:lnTo>
                    <a:pt x="2938" y="20"/>
                  </a:lnTo>
                  <a:lnTo>
                    <a:pt x="2928" y="30"/>
                  </a:lnTo>
                  <a:lnTo>
                    <a:pt x="2928" y="40"/>
                  </a:lnTo>
                  <a:lnTo>
                    <a:pt x="2917" y="50"/>
                  </a:lnTo>
                  <a:lnTo>
                    <a:pt x="2917" y="60"/>
                  </a:lnTo>
                  <a:lnTo>
                    <a:pt x="2907" y="80"/>
                  </a:lnTo>
                  <a:lnTo>
                    <a:pt x="2897" y="80"/>
                  </a:lnTo>
                  <a:lnTo>
                    <a:pt x="2887" y="100"/>
                  </a:lnTo>
                  <a:lnTo>
                    <a:pt x="2867" y="111"/>
                  </a:lnTo>
                  <a:lnTo>
                    <a:pt x="2867" y="111"/>
                  </a:lnTo>
                  <a:lnTo>
                    <a:pt x="2847" y="131"/>
                  </a:lnTo>
                  <a:lnTo>
                    <a:pt x="2827" y="141"/>
                  </a:lnTo>
                  <a:lnTo>
                    <a:pt x="2817" y="151"/>
                  </a:lnTo>
                  <a:lnTo>
                    <a:pt x="2796" y="161"/>
                  </a:lnTo>
                  <a:lnTo>
                    <a:pt x="2776" y="171"/>
                  </a:lnTo>
                  <a:lnTo>
                    <a:pt x="2766" y="181"/>
                  </a:lnTo>
                  <a:lnTo>
                    <a:pt x="2736" y="191"/>
                  </a:lnTo>
                  <a:lnTo>
                    <a:pt x="2716" y="201"/>
                  </a:lnTo>
                  <a:lnTo>
                    <a:pt x="2695" y="201"/>
                  </a:lnTo>
                  <a:lnTo>
                    <a:pt x="2665" y="222"/>
                  </a:lnTo>
                  <a:lnTo>
                    <a:pt x="2635" y="232"/>
                  </a:lnTo>
                  <a:lnTo>
                    <a:pt x="2625" y="232"/>
                  </a:lnTo>
                  <a:lnTo>
                    <a:pt x="2594" y="242"/>
                  </a:lnTo>
                  <a:lnTo>
                    <a:pt x="2554" y="252"/>
                  </a:lnTo>
                  <a:lnTo>
                    <a:pt x="2544" y="262"/>
                  </a:lnTo>
                  <a:lnTo>
                    <a:pt x="2504" y="272"/>
                  </a:lnTo>
                  <a:lnTo>
                    <a:pt x="2463" y="282"/>
                  </a:lnTo>
                  <a:lnTo>
                    <a:pt x="2453" y="282"/>
                  </a:lnTo>
                  <a:lnTo>
                    <a:pt x="2413" y="292"/>
                  </a:lnTo>
                  <a:lnTo>
                    <a:pt x="2372" y="302"/>
                  </a:lnTo>
                  <a:lnTo>
                    <a:pt x="2352" y="302"/>
                  </a:lnTo>
                  <a:lnTo>
                    <a:pt x="2312" y="312"/>
                  </a:lnTo>
                  <a:lnTo>
                    <a:pt x="2261" y="323"/>
                  </a:lnTo>
                  <a:lnTo>
                    <a:pt x="2241" y="323"/>
                  </a:lnTo>
                  <a:lnTo>
                    <a:pt x="2201" y="333"/>
                  </a:lnTo>
                  <a:lnTo>
                    <a:pt x="2160" y="333"/>
                  </a:lnTo>
                  <a:lnTo>
                    <a:pt x="2130" y="343"/>
                  </a:lnTo>
                  <a:lnTo>
                    <a:pt x="2090" y="343"/>
                  </a:lnTo>
                  <a:lnTo>
                    <a:pt x="2039" y="353"/>
                  </a:lnTo>
                  <a:lnTo>
                    <a:pt x="2019" y="353"/>
                  </a:lnTo>
                  <a:lnTo>
                    <a:pt x="1968" y="353"/>
                  </a:lnTo>
                  <a:lnTo>
                    <a:pt x="1918" y="363"/>
                  </a:lnTo>
                  <a:lnTo>
                    <a:pt x="1898" y="363"/>
                  </a:lnTo>
                  <a:lnTo>
                    <a:pt x="1847" y="363"/>
                  </a:lnTo>
                  <a:lnTo>
                    <a:pt x="1797" y="373"/>
                  </a:lnTo>
                  <a:lnTo>
                    <a:pt x="1777" y="373"/>
                  </a:lnTo>
                  <a:lnTo>
                    <a:pt x="1726" y="373"/>
                  </a:lnTo>
                  <a:lnTo>
                    <a:pt x="1666" y="373"/>
                  </a:lnTo>
                  <a:lnTo>
                    <a:pt x="1645" y="373"/>
                  </a:lnTo>
                  <a:lnTo>
                    <a:pt x="1595" y="383"/>
                  </a:lnTo>
                  <a:lnTo>
                    <a:pt x="1544" y="383"/>
                  </a:lnTo>
                  <a:lnTo>
                    <a:pt x="1514" y="383"/>
                  </a:lnTo>
                  <a:lnTo>
                    <a:pt x="1464" y="383"/>
                  </a:lnTo>
                  <a:lnTo>
                    <a:pt x="1413" y="383"/>
                  </a:lnTo>
                  <a:lnTo>
                    <a:pt x="1393" y="383"/>
                  </a:lnTo>
                  <a:lnTo>
                    <a:pt x="1342" y="383"/>
                  </a:lnTo>
                  <a:lnTo>
                    <a:pt x="1292" y="373"/>
                  </a:lnTo>
                  <a:lnTo>
                    <a:pt x="1262" y="373"/>
                  </a:lnTo>
                  <a:lnTo>
                    <a:pt x="1211" y="373"/>
                  </a:lnTo>
                  <a:lnTo>
                    <a:pt x="1161" y="373"/>
                  </a:lnTo>
                  <a:lnTo>
                    <a:pt x="1140" y="373"/>
                  </a:lnTo>
                  <a:lnTo>
                    <a:pt x="1090" y="363"/>
                  </a:lnTo>
                  <a:lnTo>
                    <a:pt x="1040" y="363"/>
                  </a:lnTo>
                  <a:lnTo>
                    <a:pt x="1009" y="363"/>
                  </a:lnTo>
                  <a:lnTo>
                    <a:pt x="959" y="353"/>
                  </a:lnTo>
                  <a:lnTo>
                    <a:pt x="918" y="353"/>
                  </a:lnTo>
                  <a:lnTo>
                    <a:pt x="888" y="353"/>
                  </a:lnTo>
                  <a:lnTo>
                    <a:pt x="848" y="343"/>
                  </a:lnTo>
                  <a:lnTo>
                    <a:pt x="797" y="343"/>
                  </a:lnTo>
                  <a:lnTo>
                    <a:pt x="777" y="333"/>
                  </a:lnTo>
                  <a:lnTo>
                    <a:pt x="727" y="333"/>
                  </a:lnTo>
                  <a:lnTo>
                    <a:pt x="686" y="323"/>
                  </a:lnTo>
                  <a:lnTo>
                    <a:pt x="666" y="323"/>
                  </a:lnTo>
                  <a:lnTo>
                    <a:pt x="626" y="312"/>
                  </a:lnTo>
                  <a:lnTo>
                    <a:pt x="585" y="302"/>
                  </a:lnTo>
                  <a:lnTo>
                    <a:pt x="565" y="302"/>
                  </a:lnTo>
                  <a:lnTo>
                    <a:pt x="525" y="292"/>
                  </a:lnTo>
                  <a:lnTo>
                    <a:pt x="484" y="282"/>
                  </a:lnTo>
                  <a:lnTo>
                    <a:pt x="464" y="282"/>
                  </a:lnTo>
                  <a:lnTo>
                    <a:pt x="424" y="272"/>
                  </a:lnTo>
                  <a:lnTo>
                    <a:pt x="393" y="262"/>
                  </a:lnTo>
                  <a:lnTo>
                    <a:pt x="373" y="252"/>
                  </a:lnTo>
                  <a:lnTo>
                    <a:pt x="343" y="242"/>
                  </a:lnTo>
                  <a:lnTo>
                    <a:pt x="313" y="232"/>
                  </a:lnTo>
                  <a:lnTo>
                    <a:pt x="292" y="232"/>
                  </a:lnTo>
                  <a:lnTo>
                    <a:pt x="262" y="222"/>
                  </a:lnTo>
                  <a:lnTo>
                    <a:pt x="232" y="201"/>
                  </a:lnTo>
                  <a:lnTo>
                    <a:pt x="222" y="201"/>
                  </a:lnTo>
                  <a:lnTo>
                    <a:pt x="191" y="191"/>
                  </a:lnTo>
                  <a:lnTo>
                    <a:pt x="171" y="181"/>
                  </a:lnTo>
                  <a:lnTo>
                    <a:pt x="161" y="171"/>
                  </a:lnTo>
                  <a:lnTo>
                    <a:pt x="131" y="161"/>
                  </a:lnTo>
                  <a:lnTo>
                    <a:pt x="111" y="151"/>
                  </a:lnTo>
                  <a:lnTo>
                    <a:pt x="101" y="141"/>
                  </a:lnTo>
                  <a:lnTo>
                    <a:pt x="90" y="131"/>
                  </a:lnTo>
                  <a:lnTo>
                    <a:pt x="70" y="111"/>
                  </a:lnTo>
                  <a:lnTo>
                    <a:pt x="60" y="111"/>
                  </a:lnTo>
                  <a:lnTo>
                    <a:pt x="50" y="10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0" y="6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0" y="434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10" y="464"/>
                  </a:lnTo>
                  <a:lnTo>
                    <a:pt x="20" y="47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50" y="514"/>
                  </a:lnTo>
                  <a:lnTo>
                    <a:pt x="60" y="524"/>
                  </a:lnTo>
                  <a:lnTo>
                    <a:pt x="70" y="524"/>
                  </a:lnTo>
                  <a:lnTo>
                    <a:pt x="90" y="545"/>
                  </a:lnTo>
                  <a:lnTo>
                    <a:pt x="101" y="555"/>
                  </a:lnTo>
                  <a:lnTo>
                    <a:pt x="111" y="565"/>
                  </a:lnTo>
                  <a:lnTo>
                    <a:pt x="131" y="575"/>
                  </a:lnTo>
                  <a:lnTo>
                    <a:pt x="161" y="585"/>
                  </a:lnTo>
                  <a:lnTo>
                    <a:pt x="171" y="595"/>
                  </a:lnTo>
                  <a:lnTo>
                    <a:pt x="191" y="605"/>
                  </a:lnTo>
                  <a:lnTo>
                    <a:pt x="222" y="615"/>
                  </a:lnTo>
                  <a:lnTo>
                    <a:pt x="232" y="615"/>
                  </a:lnTo>
                  <a:lnTo>
                    <a:pt x="262" y="635"/>
                  </a:lnTo>
                  <a:lnTo>
                    <a:pt x="292" y="646"/>
                  </a:lnTo>
                  <a:lnTo>
                    <a:pt x="313" y="646"/>
                  </a:lnTo>
                  <a:lnTo>
                    <a:pt x="343" y="656"/>
                  </a:lnTo>
                  <a:lnTo>
                    <a:pt x="373" y="666"/>
                  </a:lnTo>
                  <a:lnTo>
                    <a:pt x="393" y="676"/>
                  </a:lnTo>
                  <a:lnTo>
                    <a:pt x="424" y="686"/>
                  </a:lnTo>
                  <a:lnTo>
                    <a:pt x="464" y="696"/>
                  </a:lnTo>
                  <a:lnTo>
                    <a:pt x="484" y="696"/>
                  </a:lnTo>
                  <a:lnTo>
                    <a:pt x="525" y="706"/>
                  </a:lnTo>
                  <a:lnTo>
                    <a:pt x="565" y="716"/>
                  </a:lnTo>
                  <a:lnTo>
                    <a:pt x="585" y="716"/>
                  </a:lnTo>
                  <a:lnTo>
                    <a:pt x="626" y="726"/>
                  </a:lnTo>
                  <a:lnTo>
                    <a:pt x="666" y="736"/>
                  </a:lnTo>
                  <a:lnTo>
                    <a:pt x="686" y="736"/>
                  </a:lnTo>
                  <a:lnTo>
                    <a:pt x="727" y="747"/>
                  </a:lnTo>
                  <a:lnTo>
                    <a:pt x="777" y="747"/>
                  </a:lnTo>
                  <a:lnTo>
                    <a:pt x="797" y="757"/>
                  </a:lnTo>
                  <a:lnTo>
                    <a:pt x="848" y="757"/>
                  </a:lnTo>
                  <a:lnTo>
                    <a:pt x="888" y="767"/>
                  </a:lnTo>
                  <a:lnTo>
                    <a:pt x="918" y="767"/>
                  </a:lnTo>
                  <a:lnTo>
                    <a:pt x="959" y="767"/>
                  </a:lnTo>
                  <a:lnTo>
                    <a:pt x="1009" y="777"/>
                  </a:lnTo>
                  <a:lnTo>
                    <a:pt x="1040" y="777"/>
                  </a:lnTo>
                  <a:lnTo>
                    <a:pt x="1090" y="777"/>
                  </a:lnTo>
                  <a:lnTo>
                    <a:pt x="1140" y="787"/>
                  </a:lnTo>
                  <a:lnTo>
                    <a:pt x="1161" y="787"/>
                  </a:lnTo>
                  <a:lnTo>
                    <a:pt x="1211" y="787"/>
                  </a:lnTo>
                  <a:lnTo>
                    <a:pt x="1262" y="787"/>
                  </a:lnTo>
                  <a:lnTo>
                    <a:pt x="1292" y="787"/>
                  </a:lnTo>
                  <a:lnTo>
                    <a:pt x="1342" y="797"/>
                  </a:lnTo>
                  <a:lnTo>
                    <a:pt x="1393" y="797"/>
                  </a:lnTo>
                  <a:lnTo>
                    <a:pt x="1413" y="797"/>
                  </a:lnTo>
                  <a:lnTo>
                    <a:pt x="1464" y="797"/>
                  </a:lnTo>
                  <a:lnTo>
                    <a:pt x="1514" y="797"/>
                  </a:lnTo>
                  <a:lnTo>
                    <a:pt x="1544" y="797"/>
                  </a:lnTo>
                  <a:lnTo>
                    <a:pt x="1595" y="797"/>
                  </a:lnTo>
                  <a:lnTo>
                    <a:pt x="1645" y="787"/>
                  </a:lnTo>
                  <a:lnTo>
                    <a:pt x="1666" y="787"/>
                  </a:lnTo>
                  <a:lnTo>
                    <a:pt x="1726" y="787"/>
                  </a:lnTo>
                  <a:lnTo>
                    <a:pt x="1777" y="787"/>
                  </a:lnTo>
                  <a:lnTo>
                    <a:pt x="1797" y="787"/>
                  </a:lnTo>
                  <a:lnTo>
                    <a:pt x="1847" y="777"/>
                  </a:lnTo>
                  <a:lnTo>
                    <a:pt x="1898" y="777"/>
                  </a:lnTo>
                  <a:lnTo>
                    <a:pt x="1918" y="777"/>
                  </a:lnTo>
                  <a:lnTo>
                    <a:pt x="1968" y="767"/>
                  </a:lnTo>
                  <a:lnTo>
                    <a:pt x="2019" y="767"/>
                  </a:lnTo>
                  <a:lnTo>
                    <a:pt x="2039" y="767"/>
                  </a:lnTo>
                  <a:lnTo>
                    <a:pt x="2090" y="757"/>
                  </a:lnTo>
                  <a:lnTo>
                    <a:pt x="2130" y="757"/>
                  </a:lnTo>
                  <a:lnTo>
                    <a:pt x="2160" y="747"/>
                  </a:lnTo>
                  <a:lnTo>
                    <a:pt x="2201" y="747"/>
                  </a:lnTo>
                  <a:lnTo>
                    <a:pt x="2241" y="736"/>
                  </a:lnTo>
                  <a:lnTo>
                    <a:pt x="2261" y="736"/>
                  </a:lnTo>
                  <a:lnTo>
                    <a:pt x="2312" y="726"/>
                  </a:lnTo>
                  <a:lnTo>
                    <a:pt x="2352" y="716"/>
                  </a:lnTo>
                  <a:lnTo>
                    <a:pt x="2372" y="716"/>
                  </a:lnTo>
                  <a:lnTo>
                    <a:pt x="2413" y="706"/>
                  </a:lnTo>
                  <a:lnTo>
                    <a:pt x="2453" y="696"/>
                  </a:lnTo>
                  <a:lnTo>
                    <a:pt x="2463" y="696"/>
                  </a:lnTo>
                  <a:lnTo>
                    <a:pt x="2504" y="686"/>
                  </a:lnTo>
                  <a:lnTo>
                    <a:pt x="2544" y="676"/>
                  </a:lnTo>
                  <a:lnTo>
                    <a:pt x="2554" y="666"/>
                  </a:lnTo>
                  <a:lnTo>
                    <a:pt x="2594" y="656"/>
                  </a:lnTo>
                  <a:lnTo>
                    <a:pt x="2625" y="646"/>
                  </a:lnTo>
                  <a:lnTo>
                    <a:pt x="2635" y="646"/>
                  </a:lnTo>
                  <a:lnTo>
                    <a:pt x="2665" y="635"/>
                  </a:lnTo>
                  <a:lnTo>
                    <a:pt x="2695" y="615"/>
                  </a:lnTo>
                  <a:lnTo>
                    <a:pt x="2716" y="615"/>
                  </a:lnTo>
                  <a:lnTo>
                    <a:pt x="2736" y="605"/>
                  </a:lnTo>
                  <a:lnTo>
                    <a:pt x="2766" y="595"/>
                  </a:lnTo>
                  <a:lnTo>
                    <a:pt x="2776" y="585"/>
                  </a:lnTo>
                  <a:lnTo>
                    <a:pt x="2796" y="575"/>
                  </a:lnTo>
                  <a:lnTo>
                    <a:pt x="2817" y="565"/>
                  </a:lnTo>
                  <a:lnTo>
                    <a:pt x="2827" y="555"/>
                  </a:lnTo>
                  <a:lnTo>
                    <a:pt x="2847" y="545"/>
                  </a:lnTo>
                  <a:lnTo>
                    <a:pt x="2867" y="524"/>
                  </a:lnTo>
                  <a:lnTo>
                    <a:pt x="2867" y="524"/>
                  </a:lnTo>
                  <a:lnTo>
                    <a:pt x="2887" y="514"/>
                  </a:lnTo>
                  <a:lnTo>
                    <a:pt x="2897" y="494"/>
                  </a:lnTo>
                  <a:lnTo>
                    <a:pt x="2907" y="494"/>
                  </a:lnTo>
                  <a:lnTo>
                    <a:pt x="2917" y="474"/>
                  </a:lnTo>
                  <a:lnTo>
                    <a:pt x="2917" y="464"/>
                  </a:lnTo>
                  <a:lnTo>
                    <a:pt x="2928" y="454"/>
                  </a:lnTo>
                  <a:lnTo>
                    <a:pt x="2928" y="444"/>
                  </a:lnTo>
                  <a:lnTo>
                    <a:pt x="2938" y="434"/>
                  </a:lnTo>
                  <a:lnTo>
                    <a:pt x="2938" y="423"/>
                  </a:lnTo>
                  <a:lnTo>
                    <a:pt x="2938" y="413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03320" y="3406680"/>
              <a:ext cx="4664160" cy="1217880"/>
            </a:xfrm>
            <a:custGeom>
              <a:avLst/>
              <a:gdLst/>
              <a:ahLst/>
              <a:rect l="l" t="t" r="r" b="b"/>
              <a:pathLst>
                <a:path w="2938" h="767">
                  <a:moveTo>
                    <a:pt x="2655" y="151"/>
                  </a:moveTo>
                  <a:lnTo>
                    <a:pt x="2685" y="172"/>
                  </a:lnTo>
                  <a:lnTo>
                    <a:pt x="2695" y="172"/>
                  </a:lnTo>
                  <a:lnTo>
                    <a:pt x="2726" y="182"/>
                  </a:lnTo>
                  <a:lnTo>
                    <a:pt x="2756" y="192"/>
                  </a:lnTo>
                  <a:lnTo>
                    <a:pt x="2766" y="202"/>
                  </a:lnTo>
                  <a:lnTo>
                    <a:pt x="2786" y="212"/>
                  </a:lnTo>
                  <a:lnTo>
                    <a:pt x="2806" y="222"/>
                  </a:lnTo>
                  <a:lnTo>
                    <a:pt x="2817" y="232"/>
                  </a:lnTo>
                  <a:lnTo>
                    <a:pt x="2837" y="242"/>
                  </a:lnTo>
                  <a:lnTo>
                    <a:pt x="2847" y="252"/>
                  </a:lnTo>
                  <a:lnTo>
                    <a:pt x="2867" y="262"/>
                  </a:lnTo>
                  <a:lnTo>
                    <a:pt x="2877" y="272"/>
                  </a:lnTo>
                  <a:lnTo>
                    <a:pt x="2887" y="283"/>
                  </a:lnTo>
                  <a:lnTo>
                    <a:pt x="2897" y="293"/>
                  </a:lnTo>
                  <a:lnTo>
                    <a:pt x="2907" y="303"/>
                  </a:lnTo>
                  <a:lnTo>
                    <a:pt x="2917" y="313"/>
                  </a:lnTo>
                  <a:lnTo>
                    <a:pt x="2917" y="323"/>
                  </a:lnTo>
                  <a:lnTo>
                    <a:pt x="2928" y="343"/>
                  </a:lnTo>
                  <a:lnTo>
                    <a:pt x="2928" y="343"/>
                  </a:lnTo>
                  <a:lnTo>
                    <a:pt x="2938" y="363"/>
                  </a:lnTo>
                  <a:lnTo>
                    <a:pt x="2938" y="373"/>
                  </a:lnTo>
                  <a:lnTo>
                    <a:pt x="2938" y="384"/>
                  </a:lnTo>
                  <a:lnTo>
                    <a:pt x="2938" y="394"/>
                  </a:lnTo>
                  <a:lnTo>
                    <a:pt x="2938" y="404"/>
                  </a:lnTo>
                  <a:lnTo>
                    <a:pt x="2928" y="414"/>
                  </a:lnTo>
                  <a:lnTo>
                    <a:pt x="2928" y="424"/>
                  </a:lnTo>
                  <a:lnTo>
                    <a:pt x="2917" y="434"/>
                  </a:lnTo>
                  <a:lnTo>
                    <a:pt x="2917" y="444"/>
                  </a:lnTo>
                  <a:lnTo>
                    <a:pt x="2907" y="464"/>
                  </a:lnTo>
                  <a:lnTo>
                    <a:pt x="2897" y="464"/>
                  </a:lnTo>
                  <a:lnTo>
                    <a:pt x="2887" y="484"/>
                  </a:lnTo>
                  <a:lnTo>
                    <a:pt x="2867" y="495"/>
                  </a:lnTo>
                  <a:lnTo>
                    <a:pt x="2867" y="495"/>
                  </a:lnTo>
                  <a:lnTo>
                    <a:pt x="2847" y="515"/>
                  </a:lnTo>
                  <a:lnTo>
                    <a:pt x="2827" y="525"/>
                  </a:lnTo>
                  <a:lnTo>
                    <a:pt x="2817" y="535"/>
                  </a:lnTo>
                  <a:lnTo>
                    <a:pt x="2796" y="545"/>
                  </a:lnTo>
                  <a:lnTo>
                    <a:pt x="2776" y="555"/>
                  </a:lnTo>
                  <a:lnTo>
                    <a:pt x="2766" y="565"/>
                  </a:lnTo>
                  <a:lnTo>
                    <a:pt x="2736" y="575"/>
                  </a:lnTo>
                  <a:lnTo>
                    <a:pt x="2726" y="575"/>
                  </a:lnTo>
                  <a:lnTo>
                    <a:pt x="2695" y="585"/>
                  </a:lnTo>
                  <a:lnTo>
                    <a:pt x="2665" y="606"/>
                  </a:lnTo>
                  <a:lnTo>
                    <a:pt x="2655" y="606"/>
                  </a:lnTo>
                  <a:lnTo>
                    <a:pt x="2625" y="616"/>
                  </a:lnTo>
                  <a:lnTo>
                    <a:pt x="2594" y="626"/>
                  </a:lnTo>
                  <a:lnTo>
                    <a:pt x="2574" y="636"/>
                  </a:lnTo>
                  <a:lnTo>
                    <a:pt x="2544" y="646"/>
                  </a:lnTo>
                  <a:lnTo>
                    <a:pt x="2504" y="656"/>
                  </a:lnTo>
                  <a:lnTo>
                    <a:pt x="2483" y="656"/>
                  </a:lnTo>
                  <a:lnTo>
                    <a:pt x="2453" y="666"/>
                  </a:lnTo>
                  <a:lnTo>
                    <a:pt x="2413" y="676"/>
                  </a:lnTo>
                  <a:lnTo>
                    <a:pt x="2392" y="676"/>
                  </a:lnTo>
                  <a:lnTo>
                    <a:pt x="2352" y="686"/>
                  </a:lnTo>
                  <a:lnTo>
                    <a:pt x="2332" y="686"/>
                  </a:lnTo>
                  <a:lnTo>
                    <a:pt x="2292" y="696"/>
                  </a:lnTo>
                  <a:lnTo>
                    <a:pt x="2241" y="707"/>
                  </a:lnTo>
                  <a:lnTo>
                    <a:pt x="2221" y="707"/>
                  </a:lnTo>
                  <a:lnTo>
                    <a:pt x="2180" y="717"/>
                  </a:lnTo>
                  <a:lnTo>
                    <a:pt x="2130" y="727"/>
                  </a:lnTo>
                  <a:lnTo>
                    <a:pt x="2110" y="727"/>
                  </a:lnTo>
                  <a:lnTo>
                    <a:pt x="2059" y="727"/>
                  </a:lnTo>
                  <a:lnTo>
                    <a:pt x="2019" y="737"/>
                  </a:lnTo>
                  <a:lnTo>
                    <a:pt x="1989" y="737"/>
                  </a:lnTo>
                  <a:lnTo>
                    <a:pt x="1948" y="747"/>
                  </a:lnTo>
                  <a:lnTo>
                    <a:pt x="1898" y="747"/>
                  </a:lnTo>
                  <a:lnTo>
                    <a:pt x="1867" y="747"/>
                  </a:lnTo>
                  <a:lnTo>
                    <a:pt x="1817" y="757"/>
                  </a:lnTo>
                  <a:lnTo>
                    <a:pt x="1777" y="757"/>
                  </a:lnTo>
                  <a:lnTo>
                    <a:pt x="1746" y="757"/>
                  </a:lnTo>
                  <a:lnTo>
                    <a:pt x="1696" y="757"/>
                  </a:lnTo>
                  <a:lnTo>
                    <a:pt x="1666" y="757"/>
                  </a:lnTo>
                  <a:lnTo>
                    <a:pt x="1615" y="767"/>
                  </a:lnTo>
                  <a:lnTo>
                    <a:pt x="1565" y="767"/>
                  </a:lnTo>
                  <a:lnTo>
                    <a:pt x="1544" y="767"/>
                  </a:lnTo>
                  <a:lnTo>
                    <a:pt x="1494" y="767"/>
                  </a:lnTo>
                  <a:lnTo>
                    <a:pt x="1443" y="767"/>
                  </a:lnTo>
                  <a:lnTo>
                    <a:pt x="1413" y="767"/>
                  </a:lnTo>
                  <a:lnTo>
                    <a:pt x="1363" y="767"/>
                  </a:lnTo>
                  <a:lnTo>
                    <a:pt x="1312" y="767"/>
                  </a:lnTo>
                  <a:lnTo>
                    <a:pt x="1292" y="757"/>
                  </a:lnTo>
                  <a:lnTo>
                    <a:pt x="1231" y="757"/>
                  </a:lnTo>
                  <a:lnTo>
                    <a:pt x="1181" y="757"/>
                  </a:lnTo>
                  <a:lnTo>
                    <a:pt x="1161" y="757"/>
                  </a:lnTo>
                  <a:lnTo>
                    <a:pt x="1110" y="757"/>
                  </a:lnTo>
                  <a:lnTo>
                    <a:pt x="1090" y="747"/>
                  </a:lnTo>
                  <a:lnTo>
                    <a:pt x="1040" y="747"/>
                  </a:lnTo>
                  <a:lnTo>
                    <a:pt x="989" y="747"/>
                  </a:lnTo>
                  <a:lnTo>
                    <a:pt x="959" y="737"/>
                  </a:lnTo>
                  <a:lnTo>
                    <a:pt x="918" y="737"/>
                  </a:lnTo>
                  <a:lnTo>
                    <a:pt x="868" y="727"/>
                  </a:lnTo>
                  <a:lnTo>
                    <a:pt x="848" y="727"/>
                  </a:lnTo>
                  <a:lnTo>
                    <a:pt x="797" y="727"/>
                  </a:lnTo>
                  <a:lnTo>
                    <a:pt x="757" y="717"/>
                  </a:lnTo>
                  <a:lnTo>
                    <a:pt x="727" y="717"/>
                  </a:lnTo>
                  <a:lnTo>
                    <a:pt x="686" y="707"/>
                  </a:lnTo>
                  <a:lnTo>
                    <a:pt x="646" y="696"/>
                  </a:lnTo>
                  <a:lnTo>
                    <a:pt x="626" y="696"/>
                  </a:lnTo>
                  <a:lnTo>
                    <a:pt x="585" y="686"/>
                  </a:lnTo>
                  <a:lnTo>
                    <a:pt x="545" y="676"/>
                  </a:lnTo>
                  <a:lnTo>
                    <a:pt x="525" y="676"/>
                  </a:lnTo>
                  <a:lnTo>
                    <a:pt x="484" y="666"/>
                  </a:lnTo>
                  <a:lnTo>
                    <a:pt x="464" y="666"/>
                  </a:lnTo>
                  <a:lnTo>
                    <a:pt x="424" y="656"/>
                  </a:lnTo>
                  <a:lnTo>
                    <a:pt x="393" y="646"/>
                  </a:lnTo>
                  <a:lnTo>
                    <a:pt x="373" y="636"/>
                  </a:lnTo>
                  <a:lnTo>
                    <a:pt x="343" y="626"/>
                  </a:lnTo>
                  <a:lnTo>
                    <a:pt x="313" y="616"/>
                  </a:lnTo>
                  <a:lnTo>
                    <a:pt x="292" y="616"/>
                  </a:lnTo>
                  <a:lnTo>
                    <a:pt x="262" y="606"/>
                  </a:lnTo>
                  <a:lnTo>
                    <a:pt x="232" y="585"/>
                  </a:lnTo>
                  <a:lnTo>
                    <a:pt x="222" y="585"/>
                  </a:lnTo>
                  <a:lnTo>
                    <a:pt x="191" y="575"/>
                  </a:lnTo>
                  <a:lnTo>
                    <a:pt x="171" y="565"/>
                  </a:lnTo>
                  <a:lnTo>
                    <a:pt x="161" y="555"/>
                  </a:lnTo>
                  <a:lnTo>
                    <a:pt x="131" y="545"/>
                  </a:lnTo>
                  <a:lnTo>
                    <a:pt x="121" y="535"/>
                  </a:lnTo>
                  <a:lnTo>
                    <a:pt x="101" y="525"/>
                  </a:lnTo>
                  <a:lnTo>
                    <a:pt x="90" y="515"/>
                  </a:lnTo>
                  <a:lnTo>
                    <a:pt x="80" y="505"/>
                  </a:lnTo>
                  <a:lnTo>
                    <a:pt x="60" y="495"/>
                  </a:lnTo>
                  <a:lnTo>
                    <a:pt x="50" y="484"/>
                  </a:lnTo>
                  <a:lnTo>
                    <a:pt x="40" y="474"/>
                  </a:lnTo>
                  <a:lnTo>
                    <a:pt x="30" y="464"/>
                  </a:lnTo>
                  <a:lnTo>
                    <a:pt x="20" y="444"/>
                  </a:lnTo>
                  <a:lnTo>
                    <a:pt x="20" y="444"/>
                  </a:lnTo>
                  <a:lnTo>
                    <a:pt x="10" y="424"/>
                  </a:lnTo>
                  <a:lnTo>
                    <a:pt x="0" y="414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3"/>
                  </a:lnTo>
                  <a:lnTo>
                    <a:pt x="10" y="343"/>
                  </a:lnTo>
                  <a:lnTo>
                    <a:pt x="10" y="323"/>
                  </a:lnTo>
                  <a:lnTo>
                    <a:pt x="20" y="323"/>
                  </a:lnTo>
                  <a:lnTo>
                    <a:pt x="20" y="303"/>
                  </a:lnTo>
                  <a:lnTo>
                    <a:pt x="30" y="293"/>
                  </a:lnTo>
                  <a:lnTo>
                    <a:pt x="40" y="293"/>
                  </a:lnTo>
                  <a:lnTo>
                    <a:pt x="50" y="272"/>
                  </a:lnTo>
                  <a:lnTo>
                    <a:pt x="70" y="262"/>
                  </a:lnTo>
                  <a:lnTo>
                    <a:pt x="80" y="252"/>
                  </a:lnTo>
                  <a:lnTo>
                    <a:pt x="90" y="242"/>
                  </a:lnTo>
                  <a:lnTo>
                    <a:pt x="111" y="232"/>
                  </a:lnTo>
                  <a:lnTo>
                    <a:pt x="121" y="222"/>
                  </a:lnTo>
                  <a:lnTo>
                    <a:pt x="141" y="212"/>
                  </a:lnTo>
                  <a:lnTo>
                    <a:pt x="161" y="202"/>
                  </a:lnTo>
                  <a:lnTo>
                    <a:pt x="181" y="192"/>
                  </a:lnTo>
                  <a:lnTo>
                    <a:pt x="212" y="182"/>
                  </a:lnTo>
                  <a:lnTo>
                    <a:pt x="222" y="182"/>
                  </a:lnTo>
                  <a:lnTo>
                    <a:pt x="252" y="172"/>
                  </a:lnTo>
                  <a:lnTo>
                    <a:pt x="282" y="151"/>
                  </a:lnTo>
                  <a:lnTo>
                    <a:pt x="292" y="151"/>
                  </a:lnTo>
                  <a:lnTo>
                    <a:pt x="323" y="141"/>
                  </a:lnTo>
                  <a:lnTo>
                    <a:pt x="353" y="131"/>
                  </a:lnTo>
                  <a:lnTo>
                    <a:pt x="373" y="121"/>
                  </a:lnTo>
                  <a:lnTo>
                    <a:pt x="414" y="111"/>
                  </a:lnTo>
                  <a:lnTo>
                    <a:pt x="444" y="101"/>
                  </a:lnTo>
                  <a:lnTo>
                    <a:pt x="464" y="101"/>
                  </a:lnTo>
                  <a:lnTo>
                    <a:pt x="504" y="91"/>
                  </a:lnTo>
                  <a:lnTo>
                    <a:pt x="545" y="81"/>
                  </a:lnTo>
                  <a:lnTo>
                    <a:pt x="565" y="81"/>
                  </a:lnTo>
                  <a:lnTo>
                    <a:pt x="605" y="71"/>
                  </a:lnTo>
                  <a:lnTo>
                    <a:pt x="626" y="71"/>
                  </a:lnTo>
                  <a:lnTo>
                    <a:pt x="666" y="60"/>
                  </a:lnTo>
                  <a:lnTo>
                    <a:pt x="706" y="50"/>
                  </a:lnTo>
                  <a:lnTo>
                    <a:pt x="727" y="50"/>
                  </a:lnTo>
                  <a:lnTo>
                    <a:pt x="777" y="40"/>
                  </a:lnTo>
                  <a:lnTo>
                    <a:pt x="817" y="40"/>
                  </a:lnTo>
                  <a:lnTo>
                    <a:pt x="848" y="30"/>
                  </a:lnTo>
                  <a:lnTo>
                    <a:pt x="888" y="30"/>
                  </a:lnTo>
                  <a:lnTo>
                    <a:pt x="939" y="20"/>
                  </a:lnTo>
                  <a:lnTo>
                    <a:pt x="959" y="20"/>
                  </a:lnTo>
                  <a:lnTo>
                    <a:pt x="1009" y="20"/>
                  </a:lnTo>
                  <a:lnTo>
                    <a:pt x="1060" y="10"/>
                  </a:lnTo>
                  <a:lnTo>
                    <a:pt x="1090" y="10"/>
                  </a:lnTo>
                  <a:lnTo>
                    <a:pt x="1140" y="10"/>
                  </a:lnTo>
                  <a:lnTo>
                    <a:pt x="1161" y="10"/>
                  </a:lnTo>
                  <a:lnTo>
                    <a:pt x="1211" y="0"/>
                  </a:lnTo>
                  <a:lnTo>
                    <a:pt x="1262" y="0"/>
                  </a:lnTo>
                  <a:lnTo>
                    <a:pt x="1292" y="0"/>
                  </a:lnTo>
                  <a:lnTo>
                    <a:pt x="1342" y="0"/>
                  </a:lnTo>
                  <a:lnTo>
                    <a:pt x="1393" y="0"/>
                  </a:lnTo>
                  <a:lnTo>
                    <a:pt x="1413" y="0"/>
                  </a:lnTo>
                  <a:lnTo>
                    <a:pt x="1464" y="0"/>
                  </a:lnTo>
                  <a:lnTo>
                    <a:pt x="1464" y="384"/>
                  </a:lnTo>
                  <a:lnTo>
                    <a:pt x="2655" y="151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5600" y="3149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56880" y="5281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86600" y="3116160"/>
              <a:ext cx="11268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1920" y="30369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086600" y="3452760"/>
              <a:ext cx="11268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62280" y="337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2. Ja esat, tad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v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as ar šo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zpild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662120" y="2403360"/>
            <a:ext cx="6732360" cy="3632400"/>
            <a:chOff x="1662120" y="2403360"/>
            <a:chExt cx="6732360" cy="3632400"/>
          </a:xfrm>
        </p:grpSpPr>
        <p:sp>
          <p:nvSpPr>
            <p:cNvPr id="149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0" y="175"/>
                  </a:moveTo>
                  <a:lnTo>
                    <a:pt x="239" y="0"/>
                  </a:lnTo>
                  <a:lnTo>
                    <a:pt x="2358" y="0"/>
                  </a:lnTo>
                  <a:lnTo>
                    <a:pt x="2118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3960" y="51213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93960" y="46245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93960" y="4127400"/>
              <a:ext cx="3743280" cy="29232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3960" y="36306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93960" y="31338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93960" y="265104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2358" y="0"/>
                  </a:moveTo>
                  <a:lnTo>
                    <a:pt x="2118" y="175"/>
                  </a:lnTo>
                  <a:lnTo>
                    <a:pt x="0" y="175"/>
                  </a:lnTo>
                  <a:lnTo>
                    <a:pt x="239" y="0"/>
                  </a:lnTo>
                  <a:lnTo>
                    <a:pt x="23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86040" y="3821040"/>
              <a:ext cx="16020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32080" y="3936960"/>
              <a:ext cx="453960" cy="187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32080" y="3821040"/>
              <a:ext cx="61416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2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38560" y="2827440"/>
              <a:ext cx="162000" cy="2981160"/>
            </a:xfrm>
            <a:custGeom>
              <a:avLst/>
              <a:gdLst/>
              <a:ahLst/>
              <a:rect l="l" t="t" r="r" b="b"/>
              <a:pathLst>
                <a:path w="102" h="1878">
                  <a:moveTo>
                    <a:pt x="0" y="1878"/>
                  </a:moveTo>
                  <a:lnTo>
                    <a:pt x="0" y="73"/>
                  </a:lnTo>
                  <a:lnTo>
                    <a:pt x="102" y="0"/>
                  </a:lnTo>
                  <a:lnTo>
                    <a:pt x="102" y="1814"/>
                  </a:lnTo>
                  <a:lnTo>
                    <a:pt x="0" y="18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86040" y="2943360"/>
              <a:ext cx="452520" cy="2865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6040" y="28274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5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38560" y="5707080"/>
              <a:ext cx="600120" cy="101520"/>
            </a:xfrm>
            <a:custGeom>
              <a:avLst/>
              <a:gdLst/>
              <a:ahLst/>
              <a:rect l="l" t="t" r="r" b="b"/>
              <a:pathLst>
                <a:path w="378" h="64">
                  <a:moveTo>
                    <a:pt x="286" y="64"/>
                  </a:moveTo>
                  <a:lnTo>
                    <a:pt x="378" y="0"/>
                  </a:lnTo>
                  <a:lnTo>
                    <a:pt x="102" y="0"/>
                  </a:lnTo>
                  <a:lnTo>
                    <a:pt x="0" y="64"/>
                  </a:lnTo>
                  <a:lnTo>
                    <a:pt x="286" y="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30640" y="5398920"/>
              <a:ext cx="16020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74"/>
                  </a:lnTo>
                  <a:lnTo>
                    <a:pt x="101" y="0"/>
                  </a:lnTo>
                  <a:lnTo>
                    <a:pt x="101" y="19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92520" y="5516640"/>
              <a:ext cx="438120" cy="2919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92520" y="5398920"/>
              <a:ext cx="598320" cy="117720"/>
            </a:xfrm>
            <a:custGeom>
              <a:avLst/>
              <a:gdLst/>
              <a:ahLst/>
              <a:rect l="l" t="t" r="r" b="b"/>
              <a:pathLst>
                <a:path w="377" h="74">
                  <a:moveTo>
                    <a:pt x="276" y="74"/>
                  </a:moveTo>
                  <a:lnTo>
                    <a:pt x="377" y="0"/>
                  </a:lnTo>
                  <a:lnTo>
                    <a:pt x="92" y="0"/>
                  </a:lnTo>
                  <a:lnTo>
                    <a:pt x="0" y="74"/>
                  </a:lnTo>
                  <a:lnTo>
                    <a:pt x="276" y="7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84600" y="3821040"/>
              <a:ext cx="16056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30640" y="3936960"/>
              <a:ext cx="453960" cy="18716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0640" y="38210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7120" y="550224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193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29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84600" y="5618160"/>
              <a:ext cx="452520" cy="190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84600" y="5502240"/>
              <a:ext cx="612720" cy="115920"/>
            </a:xfrm>
            <a:custGeom>
              <a:avLst/>
              <a:gdLst/>
              <a:ahLst/>
              <a:rect l="l" t="t" r="r" b="b"/>
              <a:pathLst>
                <a:path w="386" h="73">
                  <a:moveTo>
                    <a:pt x="285" y="73"/>
                  </a:moveTo>
                  <a:lnTo>
                    <a:pt x="386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68440" y="4070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6800" y="30654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8732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38320" y="5502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81400" y="401328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463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849320" y="589608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1849320" y="5413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49320" y="49165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849320" y="44197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849320" y="39225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849320" y="34257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849320" y="29289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58960" y="578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5896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62120" y="4800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62120" y="4303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62120" y="38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62120" y="330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6212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02280" y="2460600"/>
              <a:ext cx="87480" cy="8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55280" y="240336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finansējums, l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55640" y="260820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zpildītu minētās 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02280" y="31478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55280" y="3089160"/>
              <a:ext cx="207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as zināšanas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4920" y="3294000"/>
              <a:ext cx="219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ācija, kā izpildīt minētā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6160" y="34988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02280" y="383544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63560" y="377676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atbalsts 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53480" y="3981600"/>
              <a:ext cx="224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uzņēmuma vadības (īpašniek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50240" y="41860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-iem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2280" y="4522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55640" y="44640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skaidras prasības tiesīb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77600" y="46688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k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02280" y="5210280"/>
              <a:ext cx="87480" cy="87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65360" y="5151600"/>
              <a:ext cx="147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ehnisko dokument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65720" y="53560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standartu) trūku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2280" y="5896080"/>
              <a:ext cx="87480" cy="889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56000" y="583740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oblēmām nevajadzētu bū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IEV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Pētījuma metodoloģija – individuālā anket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Anketas saturs – komprom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Rezultāts – 395 Latvijas uzņēm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3. Kur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arasti s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at papildus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/liet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500120" y="2209680"/>
            <a:ext cx="6783840" cy="4119480"/>
            <a:chOff x="1500120" y="2209680"/>
            <a:chExt cx="6783840" cy="4119480"/>
          </a:xfrm>
        </p:grpSpPr>
        <p:sp>
          <p:nvSpPr>
            <p:cNvPr id="1568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0" y="120"/>
                  </a:moveTo>
                  <a:lnTo>
                    <a:pt x="157" y="0"/>
                  </a:lnTo>
                  <a:lnTo>
                    <a:pt x="2376" y="0"/>
                  </a:lnTo>
                  <a:lnTo>
                    <a:pt x="222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35280" y="507852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35280" y="446400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5280" y="386388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35280" y="326556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835280" y="26510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2376" y="0"/>
                  </a:moveTo>
                  <a:lnTo>
                    <a:pt x="2220" y="120"/>
                  </a:lnTo>
                  <a:lnTo>
                    <a:pt x="0" y="120"/>
                  </a:lnTo>
                  <a:lnTo>
                    <a:pt x="157" y="0"/>
                  </a:lnTo>
                  <a:lnTo>
                    <a:pt x="23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05160" y="4492800"/>
              <a:ext cx="102960" cy="1315800"/>
            </a:xfrm>
            <a:custGeom>
              <a:avLst/>
              <a:gdLst/>
              <a:ahLst/>
              <a:rect l="l" t="t" r="r" b="b"/>
              <a:pathLst>
                <a:path w="65" h="829">
                  <a:moveTo>
                    <a:pt x="0" y="829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83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27240" y="4565520"/>
              <a:ext cx="277920" cy="124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127240" y="449280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82720" y="4624560"/>
              <a:ext cx="103320" cy="1184040"/>
            </a:xfrm>
            <a:custGeom>
              <a:avLst/>
              <a:gdLst/>
              <a:ahLst/>
              <a:rect l="l" t="t" r="r" b="b"/>
              <a:pathLst>
                <a:path w="65" h="746">
                  <a:moveTo>
                    <a:pt x="0" y="746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0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05160" y="4697280"/>
              <a:ext cx="277560" cy="1111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05160" y="462456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75040" y="3440160"/>
              <a:ext cx="88920" cy="2368440"/>
            </a:xfrm>
            <a:custGeom>
              <a:avLst/>
              <a:gdLst/>
              <a:ahLst/>
              <a:rect l="l" t="t" r="r" b="b"/>
              <a:pathLst>
                <a:path w="56" h="1492">
                  <a:moveTo>
                    <a:pt x="0" y="1492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1446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82720" y="3513240"/>
              <a:ext cx="292320" cy="22953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2720" y="344016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4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52960" y="5033880"/>
              <a:ext cx="88560" cy="774720"/>
            </a:xfrm>
            <a:custGeom>
              <a:avLst/>
              <a:gdLst/>
              <a:ahLst/>
              <a:rect l="l" t="t" r="r" b="b"/>
              <a:pathLst>
                <a:path w="56" h="488">
                  <a:moveTo>
                    <a:pt x="0" y="488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442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75040" y="5106960"/>
              <a:ext cx="277920" cy="7016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75040" y="5033880"/>
              <a:ext cx="366480" cy="7308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175" y="46"/>
                  </a:moveTo>
                  <a:lnTo>
                    <a:pt x="231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30520" y="4287960"/>
              <a:ext cx="103320" cy="1520640"/>
            </a:xfrm>
            <a:custGeom>
              <a:avLst/>
              <a:gdLst/>
              <a:ahLst/>
              <a:rect l="l" t="t" r="r" b="b"/>
              <a:pathLst>
                <a:path w="65" h="958">
                  <a:moveTo>
                    <a:pt x="0" y="958"/>
                  </a:moveTo>
                  <a:lnTo>
                    <a:pt x="0" y="47"/>
                  </a:lnTo>
                  <a:lnTo>
                    <a:pt x="65" y="0"/>
                  </a:lnTo>
                  <a:lnTo>
                    <a:pt x="65" y="912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52960" y="4362480"/>
              <a:ext cx="277560" cy="1446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52960" y="4287960"/>
              <a:ext cx="380880" cy="74520"/>
            </a:xfrm>
            <a:custGeom>
              <a:avLst/>
              <a:gdLst/>
              <a:ahLst/>
              <a:rect l="l" t="t" r="r" b="b"/>
              <a:pathLst>
                <a:path w="240" h="47">
                  <a:moveTo>
                    <a:pt x="175" y="47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7"/>
                  </a:lnTo>
                  <a:lnTo>
                    <a:pt x="175" y="47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8440" y="3178080"/>
              <a:ext cx="103320" cy="2630520"/>
            </a:xfrm>
            <a:custGeom>
              <a:avLst/>
              <a:gdLst/>
              <a:ahLst/>
              <a:rect l="l" t="t" r="r" b="b"/>
              <a:pathLst>
                <a:path w="65" h="1657">
                  <a:moveTo>
                    <a:pt x="0" y="1657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1611"/>
                  </a:lnTo>
                  <a:lnTo>
                    <a:pt x="0" y="1657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30520" y="3251160"/>
              <a:ext cx="277920" cy="2557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317808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2200" y="4873680"/>
              <a:ext cx="87120" cy="93492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589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543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8440" y="4946760"/>
              <a:ext cx="293760" cy="86184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8440" y="4873680"/>
              <a:ext cx="38088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5" y="4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79760" y="4157640"/>
              <a:ext cx="87480" cy="1650960"/>
            </a:xfrm>
            <a:custGeom>
              <a:avLst/>
              <a:gdLst/>
              <a:ahLst/>
              <a:rect l="l" t="t" r="r" b="b"/>
              <a:pathLst>
                <a:path w="55" h="1040">
                  <a:moveTo>
                    <a:pt x="0" y="104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994"/>
                  </a:lnTo>
                  <a:lnTo>
                    <a:pt x="0" y="104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2200" y="4230720"/>
              <a:ext cx="277560" cy="15778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2200" y="4157640"/>
              <a:ext cx="365040" cy="7308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175" y="46"/>
                  </a:moveTo>
                  <a:lnTo>
                    <a:pt x="230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57680" y="3236760"/>
              <a:ext cx="101520" cy="2571840"/>
            </a:xfrm>
            <a:custGeom>
              <a:avLst/>
              <a:gdLst/>
              <a:ahLst/>
              <a:rect l="l" t="t" r="r" b="b"/>
              <a:pathLst>
                <a:path w="64" h="1620">
                  <a:moveTo>
                    <a:pt x="0" y="1620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574"/>
                  </a:lnTo>
                  <a:lnTo>
                    <a:pt x="0" y="1620"/>
                  </a:lnTo>
                  <a:close/>
                </a:path>
              </a:pathLst>
            </a:custGeom>
            <a:solidFill>
              <a:srgbClr val="0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379760" y="3309840"/>
              <a:ext cx="277920" cy="249876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79760" y="323676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000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35600" y="5283360"/>
              <a:ext cx="101520" cy="525240"/>
            </a:xfrm>
            <a:custGeom>
              <a:avLst/>
              <a:gdLst/>
              <a:ahLst/>
              <a:rect l="l" t="t" r="r" b="b"/>
              <a:pathLst>
                <a:path w="64" h="331">
                  <a:moveTo>
                    <a:pt x="0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28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7680" y="5356080"/>
              <a:ext cx="277920" cy="4525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283360"/>
              <a:ext cx="379440" cy="7272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00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227560" y="5634000"/>
              <a:ext cx="87480" cy="174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11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6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35600" y="5707080"/>
              <a:ext cx="291960" cy="1015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5600" y="563400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84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56760" y="4230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0280" y="4697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54280" y="35528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75040" y="5105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51080" y="405936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29800" y="2933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49120" y="4991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2840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8560" y="29876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57680" y="538488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81400" y="53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790640" y="58672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790640" y="5253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1790640" y="465444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90640" y="4054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790640" y="3440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790640" y="28414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020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03440" y="513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00120" y="453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001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0012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00120" y="2724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19640" y="2268360"/>
              <a:ext cx="87480" cy="874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70480" y="220968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uzņēmuma darb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69760" y="241452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izsardzības speciāli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19640" y="28004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67600" y="27432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ikrak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9640" y="310680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69400" y="304812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Valsts darba inspekc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19640" y="3487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69400" y="342900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bklājības ministr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19640" y="3867120"/>
              <a:ext cx="87480" cy="88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67960" y="38098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ternet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119640" y="4249800"/>
              <a:ext cx="87480" cy="871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67600" y="419112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eminār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119640" y="4562640"/>
              <a:ext cx="87480" cy="871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70840" y="450360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peciāliem bukletiem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271560" y="470844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atīvajiem materiāli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9640" y="5062680"/>
              <a:ext cx="87480" cy="889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81640" y="500544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ertifikā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5443560"/>
              <a:ext cx="87480" cy="8712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69400" y="5384880"/>
              <a:ext cx="18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inspek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19640" y="5808600"/>
              <a:ext cx="87480" cy="87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79480" y="574992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konsultantu uzņēm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19640" y="6188040"/>
              <a:ext cx="87480" cy="889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94960" y="613080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Citu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4. Vai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a par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as/lietošanas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em ir pietiekama un viegli pieeja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411920" y="2546280"/>
            <a:ext cx="6603840" cy="3525840"/>
            <a:chOff x="1411920" y="2546280"/>
            <a:chExt cx="6603840" cy="3525840"/>
          </a:xfrm>
        </p:grpSpPr>
        <p:sp>
          <p:nvSpPr>
            <p:cNvPr id="1665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0" y="401"/>
                  </a:moveTo>
                  <a:lnTo>
                    <a:pt x="528" y="0"/>
                  </a:lnTo>
                  <a:lnTo>
                    <a:pt x="3316" y="0"/>
                  </a:lnTo>
                  <a:lnTo>
                    <a:pt x="2788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46360" y="5048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46360" y="477360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46360" y="4498920"/>
              <a:ext cx="5263920" cy="620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46360" y="4210200"/>
              <a:ext cx="5263920" cy="634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746360" y="393372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6360" y="365904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46360" y="3384720"/>
              <a:ext cx="5263920" cy="622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46360" y="309564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746360" y="2820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746360" y="2546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3316" y="0"/>
                  </a:moveTo>
                  <a:lnTo>
                    <a:pt x="2788" y="401"/>
                  </a:lnTo>
                  <a:lnTo>
                    <a:pt x="0" y="401"/>
                  </a:lnTo>
                  <a:lnTo>
                    <a:pt x="528" y="0"/>
                  </a:lnTo>
                  <a:lnTo>
                    <a:pt x="331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27440" y="5033880"/>
              <a:ext cx="333360" cy="736560"/>
            </a:xfrm>
            <a:custGeom>
              <a:avLst/>
              <a:gdLst/>
              <a:ahLst/>
              <a:rect l="l" t="t" r="r" b="b"/>
              <a:pathLst>
                <a:path w="210" h="464">
                  <a:moveTo>
                    <a:pt x="0" y="464"/>
                  </a:moveTo>
                  <a:lnTo>
                    <a:pt x="0" y="155"/>
                  </a:lnTo>
                  <a:lnTo>
                    <a:pt x="210" y="0"/>
                  </a:lnTo>
                  <a:lnTo>
                    <a:pt x="210" y="300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4640" y="5280120"/>
              <a:ext cx="982800" cy="490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44640" y="5033880"/>
              <a:ext cx="1316160" cy="246240"/>
            </a:xfrm>
            <a:custGeom>
              <a:avLst/>
              <a:gdLst/>
              <a:ahLst/>
              <a:rect l="l" t="t" r="r" b="b"/>
              <a:pathLst>
                <a:path w="829" h="155">
                  <a:moveTo>
                    <a:pt x="619" y="155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55"/>
                  </a:lnTo>
                  <a:lnTo>
                    <a:pt x="619" y="15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2994120"/>
              <a:ext cx="331920" cy="2776320"/>
            </a:xfrm>
            <a:custGeom>
              <a:avLst/>
              <a:gdLst/>
              <a:ahLst/>
              <a:rect l="l" t="t" r="r" b="b"/>
              <a:pathLst>
                <a:path w="209" h="1749">
                  <a:moveTo>
                    <a:pt x="0" y="1749"/>
                  </a:moveTo>
                  <a:lnTo>
                    <a:pt x="0" y="164"/>
                  </a:lnTo>
                  <a:lnTo>
                    <a:pt x="209" y="0"/>
                  </a:lnTo>
                  <a:lnTo>
                    <a:pt x="209" y="1585"/>
                  </a:lnTo>
                  <a:lnTo>
                    <a:pt x="0" y="17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27440" y="3254400"/>
              <a:ext cx="969840" cy="2516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727440" y="2994120"/>
              <a:ext cx="1301760" cy="260280"/>
            </a:xfrm>
            <a:custGeom>
              <a:avLst/>
              <a:gdLst/>
              <a:ahLst/>
              <a:rect l="l" t="t" r="r" b="b"/>
              <a:pathLst>
                <a:path w="820" h="164">
                  <a:moveTo>
                    <a:pt x="611" y="164"/>
                  </a:moveTo>
                  <a:lnTo>
                    <a:pt x="820" y="0"/>
                  </a:lnTo>
                  <a:lnTo>
                    <a:pt x="210" y="0"/>
                  </a:lnTo>
                  <a:lnTo>
                    <a:pt x="0" y="164"/>
                  </a:lnTo>
                  <a:lnTo>
                    <a:pt x="611" y="16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0080" y="3024360"/>
              <a:ext cx="333360" cy="2746080"/>
            </a:xfrm>
            <a:custGeom>
              <a:avLst/>
              <a:gdLst/>
              <a:ahLst/>
              <a:rect l="l" t="t" r="r" b="b"/>
              <a:pathLst>
                <a:path w="210" h="1730">
                  <a:moveTo>
                    <a:pt x="0" y="1730"/>
                  </a:moveTo>
                  <a:lnTo>
                    <a:pt x="0" y="164"/>
                  </a:lnTo>
                  <a:lnTo>
                    <a:pt x="210" y="0"/>
                  </a:lnTo>
                  <a:lnTo>
                    <a:pt x="210" y="1566"/>
                  </a:lnTo>
                  <a:lnTo>
                    <a:pt x="0" y="1730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97280" y="3284640"/>
              <a:ext cx="982800" cy="24858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97280" y="3024360"/>
              <a:ext cx="1316160" cy="260280"/>
            </a:xfrm>
            <a:custGeom>
              <a:avLst/>
              <a:gdLst/>
              <a:ahLst/>
              <a:rect l="l" t="t" r="r" b="b"/>
              <a:pathLst>
                <a:path w="829" h="164">
                  <a:moveTo>
                    <a:pt x="619" y="164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64"/>
                  </a:lnTo>
                  <a:lnTo>
                    <a:pt x="619" y="1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48920" y="533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0080" y="3384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28480" y="350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746360" y="3182400"/>
              <a:ext cx="14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1703160" y="595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1703160" y="5684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703160" y="54100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1703160" y="5119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70316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1703160" y="45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1703160" y="4295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703160" y="4006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703160" y="3732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03160" y="3457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03160" y="3182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3160" y="5843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08760" y="5568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08760" y="5294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8760" y="500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08760" y="4729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11920" y="4454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41192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11920" y="3890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1192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11920" y="3341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11920" y="3067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72440" y="3992400"/>
              <a:ext cx="101520" cy="101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71880" y="39196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72440" y="4295880"/>
              <a:ext cx="1015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71160" y="4224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72440" y="4599000"/>
              <a:ext cx="1015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66840" y="452772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. Vai skaidrojošie materiāli par tiesību aktiem un to prasību izpildi ir pietiek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26" name=""/>
          <p:cNvGrpSpPr/>
          <p:nvPr/>
        </p:nvGrpSpPr>
        <p:grpSpPr>
          <a:xfrm>
            <a:off x="1829880" y="2763720"/>
            <a:ext cx="6320520" cy="3369600"/>
            <a:chOff x="1829880" y="2763720"/>
            <a:chExt cx="6320520" cy="3369600"/>
          </a:xfrm>
        </p:grpSpPr>
        <p:sp>
          <p:nvSpPr>
            <p:cNvPr id="1727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0" y="383"/>
                  </a:moveTo>
                  <a:lnTo>
                    <a:pt x="505" y="0"/>
                  </a:lnTo>
                  <a:lnTo>
                    <a:pt x="3172" y="0"/>
                  </a:lnTo>
                  <a:lnTo>
                    <a:pt x="2667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8400" y="5157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8400" y="489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8400" y="4632480"/>
              <a:ext cx="5035680" cy="595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8400" y="435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38400" y="409248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8400" y="382896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8400" y="3567240"/>
              <a:ext cx="5035680" cy="593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8400" y="3289320"/>
              <a:ext cx="5035680" cy="609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138400" y="3027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38400" y="2763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3172" y="0"/>
                  </a:moveTo>
                  <a:lnTo>
                    <a:pt x="2667" y="383"/>
                  </a:lnTo>
                  <a:lnTo>
                    <a:pt x="0" y="383"/>
                  </a:lnTo>
                  <a:lnTo>
                    <a:pt x="505" y="0"/>
                  </a:lnTo>
                  <a:lnTo>
                    <a:pt x="317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33800" y="553248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200"/>
                  </a:moveTo>
                  <a:lnTo>
                    <a:pt x="0" y="148"/>
                  </a:lnTo>
                  <a:lnTo>
                    <a:pt x="200" y="0"/>
                  </a:lnTo>
                  <a:lnTo>
                    <a:pt x="200" y="4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92400" y="5767560"/>
              <a:ext cx="941400" cy="824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92400" y="5532480"/>
              <a:ext cx="125892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593" y="148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960800" y="3040200"/>
              <a:ext cx="317520" cy="2809800"/>
            </a:xfrm>
            <a:custGeom>
              <a:avLst/>
              <a:gdLst/>
              <a:ahLst/>
              <a:rect l="l" t="t" r="r" b="b"/>
              <a:pathLst>
                <a:path w="200" h="1770">
                  <a:moveTo>
                    <a:pt x="0" y="1770"/>
                  </a:moveTo>
                  <a:lnTo>
                    <a:pt x="0" y="149"/>
                  </a:lnTo>
                  <a:lnTo>
                    <a:pt x="200" y="0"/>
                  </a:lnTo>
                  <a:lnTo>
                    <a:pt x="200" y="1613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33800" y="3276720"/>
              <a:ext cx="927000" cy="2573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3800" y="3040200"/>
              <a:ext cx="1244520" cy="236520"/>
            </a:xfrm>
            <a:custGeom>
              <a:avLst/>
              <a:gdLst/>
              <a:ahLst/>
              <a:rect l="l" t="t" r="r" b="b"/>
              <a:pathLst>
                <a:path w="784" h="149">
                  <a:moveTo>
                    <a:pt x="584" y="149"/>
                  </a:moveTo>
                  <a:lnTo>
                    <a:pt x="784" y="0"/>
                  </a:lnTo>
                  <a:lnTo>
                    <a:pt x="200" y="0"/>
                  </a:lnTo>
                  <a:lnTo>
                    <a:pt x="0" y="149"/>
                  </a:lnTo>
                  <a:lnTo>
                    <a:pt x="584" y="14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02200" y="2998800"/>
              <a:ext cx="317520" cy="2851200"/>
            </a:xfrm>
            <a:custGeom>
              <a:avLst/>
              <a:gdLst/>
              <a:ahLst/>
              <a:rect l="l" t="t" r="r" b="b"/>
              <a:pathLst>
                <a:path w="200" h="1796">
                  <a:moveTo>
                    <a:pt x="0" y="1796"/>
                  </a:moveTo>
                  <a:lnTo>
                    <a:pt x="0" y="157"/>
                  </a:lnTo>
                  <a:lnTo>
                    <a:pt x="200" y="0"/>
                  </a:lnTo>
                  <a:lnTo>
                    <a:pt x="200" y="1639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60800" y="3247920"/>
              <a:ext cx="941400" cy="2602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60800" y="2998800"/>
              <a:ext cx="1258920" cy="249120"/>
            </a:xfrm>
            <a:custGeom>
              <a:avLst/>
              <a:gdLst/>
              <a:ahLst/>
              <a:rect l="l" t="t" r="r" b="b"/>
              <a:pathLst>
                <a:path w="793" h="157">
                  <a:moveTo>
                    <a:pt x="593" y="157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57"/>
                  </a:lnTo>
                  <a:lnTo>
                    <a:pt x="593" y="15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76240" y="5553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9880" y="3375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7724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138400" y="3373200"/>
              <a:ext cx="1440" cy="265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095200" y="6029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209520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095200" y="5504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2095200" y="5227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2095200" y="4964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2095200" y="47005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095200" y="443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095200" y="4160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2095200" y="3898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095200" y="3635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095200" y="3373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18520" y="591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927800" y="565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27800" y="539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27800" y="5116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27800" y="48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29880" y="4591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29880" y="432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829880" y="4051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29880" y="378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29880" y="352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9880" y="326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20040" y="4148280"/>
              <a:ext cx="96840" cy="96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720200" y="4078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520040" y="4438800"/>
              <a:ext cx="96840" cy="96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25240" y="436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0040" y="4729320"/>
              <a:ext cx="96840" cy="96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33520" y="46594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6.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u skaidrojumi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i pieejami un lietojami, ja t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873080" y="2455920"/>
            <a:ext cx="6475680" cy="3427200"/>
            <a:chOff x="1873080" y="2455920"/>
            <a:chExt cx="6475680" cy="3427200"/>
          </a:xfrm>
        </p:grpSpPr>
        <p:sp>
          <p:nvSpPr>
            <p:cNvPr id="179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0" y="205"/>
                  </a:moveTo>
                  <a:lnTo>
                    <a:pt x="268" y="0"/>
                  </a:lnTo>
                  <a:lnTo>
                    <a:pt x="2353" y="0"/>
                  </a:lnTo>
                  <a:lnTo>
                    <a:pt x="2086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203560" y="4975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203560" y="450864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03560" y="4041720"/>
              <a:ext cx="3735360" cy="3380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03560" y="358776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203560" y="3121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203560" y="265428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2353" y="0"/>
                  </a:moveTo>
                  <a:lnTo>
                    <a:pt x="2086" y="205"/>
                  </a:lnTo>
                  <a:lnTo>
                    <a:pt x="0" y="205"/>
                  </a:lnTo>
                  <a:lnTo>
                    <a:pt x="268" y="0"/>
                  </a:lnTo>
                  <a:lnTo>
                    <a:pt x="235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22720" y="2852640"/>
              <a:ext cx="169920" cy="2816280"/>
            </a:xfrm>
            <a:custGeom>
              <a:avLst/>
              <a:gdLst/>
              <a:ahLst/>
              <a:rect l="l" t="t" r="r" b="b"/>
              <a:pathLst>
                <a:path w="107" h="1774">
                  <a:moveTo>
                    <a:pt x="0" y="1774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69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12960" y="2994120"/>
              <a:ext cx="509760" cy="2674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12960" y="285264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32120" y="4592520"/>
              <a:ext cx="169920" cy="1076400"/>
            </a:xfrm>
            <a:custGeom>
              <a:avLst/>
              <a:gdLst/>
              <a:ahLst/>
              <a:rect l="l" t="t" r="r" b="b"/>
              <a:pathLst>
                <a:path w="107" h="678">
                  <a:moveTo>
                    <a:pt x="0" y="678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98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22720" y="4719600"/>
              <a:ext cx="509400" cy="949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22720" y="459252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1880" y="3092400"/>
              <a:ext cx="169920" cy="2576520"/>
            </a:xfrm>
            <a:custGeom>
              <a:avLst/>
              <a:gdLst/>
              <a:ahLst/>
              <a:rect l="l" t="t" r="r" b="b"/>
              <a:pathLst>
                <a:path w="107" h="1623">
                  <a:moveTo>
                    <a:pt x="0" y="1623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543"/>
                  </a:lnTo>
                  <a:lnTo>
                    <a:pt x="0" y="162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32120" y="3233880"/>
              <a:ext cx="509760" cy="2435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32120" y="309240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51280" y="5343480"/>
              <a:ext cx="169920" cy="325440"/>
            </a:xfrm>
            <a:custGeom>
              <a:avLst/>
              <a:gdLst/>
              <a:ahLst/>
              <a:rect l="l" t="t" r="r" b="b"/>
              <a:pathLst>
                <a:path w="107" h="205">
                  <a:moveTo>
                    <a:pt x="0" y="205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12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41880" y="5470560"/>
              <a:ext cx="509400" cy="198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1880" y="534348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1040" y="5456160"/>
              <a:ext cx="169920" cy="212760"/>
            </a:xfrm>
            <a:custGeom>
              <a:avLst/>
              <a:gdLst/>
              <a:ahLst/>
              <a:rect l="l" t="t" r="r" b="b"/>
              <a:pathLst>
                <a:path w="107" h="134">
                  <a:moveTo>
                    <a:pt x="0" y="134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51280" y="5583240"/>
              <a:ext cx="50976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51280" y="5456160"/>
              <a:ext cx="67968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24920" y="310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35400" y="476244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44080" y="3305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537800" y="5072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76360" y="517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2203560" y="2979720"/>
              <a:ext cx="1440" cy="27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16036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2160360" y="5300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160360" y="4834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160360" y="4379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6036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160360" y="3446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160360" y="29797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71800" y="5654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76400" y="5187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3080" y="471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73080" y="426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730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7308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73080" y="2867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307200" y="2527200"/>
              <a:ext cx="100080" cy="9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76040" y="245592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2520" y="268272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07200" y="327672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83960" y="3206880"/>
              <a:ext cx="11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72080" y="3432240"/>
              <a:ext cx="187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Labklājības ministrij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2520" y="365904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7200" y="4027320"/>
              <a:ext cx="100080" cy="986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1440" y="395604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iktu izplatīt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0640" y="418320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ezmaksas buklet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07200" y="477684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6040" y="470700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77840" y="4932360"/>
              <a:ext cx="165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reģionālajos biro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07200" y="5527800"/>
              <a:ext cx="100080" cy="982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75680" y="545616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citu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1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ēju izpratne par Latvijas tiesību aktiem industriālo iekārtu tirgus uzraudzības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) informētības līmenis – virspusē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b) izpratne – visumā laba, tomēr ir “problē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urpmākās rīcības – uzņēmēju informēšana un kontroles aktiv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2. E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šā stāvokļa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pozitīvā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n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negatīvās tend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ozitīv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DI loma industriālo iekārtu aprit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labvēlīgā attieksme pret TU nepieciešam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apmierinātība ar kompetento institūciju pakalpoju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egatī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robežotā k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U iestādes pienākumi un ties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ehnisko normatīvu lietošanas te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ājās kontroles asp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3. Tiesību aktu informācijas av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Semināru t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Interneta resursu un bukletu palielin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DI kontaktpunkta 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4. 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gādā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dustriāl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kār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tbilstī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rmatīvo aktu prasībā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reģistrācijas fak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“apsekošanas” problē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2004.gada 1.jūl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5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umu problēmas un grūtība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nformācijas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Finansējuma nepietiek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6. Uzņēmēj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teikumi esošo tiesību aktu uzlabošan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iesību aktu spēkā stāšanās īsais termiņ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institūcij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ormatīvo aktu nesakritība ar direktīv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2533680"/>
            <a:ext cx="2756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Sadalījums pēc iekā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lietošanas veid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84720" y="3379680"/>
            <a:ext cx="534960" cy="1073160"/>
            <a:chOff x="3384720" y="3379680"/>
            <a:chExt cx="534960" cy="1073160"/>
          </a:xfrm>
        </p:grpSpPr>
        <p:sp>
          <p:nvSpPr>
            <p:cNvPr id="52" name=""/>
            <p:cNvSpPr/>
            <p:nvPr/>
          </p:nvSpPr>
          <p:spPr>
            <a:xfrm>
              <a:off x="3384720" y="3681360"/>
              <a:ext cx="534960" cy="36828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0"/>
                  </a:moveTo>
                  <a:lnTo>
                    <a:pt x="31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58" y="0"/>
                  </a:lnTo>
                  <a:lnTo>
                    <a:pt x="189" y="0"/>
                  </a:lnTo>
                  <a:lnTo>
                    <a:pt x="232" y="11"/>
                  </a:lnTo>
                  <a:lnTo>
                    <a:pt x="263" y="11"/>
                  </a:lnTo>
                  <a:lnTo>
                    <a:pt x="305" y="11"/>
                  </a:lnTo>
                  <a:lnTo>
                    <a:pt x="337" y="11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84720" y="3379680"/>
              <a:ext cx="534960" cy="1073160"/>
              <a:chOff x="3384720" y="3379680"/>
              <a:chExt cx="534960" cy="1073160"/>
            </a:xfrm>
          </p:grpSpPr>
          <p:sp>
            <p:nvSpPr>
              <p:cNvPr id="54" name=""/>
              <p:cNvSpPr/>
              <p:nvPr/>
            </p:nvSpPr>
            <p:spPr>
              <a:xfrm>
                <a:off x="3384720" y="3699000"/>
                <a:ext cx="534960" cy="753840"/>
              </a:xfrm>
              <a:custGeom>
                <a:avLst/>
                <a:gdLst/>
                <a:ahLst/>
                <a:rect l="l" t="t" r="r" b="b"/>
                <a:pathLst>
                  <a:path w="337" h="475">
                    <a:moveTo>
                      <a:pt x="0" y="221"/>
                    </a:moveTo>
                    <a:lnTo>
                      <a:pt x="337" y="0"/>
                    </a:lnTo>
                    <a:lnTo>
                      <a:pt x="337" y="253"/>
                    </a:lnTo>
                    <a:lnTo>
                      <a:pt x="0" y="475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35280" y="3379680"/>
                <a:ext cx="276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96800" y="3767040"/>
            <a:ext cx="1759320" cy="1038240"/>
            <a:chOff x="1396800" y="3767040"/>
            <a:chExt cx="1759320" cy="1038240"/>
          </a:xfrm>
        </p:grpSpPr>
        <p:sp>
          <p:nvSpPr>
            <p:cNvPr id="57" name=""/>
            <p:cNvSpPr/>
            <p:nvPr/>
          </p:nvSpPr>
          <p:spPr>
            <a:xfrm>
              <a:off x="1716480" y="4135320"/>
              <a:ext cx="401400" cy="66996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253" y="168"/>
                  </a:moveTo>
                  <a:lnTo>
                    <a:pt x="221" y="158"/>
                  </a:lnTo>
                  <a:lnTo>
                    <a:pt x="190" y="147"/>
                  </a:lnTo>
                  <a:lnTo>
                    <a:pt x="158" y="137"/>
                  </a:lnTo>
                  <a:lnTo>
                    <a:pt x="137" y="126"/>
                  </a:lnTo>
                  <a:lnTo>
                    <a:pt x="116" y="116"/>
                  </a:lnTo>
                  <a:lnTo>
                    <a:pt x="84" y="105"/>
                  </a:lnTo>
                  <a:lnTo>
                    <a:pt x="73" y="95"/>
                  </a:lnTo>
                  <a:lnTo>
                    <a:pt x="52" y="84"/>
                  </a:lnTo>
                  <a:lnTo>
                    <a:pt x="42" y="74"/>
                  </a:lnTo>
                  <a:lnTo>
                    <a:pt x="31" y="63"/>
                  </a:lnTo>
                  <a:lnTo>
                    <a:pt x="21" y="52"/>
                  </a:lnTo>
                  <a:lnTo>
                    <a:pt x="1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0" y="263"/>
                  </a:lnTo>
                  <a:lnTo>
                    <a:pt x="0" y="285"/>
                  </a:lnTo>
                  <a:lnTo>
                    <a:pt x="10" y="295"/>
                  </a:lnTo>
                  <a:lnTo>
                    <a:pt x="21" y="306"/>
                  </a:lnTo>
                  <a:lnTo>
                    <a:pt x="31" y="316"/>
                  </a:lnTo>
                  <a:lnTo>
                    <a:pt x="42" y="327"/>
                  </a:lnTo>
                  <a:lnTo>
                    <a:pt x="52" y="337"/>
                  </a:lnTo>
                  <a:lnTo>
                    <a:pt x="73" y="348"/>
                  </a:lnTo>
                  <a:lnTo>
                    <a:pt x="84" y="358"/>
                  </a:lnTo>
                  <a:lnTo>
                    <a:pt x="116" y="369"/>
                  </a:lnTo>
                  <a:lnTo>
                    <a:pt x="137" y="379"/>
                  </a:lnTo>
                  <a:lnTo>
                    <a:pt x="158" y="390"/>
                  </a:lnTo>
                  <a:lnTo>
                    <a:pt x="190" y="401"/>
                  </a:lnTo>
                  <a:lnTo>
                    <a:pt x="221" y="411"/>
                  </a:lnTo>
                  <a:lnTo>
                    <a:pt x="253" y="422"/>
                  </a:lnTo>
                  <a:lnTo>
                    <a:pt x="253" y="168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880" y="4135320"/>
              <a:ext cx="1038240" cy="652320"/>
            </a:xfrm>
            <a:custGeom>
              <a:avLst/>
              <a:gdLst/>
              <a:ahLst/>
              <a:rect l="l" t="t" r="r" b="b"/>
              <a:pathLst>
                <a:path w="654" h="411">
                  <a:moveTo>
                    <a:pt x="654" y="0"/>
                  </a:moveTo>
                  <a:lnTo>
                    <a:pt x="0" y="158"/>
                  </a:lnTo>
                  <a:lnTo>
                    <a:pt x="0" y="411"/>
                  </a:lnTo>
                  <a:lnTo>
                    <a:pt x="654" y="253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480" y="3767040"/>
              <a:ext cx="1439640" cy="635040"/>
            </a:xfrm>
            <a:custGeom>
              <a:avLst/>
              <a:gdLst/>
              <a:ahLst/>
              <a:rect l="l" t="t" r="r" b="b"/>
              <a:pathLst>
                <a:path w="907" h="400">
                  <a:moveTo>
                    <a:pt x="253" y="400"/>
                  </a:moveTo>
                  <a:lnTo>
                    <a:pt x="221" y="390"/>
                  </a:lnTo>
                  <a:lnTo>
                    <a:pt x="190" y="379"/>
                  </a:lnTo>
                  <a:lnTo>
                    <a:pt x="158" y="369"/>
                  </a:lnTo>
                  <a:lnTo>
                    <a:pt x="137" y="358"/>
                  </a:lnTo>
                  <a:lnTo>
                    <a:pt x="116" y="348"/>
                  </a:lnTo>
                  <a:lnTo>
                    <a:pt x="84" y="337"/>
                  </a:lnTo>
                  <a:lnTo>
                    <a:pt x="73" y="327"/>
                  </a:lnTo>
                  <a:lnTo>
                    <a:pt x="52" y="316"/>
                  </a:lnTo>
                  <a:lnTo>
                    <a:pt x="42" y="306"/>
                  </a:lnTo>
                  <a:lnTo>
                    <a:pt x="21" y="295"/>
                  </a:lnTo>
                  <a:lnTo>
                    <a:pt x="10" y="284"/>
                  </a:lnTo>
                  <a:lnTo>
                    <a:pt x="10" y="263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10" y="189"/>
                  </a:lnTo>
                  <a:lnTo>
                    <a:pt x="21" y="179"/>
                  </a:lnTo>
                  <a:lnTo>
                    <a:pt x="31" y="168"/>
                  </a:lnTo>
                  <a:lnTo>
                    <a:pt x="42" y="158"/>
                  </a:lnTo>
                  <a:lnTo>
                    <a:pt x="63" y="147"/>
                  </a:lnTo>
                  <a:lnTo>
                    <a:pt x="73" y="137"/>
                  </a:lnTo>
                  <a:lnTo>
                    <a:pt x="95" y="126"/>
                  </a:lnTo>
                  <a:lnTo>
                    <a:pt x="116" y="116"/>
                  </a:lnTo>
                  <a:lnTo>
                    <a:pt x="147" y="105"/>
                  </a:lnTo>
                  <a:lnTo>
                    <a:pt x="168" y="95"/>
                  </a:lnTo>
                  <a:lnTo>
                    <a:pt x="200" y="84"/>
                  </a:lnTo>
                  <a:lnTo>
                    <a:pt x="232" y="73"/>
                  </a:lnTo>
                  <a:lnTo>
                    <a:pt x="263" y="63"/>
                  </a:lnTo>
                  <a:lnTo>
                    <a:pt x="295" y="63"/>
                  </a:lnTo>
                  <a:lnTo>
                    <a:pt x="337" y="52"/>
                  </a:lnTo>
                  <a:lnTo>
                    <a:pt x="369" y="42"/>
                  </a:lnTo>
                  <a:lnTo>
                    <a:pt x="411" y="31"/>
                  </a:lnTo>
                  <a:lnTo>
                    <a:pt x="453" y="31"/>
                  </a:lnTo>
                  <a:lnTo>
                    <a:pt x="495" y="21"/>
                  </a:lnTo>
                  <a:lnTo>
                    <a:pt x="538" y="21"/>
                  </a:lnTo>
                  <a:lnTo>
                    <a:pt x="580" y="10"/>
                  </a:lnTo>
                  <a:lnTo>
                    <a:pt x="622" y="10"/>
                  </a:lnTo>
                  <a:lnTo>
                    <a:pt x="664" y="10"/>
                  </a:lnTo>
                  <a:lnTo>
                    <a:pt x="717" y="0"/>
                  </a:lnTo>
                  <a:lnTo>
                    <a:pt x="759" y="0"/>
                  </a:lnTo>
                  <a:lnTo>
                    <a:pt x="812" y="0"/>
                  </a:lnTo>
                  <a:lnTo>
                    <a:pt x="854" y="0"/>
                  </a:lnTo>
                  <a:lnTo>
                    <a:pt x="907" y="0"/>
                  </a:lnTo>
                  <a:lnTo>
                    <a:pt x="907" y="232"/>
                  </a:lnTo>
                  <a:lnTo>
                    <a:pt x="253" y="400"/>
                  </a:lnTo>
                  <a:close/>
                </a:path>
              </a:pathLst>
            </a:custGeom>
            <a:solidFill>
              <a:srgbClr val="ffffcc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6800" y="38001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788080" y="2841480"/>
            <a:ext cx="1689480" cy="463680"/>
            <a:chOff x="5788080" y="2841480"/>
            <a:chExt cx="1689480" cy="463680"/>
          </a:xfrm>
        </p:grpSpPr>
        <p:sp>
          <p:nvSpPr>
            <p:cNvPr id="62" name=""/>
            <p:cNvSpPr/>
            <p:nvPr/>
          </p:nvSpPr>
          <p:spPr>
            <a:xfrm>
              <a:off x="5788080" y="2908080"/>
              <a:ext cx="101520" cy="10008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1160" y="2841480"/>
              <a:ext cx="152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 u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54400" y="307656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88080" y="3699000"/>
            <a:ext cx="2411640" cy="933480"/>
            <a:chOff x="5788080" y="3699000"/>
            <a:chExt cx="2411640" cy="933480"/>
          </a:xfrm>
        </p:grpSpPr>
        <p:sp>
          <p:nvSpPr>
            <p:cNvPr id="66" name=""/>
            <p:cNvSpPr/>
            <p:nvPr/>
          </p:nvSpPr>
          <p:spPr>
            <a:xfrm>
              <a:off x="5788080" y="3767040"/>
              <a:ext cx="101520" cy="100080"/>
            </a:xfrm>
            <a:prstGeom prst="rect">
              <a:avLst/>
            </a:prstGeom>
            <a:solidFill>
              <a:srgbClr val="993366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9720" y="3699000"/>
              <a:ext cx="225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, 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1160" y="393372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n iekārtu lietotāji va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51880" y="4168800"/>
              <a:ext cx="163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ehniskās apkalp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54040" y="440388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8080" y="4954680"/>
            <a:ext cx="2561760" cy="463320"/>
            <a:chOff x="5788080" y="4954680"/>
            <a:chExt cx="2561760" cy="463320"/>
          </a:xfrm>
        </p:grpSpPr>
        <p:sp>
          <p:nvSpPr>
            <p:cNvPr id="72" name=""/>
            <p:cNvSpPr/>
            <p:nvPr/>
          </p:nvSpPr>
          <p:spPr>
            <a:xfrm>
              <a:off x="5788080" y="5021280"/>
              <a:ext cx="101520" cy="1000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8640" y="4954680"/>
              <a:ext cx="240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lietotāji vai tehniskā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240" y="5189400"/>
              <a:ext cx="180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apkalpes 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71840" y="4178160"/>
            <a:ext cx="2694240" cy="1182600"/>
            <a:chOff x="2571840" y="4178160"/>
            <a:chExt cx="2694240" cy="1182600"/>
          </a:xfrm>
        </p:grpSpPr>
        <p:sp>
          <p:nvSpPr>
            <p:cNvPr id="76" name=""/>
            <p:cNvSpPr/>
            <p:nvPr/>
          </p:nvSpPr>
          <p:spPr>
            <a:xfrm>
              <a:off x="2571840" y="4529160"/>
              <a:ext cx="2479680" cy="787320"/>
            </a:xfrm>
            <a:custGeom>
              <a:avLst/>
              <a:gdLst/>
              <a:ahLst/>
              <a:rect l="l" t="t" r="r" b="b"/>
              <a:pathLst>
                <a:path w="1562" h="496">
                  <a:moveTo>
                    <a:pt x="1562" y="0"/>
                  </a:moveTo>
                  <a:lnTo>
                    <a:pt x="1562" y="11"/>
                  </a:lnTo>
                  <a:lnTo>
                    <a:pt x="1551" y="32"/>
                  </a:lnTo>
                  <a:lnTo>
                    <a:pt x="1551" y="43"/>
                  </a:lnTo>
                  <a:lnTo>
                    <a:pt x="1540" y="53"/>
                  </a:lnTo>
                  <a:lnTo>
                    <a:pt x="1530" y="64"/>
                  </a:lnTo>
                  <a:lnTo>
                    <a:pt x="1519" y="74"/>
                  </a:lnTo>
                  <a:lnTo>
                    <a:pt x="1509" y="85"/>
                  </a:lnTo>
                  <a:lnTo>
                    <a:pt x="1488" y="95"/>
                  </a:lnTo>
                  <a:lnTo>
                    <a:pt x="1467" y="106"/>
                  </a:lnTo>
                  <a:lnTo>
                    <a:pt x="1456" y="116"/>
                  </a:lnTo>
                  <a:lnTo>
                    <a:pt x="1424" y="127"/>
                  </a:lnTo>
                  <a:lnTo>
                    <a:pt x="1403" y="138"/>
                  </a:lnTo>
                  <a:lnTo>
                    <a:pt x="1372" y="148"/>
                  </a:lnTo>
                  <a:lnTo>
                    <a:pt x="1351" y="159"/>
                  </a:lnTo>
                  <a:lnTo>
                    <a:pt x="1319" y="169"/>
                  </a:lnTo>
                  <a:lnTo>
                    <a:pt x="1298" y="169"/>
                  </a:lnTo>
                  <a:lnTo>
                    <a:pt x="1256" y="180"/>
                  </a:lnTo>
                  <a:lnTo>
                    <a:pt x="1224" y="190"/>
                  </a:lnTo>
                  <a:lnTo>
                    <a:pt x="1182" y="190"/>
                  </a:lnTo>
                  <a:lnTo>
                    <a:pt x="1150" y="201"/>
                  </a:lnTo>
                  <a:lnTo>
                    <a:pt x="1108" y="211"/>
                  </a:lnTo>
                  <a:lnTo>
                    <a:pt x="1076" y="211"/>
                  </a:lnTo>
                  <a:lnTo>
                    <a:pt x="1034" y="222"/>
                  </a:lnTo>
                  <a:lnTo>
                    <a:pt x="992" y="222"/>
                  </a:lnTo>
                  <a:lnTo>
                    <a:pt x="950" y="233"/>
                  </a:lnTo>
                  <a:lnTo>
                    <a:pt x="897" y="233"/>
                  </a:lnTo>
                  <a:lnTo>
                    <a:pt x="855" y="233"/>
                  </a:lnTo>
                  <a:lnTo>
                    <a:pt x="823" y="233"/>
                  </a:lnTo>
                  <a:lnTo>
                    <a:pt x="781" y="243"/>
                  </a:lnTo>
                  <a:lnTo>
                    <a:pt x="728" y="243"/>
                  </a:lnTo>
                  <a:lnTo>
                    <a:pt x="686" y="243"/>
                  </a:lnTo>
                  <a:lnTo>
                    <a:pt x="633" y="243"/>
                  </a:lnTo>
                  <a:lnTo>
                    <a:pt x="591" y="243"/>
                  </a:lnTo>
                  <a:lnTo>
                    <a:pt x="559" y="243"/>
                  </a:lnTo>
                  <a:lnTo>
                    <a:pt x="507" y="233"/>
                  </a:lnTo>
                  <a:lnTo>
                    <a:pt x="464" y="233"/>
                  </a:lnTo>
                  <a:lnTo>
                    <a:pt x="412" y="233"/>
                  </a:lnTo>
                  <a:lnTo>
                    <a:pt x="369" y="233"/>
                  </a:lnTo>
                  <a:lnTo>
                    <a:pt x="327" y="222"/>
                  </a:lnTo>
                  <a:lnTo>
                    <a:pt x="296" y="222"/>
                  </a:lnTo>
                  <a:lnTo>
                    <a:pt x="253" y="211"/>
                  </a:lnTo>
                  <a:lnTo>
                    <a:pt x="211" y="211"/>
                  </a:lnTo>
                  <a:lnTo>
                    <a:pt x="169" y="201"/>
                  </a:lnTo>
                  <a:lnTo>
                    <a:pt x="127" y="201"/>
                  </a:lnTo>
                  <a:lnTo>
                    <a:pt x="95" y="190"/>
                  </a:lnTo>
                  <a:lnTo>
                    <a:pt x="63" y="180"/>
                  </a:lnTo>
                  <a:lnTo>
                    <a:pt x="32" y="180"/>
                  </a:lnTo>
                  <a:lnTo>
                    <a:pt x="0" y="169"/>
                  </a:lnTo>
                  <a:lnTo>
                    <a:pt x="0" y="422"/>
                  </a:lnTo>
                  <a:lnTo>
                    <a:pt x="32" y="433"/>
                  </a:lnTo>
                  <a:lnTo>
                    <a:pt x="63" y="433"/>
                  </a:lnTo>
                  <a:lnTo>
                    <a:pt x="95" y="444"/>
                  </a:lnTo>
                  <a:lnTo>
                    <a:pt x="127" y="454"/>
                  </a:lnTo>
                  <a:lnTo>
                    <a:pt x="169" y="454"/>
                  </a:lnTo>
                  <a:lnTo>
                    <a:pt x="211" y="465"/>
                  </a:lnTo>
                  <a:lnTo>
                    <a:pt x="253" y="465"/>
                  </a:lnTo>
                  <a:lnTo>
                    <a:pt x="296" y="475"/>
                  </a:lnTo>
                  <a:lnTo>
                    <a:pt x="327" y="475"/>
                  </a:lnTo>
                  <a:lnTo>
                    <a:pt x="369" y="486"/>
                  </a:lnTo>
                  <a:lnTo>
                    <a:pt x="412" y="486"/>
                  </a:lnTo>
                  <a:lnTo>
                    <a:pt x="464" y="486"/>
                  </a:lnTo>
                  <a:lnTo>
                    <a:pt x="507" y="486"/>
                  </a:lnTo>
                  <a:lnTo>
                    <a:pt x="559" y="496"/>
                  </a:lnTo>
                  <a:lnTo>
                    <a:pt x="591" y="496"/>
                  </a:lnTo>
                  <a:lnTo>
                    <a:pt x="633" y="496"/>
                  </a:lnTo>
                  <a:lnTo>
                    <a:pt x="686" y="496"/>
                  </a:lnTo>
                  <a:lnTo>
                    <a:pt x="728" y="496"/>
                  </a:lnTo>
                  <a:lnTo>
                    <a:pt x="781" y="496"/>
                  </a:lnTo>
                  <a:lnTo>
                    <a:pt x="823" y="486"/>
                  </a:lnTo>
                  <a:lnTo>
                    <a:pt x="855" y="486"/>
                  </a:lnTo>
                  <a:lnTo>
                    <a:pt x="897" y="486"/>
                  </a:lnTo>
                  <a:lnTo>
                    <a:pt x="950" y="486"/>
                  </a:lnTo>
                  <a:lnTo>
                    <a:pt x="992" y="475"/>
                  </a:lnTo>
                  <a:lnTo>
                    <a:pt x="1034" y="475"/>
                  </a:lnTo>
                  <a:lnTo>
                    <a:pt x="1076" y="465"/>
                  </a:lnTo>
                  <a:lnTo>
                    <a:pt x="1108" y="465"/>
                  </a:lnTo>
                  <a:lnTo>
                    <a:pt x="1150" y="454"/>
                  </a:lnTo>
                  <a:lnTo>
                    <a:pt x="1182" y="444"/>
                  </a:lnTo>
                  <a:lnTo>
                    <a:pt x="1224" y="444"/>
                  </a:lnTo>
                  <a:lnTo>
                    <a:pt x="1256" y="433"/>
                  </a:lnTo>
                  <a:lnTo>
                    <a:pt x="1298" y="422"/>
                  </a:lnTo>
                  <a:lnTo>
                    <a:pt x="1319" y="422"/>
                  </a:lnTo>
                  <a:lnTo>
                    <a:pt x="1351" y="412"/>
                  </a:lnTo>
                  <a:lnTo>
                    <a:pt x="1372" y="401"/>
                  </a:lnTo>
                  <a:lnTo>
                    <a:pt x="1403" y="391"/>
                  </a:lnTo>
                  <a:lnTo>
                    <a:pt x="1424" y="380"/>
                  </a:lnTo>
                  <a:lnTo>
                    <a:pt x="1456" y="370"/>
                  </a:lnTo>
                  <a:lnTo>
                    <a:pt x="1467" y="359"/>
                  </a:lnTo>
                  <a:lnTo>
                    <a:pt x="1488" y="349"/>
                  </a:lnTo>
                  <a:lnTo>
                    <a:pt x="1509" y="338"/>
                  </a:lnTo>
                  <a:lnTo>
                    <a:pt x="1519" y="327"/>
                  </a:lnTo>
                  <a:lnTo>
                    <a:pt x="1530" y="317"/>
                  </a:lnTo>
                  <a:lnTo>
                    <a:pt x="1540" y="306"/>
                  </a:lnTo>
                  <a:lnTo>
                    <a:pt x="1551" y="296"/>
                  </a:lnTo>
                  <a:lnTo>
                    <a:pt x="1551" y="285"/>
                  </a:lnTo>
                  <a:lnTo>
                    <a:pt x="1562" y="264"/>
                  </a:lnTo>
                  <a:lnTo>
                    <a:pt x="1562" y="254"/>
                  </a:lnTo>
                  <a:lnTo>
                    <a:pt x="1562" y="0"/>
                  </a:lnTo>
                  <a:close/>
                </a:path>
              </a:pathLst>
            </a:custGeom>
            <a:solidFill>
              <a:srgbClr val="4d1a33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571840" y="4178160"/>
              <a:ext cx="2694240" cy="1182600"/>
              <a:chOff x="2571840" y="4178160"/>
              <a:chExt cx="2694240" cy="1182600"/>
            </a:xfrm>
          </p:grpSpPr>
          <p:sp>
            <p:nvSpPr>
              <p:cNvPr id="78" name=""/>
              <p:cNvSpPr/>
              <p:nvPr/>
            </p:nvSpPr>
            <p:spPr>
              <a:xfrm>
                <a:off x="2571840" y="4178160"/>
                <a:ext cx="2479320" cy="736560"/>
              </a:xfrm>
              <a:custGeom>
                <a:avLst/>
                <a:gdLst/>
                <a:ahLst/>
                <a:rect l="l" t="t" r="r" b="b"/>
                <a:pathLst>
                  <a:path w="1562" h="464">
                    <a:moveTo>
                      <a:pt x="992" y="0"/>
                    </a:moveTo>
                    <a:lnTo>
                      <a:pt x="1034" y="10"/>
                    </a:lnTo>
                    <a:lnTo>
                      <a:pt x="1076" y="10"/>
                    </a:lnTo>
                    <a:lnTo>
                      <a:pt x="1118" y="21"/>
                    </a:lnTo>
                    <a:lnTo>
                      <a:pt x="1161" y="32"/>
                    </a:lnTo>
                    <a:lnTo>
                      <a:pt x="1203" y="32"/>
                    </a:lnTo>
                    <a:lnTo>
                      <a:pt x="1234" y="42"/>
                    </a:lnTo>
                    <a:lnTo>
                      <a:pt x="1266" y="53"/>
                    </a:lnTo>
                    <a:lnTo>
                      <a:pt x="1308" y="63"/>
                    </a:lnTo>
                    <a:lnTo>
                      <a:pt x="1340" y="63"/>
                    </a:lnTo>
                    <a:lnTo>
                      <a:pt x="1372" y="74"/>
                    </a:lnTo>
                    <a:lnTo>
                      <a:pt x="1393" y="84"/>
                    </a:lnTo>
                    <a:lnTo>
                      <a:pt x="1414" y="95"/>
                    </a:lnTo>
                    <a:lnTo>
                      <a:pt x="1435" y="105"/>
                    </a:lnTo>
                    <a:lnTo>
                      <a:pt x="1456" y="116"/>
                    </a:lnTo>
                    <a:lnTo>
                      <a:pt x="1477" y="126"/>
                    </a:lnTo>
                    <a:lnTo>
                      <a:pt x="1498" y="137"/>
                    </a:lnTo>
                    <a:lnTo>
                      <a:pt x="1519" y="148"/>
                    </a:lnTo>
                    <a:lnTo>
                      <a:pt x="1530" y="158"/>
                    </a:lnTo>
                    <a:lnTo>
                      <a:pt x="1540" y="179"/>
                    </a:lnTo>
                    <a:lnTo>
                      <a:pt x="1551" y="190"/>
                    </a:lnTo>
                    <a:lnTo>
                      <a:pt x="1551" y="200"/>
                    </a:lnTo>
                    <a:lnTo>
                      <a:pt x="1562" y="211"/>
                    </a:lnTo>
                    <a:lnTo>
                      <a:pt x="1562" y="221"/>
                    </a:lnTo>
                    <a:lnTo>
                      <a:pt x="1562" y="232"/>
                    </a:lnTo>
                    <a:lnTo>
                      <a:pt x="1551" y="253"/>
                    </a:lnTo>
                    <a:lnTo>
                      <a:pt x="1551" y="264"/>
                    </a:lnTo>
                    <a:lnTo>
                      <a:pt x="1540" y="274"/>
                    </a:lnTo>
                    <a:lnTo>
                      <a:pt x="1530" y="285"/>
                    </a:lnTo>
                    <a:lnTo>
                      <a:pt x="1519" y="295"/>
                    </a:lnTo>
                    <a:lnTo>
                      <a:pt x="1498" y="306"/>
                    </a:lnTo>
                    <a:lnTo>
                      <a:pt x="1477" y="316"/>
                    </a:lnTo>
                    <a:lnTo>
                      <a:pt x="1456" y="327"/>
                    </a:lnTo>
                    <a:lnTo>
                      <a:pt x="1435" y="348"/>
                    </a:lnTo>
                    <a:lnTo>
                      <a:pt x="1414" y="359"/>
                    </a:lnTo>
                    <a:lnTo>
                      <a:pt x="1393" y="359"/>
                    </a:lnTo>
                    <a:lnTo>
                      <a:pt x="1372" y="369"/>
                    </a:lnTo>
                    <a:lnTo>
                      <a:pt x="1340" y="380"/>
                    </a:lnTo>
                    <a:lnTo>
                      <a:pt x="1308" y="390"/>
                    </a:lnTo>
                    <a:lnTo>
                      <a:pt x="1266" y="401"/>
                    </a:lnTo>
                    <a:lnTo>
                      <a:pt x="1234" y="401"/>
                    </a:lnTo>
                    <a:lnTo>
                      <a:pt x="1203" y="411"/>
                    </a:lnTo>
                    <a:lnTo>
                      <a:pt x="1161" y="422"/>
                    </a:lnTo>
                    <a:lnTo>
                      <a:pt x="1118" y="432"/>
                    </a:lnTo>
                    <a:lnTo>
                      <a:pt x="1076" y="432"/>
                    </a:lnTo>
                    <a:lnTo>
                      <a:pt x="1034" y="443"/>
                    </a:lnTo>
                    <a:lnTo>
                      <a:pt x="992" y="443"/>
                    </a:lnTo>
                    <a:lnTo>
                      <a:pt x="950" y="454"/>
                    </a:lnTo>
                    <a:lnTo>
                      <a:pt x="897" y="454"/>
                    </a:lnTo>
                    <a:lnTo>
                      <a:pt x="855" y="454"/>
                    </a:lnTo>
                    <a:lnTo>
                      <a:pt x="813" y="454"/>
                    </a:lnTo>
                    <a:lnTo>
                      <a:pt x="760" y="464"/>
                    </a:lnTo>
                    <a:lnTo>
                      <a:pt x="718" y="464"/>
                    </a:lnTo>
                    <a:lnTo>
                      <a:pt x="665" y="464"/>
                    </a:lnTo>
                    <a:lnTo>
                      <a:pt x="623" y="464"/>
                    </a:lnTo>
                    <a:lnTo>
                      <a:pt x="570" y="464"/>
                    </a:lnTo>
                    <a:lnTo>
                      <a:pt x="528" y="464"/>
                    </a:lnTo>
                    <a:lnTo>
                      <a:pt x="475" y="454"/>
                    </a:lnTo>
                    <a:lnTo>
                      <a:pt x="443" y="454"/>
                    </a:lnTo>
                    <a:lnTo>
                      <a:pt x="401" y="454"/>
                    </a:lnTo>
                    <a:lnTo>
                      <a:pt x="359" y="454"/>
                    </a:lnTo>
                    <a:lnTo>
                      <a:pt x="317" y="443"/>
                    </a:lnTo>
                    <a:lnTo>
                      <a:pt x="264" y="443"/>
                    </a:lnTo>
                    <a:lnTo>
                      <a:pt x="222" y="432"/>
                    </a:lnTo>
                    <a:lnTo>
                      <a:pt x="180" y="432"/>
                    </a:lnTo>
                    <a:lnTo>
                      <a:pt x="148" y="422"/>
                    </a:lnTo>
                    <a:lnTo>
                      <a:pt x="106" y="411"/>
                    </a:lnTo>
                    <a:lnTo>
                      <a:pt x="63" y="401"/>
                    </a:lnTo>
                    <a:lnTo>
                      <a:pt x="32" y="401"/>
                    </a:lnTo>
                    <a:lnTo>
                      <a:pt x="0" y="390"/>
                    </a:lnTo>
                    <a:lnTo>
                      <a:pt x="654" y="221"/>
                    </a:lnTo>
                    <a:lnTo>
                      <a:pt x="992" y="0"/>
                    </a:lnTo>
                    <a:close/>
                  </a:path>
                </a:pathLst>
              </a:custGeom>
              <a:solidFill>
                <a:srgbClr val="9933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2680" y="5132160"/>
                <a:ext cx="38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71840" y="4528800"/>
                <a:ext cx="2479320" cy="787320"/>
              </a:xfrm>
              <a:custGeom>
                <a:avLst/>
                <a:gdLst/>
                <a:ahLst/>
                <a:rect l="l" t="t" r="r" b="b"/>
                <a:pathLst>
                  <a:path w="1562" h="496">
                    <a:moveTo>
                      <a:pt x="1562" y="0"/>
                    </a:moveTo>
                    <a:lnTo>
                      <a:pt x="1562" y="11"/>
                    </a:lnTo>
                    <a:lnTo>
                      <a:pt x="1551" y="32"/>
                    </a:lnTo>
                    <a:lnTo>
                      <a:pt x="1551" y="43"/>
                    </a:lnTo>
                    <a:lnTo>
                      <a:pt x="1540" y="53"/>
                    </a:lnTo>
                    <a:lnTo>
                      <a:pt x="1530" y="64"/>
                    </a:lnTo>
                    <a:lnTo>
                      <a:pt x="1519" y="74"/>
                    </a:lnTo>
                    <a:lnTo>
                      <a:pt x="1509" y="85"/>
                    </a:lnTo>
                    <a:lnTo>
                      <a:pt x="1488" y="95"/>
                    </a:lnTo>
                    <a:lnTo>
                      <a:pt x="1467" y="106"/>
                    </a:lnTo>
                    <a:lnTo>
                      <a:pt x="1456" y="116"/>
                    </a:lnTo>
                    <a:lnTo>
                      <a:pt x="1424" y="127"/>
                    </a:lnTo>
                    <a:lnTo>
                      <a:pt x="1403" y="138"/>
                    </a:lnTo>
                    <a:lnTo>
                      <a:pt x="1372" y="148"/>
                    </a:lnTo>
                    <a:lnTo>
                      <a:pt x="1351" y="159"/>
                    </a:lnTo>
                    <a:lnTo>
                      <a:pt x="1319" y="169"/>
                    </a:lnTo>
                    <a:lnTo>
                      <a:pt x="1298" y="169"/>
                    </a:lnTo>
                    <a:lnTo>
                      <a:pt x="1256" y="180"/>
                    </a:lnTo>
                    <a:lnTo>
                      <a:pt x="1224" y="190"/>
                    </a:lnTo>
                    <a:lnTo>
                      <a:pt x="1182" y="190"/>
                    </a:lnTo>
                    <a:lnTo>
                      <a:pt x="1150" y="201"/>
                    </a:lnTo>
                    <a:lnTo>
                      <a:pt x="1108" y="211"/>
                    </a:lnTo>
                    <a:lnTo>
                      <a:pt x="1076" y="211"/>
                    </a:lnTo>
                    <a:lnTo>
                      <a:pt x="1034" y="222"/>
                    </a:lnTo>
                    <a:lnTo>
                      <a:pt x="992" y="222"/>
                    </a:lnTo>
                    <a:lnTo>
                      <a:pt x="950" y="233"/>
                    </a:lnTo>
                    <a:lnTo>
                      <a:pt x="897" y="233"/>
                    </a:lnTo>
                    <a:lnTo>
                      <a:pt x="855" y="233"/>
                    </a:lnTo>
                    <a:lnTo>
                      <a:pt x="823" y="233"/>
                    </a:lnTo>
                    <a:lnTo>
                      <a:pt x="781" y="243"/>
                    </a:lnTo>
                    <a:lnTo>
                      <a:pt x="728" y="243"/>
                    </a:lnTo>
                    <a:lnTo>
                      <a:pt x="686" y="243"/>
                    </a:lnTo>
                    <a:lnTo>
                      <a:pt x="633" y="243"/>
                    </a:lnTo>
                    <a:lnTo>
                      <a:pt x="591" y="243"/>
                    </a:lnTo>
                    <a:lnTo>
                      <a:pt x="559" y="243"/>
                    </a:lnTo>
                    <a:lnTo>
                      <a:pt x="507" y="233"/>
                    </a:lnTo>
                    <a:lnTo>
                      <a:pt x="464" y="233"/>
                    </a:lnTo>
                    <a:lnTo>
                      <a:pt x="412" y="233"/>
                    </a:lnTo>
                    <a:lnTo>
                      <a:pt x="369" y="233"/>
                    </a:lnTo>
                    <a:lnTo>
                      <a:pt x="327" y="222"/>
                    </a:lnTo>
                    <a:lnTo>
                      <a:pt x="296" y="222"/>
                    </a:lnTo>
                    <a:lnTo>
                      <a:pt x="253" y="211"/>
                    </a:lnTo>
                    <a:lnTo>
                      <a:pt x="211" y="211"/>
                    </a:lnTo>
                    <a:lnTo>
                      <a:pt x="169" y="201"/>
                    </a:lnTo>
                    <a:lnTo>
                      <a:pt x="127" y="201"/>
                    </a:lnTo>
                    <a:lnTo>
                      <a:pt x="95" y="190"/>
                    </a:lnTo>
                    <a:lnTo>
                      <a:pt x="63" y="180"/>
                    </a:lnTo>
                    <a:lnTo>
                      <a:pt x="32" y="180"/>
                    </a:lnTo>
                    <a:lnTo>
                      <a:pt x="0" y="169"/>
                    </a:lnTo>
                    <a:lnTo>
                      <a:pt x="0" y="422"/>
                    </a:lnTo>
                    <a:lnTo>
                      <a:pt x="32" y="433"/>
                    </a:lnTo>
                    <a:lnTo>
                      <a:pt x="63" y="433"/>
                    </a:lnTo>
                    <a:lnTo>
                      <a:pt x="95" y="444"/>
                    </a:lnTo>
                    <a:lnTo>
                      <a:pt x="127" y="454"/>
                    </a:lnTo>
                    <a:lnTo>
                      <a:pt x="169" y="454"/>
                    </a:lnTo>
                    <a:lnTo>
                      <a:pt x="211" y="465"/>
                    </a:lnTo>
                    <a:lnTo>
                      <a:pt x="253" y="465"/>
                    </a:lnTo>
                    <a:lnTo>
                      <a:pt x="296" y="475"/>
                    </a:lnTo>
                    <a:lnTo>
                      <a:pt x="327" y="475"/>
                    </a:lnTo>
                    <a:lnTo>
                      <a:pt x="369" y="486"/>
                    </a:lnTo>
                    <a:lnTo>
                      <a:pt x="412" y="486"/>
                    </a:lnTo>
                    <a:lnTo>
                      <a:pt x="464" y="486"/>
                    </a:lnTo>
                    <a:lnTo>
                      <a:pt x="507" y="486"/>
                    </a:lnTo>
                    <a:lnTo>
                      <a:pt x="559" y="496"/>
                    </a:lnTo>
                    <a:lnTo>
                      <a:pt x="591" y="496"/>
                    </a:lnTo>
                    <a:lnTo>
                      <a:pt x="633" y="496"/>
                    </a:lnTo>
                    <a:lnTo>
                      <a:pt x="686" y="496"/>
                    </a:lnTo>
                    <a:lnTo>
                      <a:pt x="728" y="496"/>
                    </a:lnTo>
                    <a:lnTo>
                      <a:pt x="781" y="496"/>
                    </a:lnTo>
                    <a:lnTo>
                      <a:pt x="823" y="486"/>
                    </a:lnTo>
                    <a:lnTo>
                      <a:pt x="855" y="486"/>
                    </a:lnTo>
                    <a:lnTo>
                      <a:pt x="897" y="486"/>
                    </a:lnTo>
                    <a:lnTo>
                      <a:pt x="950" y="486"/>
                    </a:lnTo>
                    <a:lnTo>
                      <a:pt x="992" y="475"/>
                    </a:lnTo>
                    <a:lnTo>
                      <a:pt x="1034" y="475"/>
                    </a:lnTo>
                    <a:lnTo>
                      <a:pt x="1076" y="465"/>
                    </a:lnTo>
                    <a:lnTo>
                      <a:pt x="1108" y="465"/>
                    </a:lnTo>
                    <a:lnTo>
                      <a:pt x="1150" y="454"/>
                    </a:lnTo>
                    <a:lnTo>
                      <a:pt x="1182" y="444"/>
                    </a:lnTo>
                    <a:lnTo>
                      <a:pt x="1224" y="444"/>
                    </a:lnTo>
                    <a:lnTo>
                      <a:pt x="1256" y="433"/>
                    </a:lnTo>
                    <a:lnTo>
                      <a:pt x="1298" y="422"/>
                    </a:lnTo>
                    <a:lnTo>
                      <a:pt x="1319" y="422"/>
                    </a:lnTo>
                    <a:lnTo>
                      <a:pt x="1351" y="412"/>
                    </a:lnTo>
                    <a:lnTo>
                      <a:pt x="1372" y="401"/>
                    </a:lnTo>
                    <a:lnTo>
                      <a:pt x="1403" y="391"/>
                    </a:lnTo>
                    <a:lnTo>
                      <a:pt x="1424" y="380"/>
                    </a:lnTo>
                    <a:lnTo>
                      <a:pt x="1456" y="370"/>
                    </a:lnTo>
                    <a:lnTo>
                      <a:pt x="1467" y="359"/>
                    </a:lnTo>
                    <a:lnTo>
                      <a:pt x="1488" y="349"/>
                    </a:lnTo>
                    <a:lnTo>
                      <a:pt x="1509" y="338"/>
                    </a:lnTo>
                    <a:lnTo>
                      <a:pt x="1519" y="327"/>
                    </a:lnTo>
                    <a:lnTo>
                      <a:pt x="1530" y="317"/>
                    </a:lnTo>
                    <a:lnTo>
                      <a:pt x="1540" y="306"/>
                    </a:lnTo>
                    <a:lnTo>
                      <a:pt x="1551" y="296"/>
                    </a:lnTo>
                    <a:lnTo>
                      <a:pt x="1551" y="285"/>
                    </a:lnTo>
                    <a:lnTo>
                      <a:pt x="1562" y="264"/>
                    </a:lnTo>
                    <a:lnTo>
                      <a:pt x="1562" y="254"/>
                    </a:lnTo>
                    <a:lnTo>
                      <a:pt x="1562" y="0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sību aktu skaidrojumu un rokasgrāmatu nepieciešamība industriālo iekārtu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klas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nepieciešamība un apj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Būtisko drošības prasību interpre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montu un rekonstrukcij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8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u viedoklis par tirgus uzraud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as insti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u 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 un ietekme uz u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m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, k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ar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rekomend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as esoš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s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vokļa uzlabošana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rasības lietotajām iekārt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ģistrācijas sind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ietējo atbilstības novērtēšanas nepiecieš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ēkā stāšanās da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6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88840" y="2476440"/>
            <a:ext cx="5689800" cy="2851920"/>
            <a:chOff x="1788840" y="2476440"/>
            <a:chExt cx="5689800" cy="2851920"/>
          </a:xfrm>
        </p:grpSpPr>
        <p:sp>
          <p:nvSpPr>
            <p:cNvPr id="85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0" y="120"/>
                  </a:moveTo>
                  <a:lnTo>
                    <a:pt x="159" y="0"/>
                  </a:lnTo>
                  <a:lnTo>
                    <a:pt x="3325" y="0"/>
                  </a:lnTo>
                  <a:lnTo>
                    <a:pt x="316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4246560"/>
              <a:ext cx="5278320" cy="173160"/>
            </a:xfrm>
            <a:custGeom>
              <a:avLst/>
              <a:gdLst/>
              <a:ahLst/>
              <a:rect l="l" t="t" r="r" b="b"/>
              <a:pathLst>
                <a:path w="334" h="11">
                  <a:moveTo>
                    <a:pt x="0" y="11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0320" y="364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3060720"/>
              <a:ext cx="5278320" cy="19044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247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3325" y="0"/>
                  </a:moveTo>
                  <a:lnTo>
                    <a:pt x="3166" y="120"/>
                  </a:lnTo>
                  <a:lnTo>
                    <a:pt x="0" y="120"/>
                  </a:lnTo>
                  <a:lnTo>
                    <a:pt x="159" y="0"/>
                  </a:lnTo>
                  <a:lnTo>
                    <a:pt x="332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84600" y="3440160"/>
              <a:ext cx="95040" cy="1217520"/>
            </a:xfrm>
            <a:custGeom>
              <a:avLst/>
              <a:gdLst/>
              <a:ahLst/>
              <a:rect l="l" t="t" r="r" b="b"/>
              <a:pathLst>
                <a:path w="60" h="767">
                  <a:moveTo>
                    <a:pt x="0" y="767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72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0200" y="3519360"/>
              <a:ext cx="284400" cy="11383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0200" y="34401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2744640"/>
              <a:ext cx="95400" cy="1913040"/>
            </a:xfrm>
            <a:custGeom>
              <a:avLst/>
              <a:gdLst/>
              <a:ahLst/>
              <a:rect l="l" t="t" r="r" b="b"/>
              <a:pathLst>
                <a:path w="60" h="1205">
                  <a:moveTo>
                    <a:pt x="0" y="1205"/>
                  </a:moveTo>
                  <a:lnTo>
                    <a:pt x="0" y="40"/>
                  </a:lnTo>
                  <a:lnTo>
                    <a:pt x="60" y="0"/>
                  </a:lnTo>
                  <a:lnTo>
                    <a:pt x="60" y="116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600" y="2808360"/>
              <a:ext cx="284040" cy="18493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4600" y="2744640"/>
              <a:ext cx="379440" cy="6372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179" y="4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3480" y="3224160"/>
              <a:ext cx="45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9280" y="2617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4246560"/>
              <a:ext cx="110880" cy="411120"/>
            </a:xfrm>
            <a:custGeom>
              <a:avLst/>
              <a:gdLst/>
              <a:ahLst/>
              <a:rect l="l" t="t" r="r" b="b"/>
              <a:pathLst>
                <a:path w="70" h="259">
                  <a:moveTo>
                    <a:pt x="0" y="259"/>
                  </a:moveTo>
                  <a:lnTo>
                    <a:pt x="0" y="50"/>
                  </a:lnTo>
                  <a:lnTo>
                    <a:pt x="70" y="0"/>
                  </a:lnTo>
                  <a:lnTo>
                    <a:pt x="70" y="21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5600" y="4325760"/>
              <a:ext cx="284400" cy="331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5600" y="4246560"/>
              <a:ext cx="395280" cy="79200"/>
            </a:xfrm>
            <a:custGeom>
              <a:avLst/>
              <a:gdLst/>
              <a:ahLst/>
              <a:rect l="l" t="t" r="r" b="b"/>
              <a:pathLst>
                <a:path w="249" h="50">
                  <a:moveTo>
                    <a:pt x="179" y="50"/>
                  </a:moveTo>
                  <a:lnTo>
                    <a:pt x="24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1320" y="3646440"/>
              <a:ext cx="93960" cy="1011240"/>
            </a:xfrm>
            <a:custGeom>
              <a:avLst/>
              <a:gdLst/>
              <a:ahLst/>
              <a:rect l="l" t="t" r="r" b="b"/>
              <a:pathLst>
                <a:path w="59" h="637">
                  <a:moveTo>
                    <a:pt x="0" y="637"/>
                  </a:moveTo>
                  <a:lnTo>
                    <a:pt x="0" y="49"/>
                  </a:lnTo>
                  <a:lnTo>
                    <a:pt x="59" y="0"/>
                  </a:lnTo>
                  <a:lnTo>
                    <a:pt x="59" y="59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3724200"/>
              <a:ext cx="301320" cy="9334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80000" y="364644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90" y="49"/>
                  </a:moveTo>
                  <a:lnTo>
                    <a:pt x="249" y="0"/>
                  </a:lnTo>
                  <a:lnTo>
                    <a:pt x="70" y="0"/>
                  </a:lnTo>
                  <a:lnTo>
                    <a:pt x="0" y="49"/>
                  </a:lnTo>
                  <a:lnTo>
                    <a:pt x="190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5240" y="3984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6520" y="3368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2680" y="4262400"/>
              <a:ext cx="93600" cy="395280"/>
            </a:xfrm>
            <a:custGeom>
              <a:avLst/>
              <a:gdLst/>
              <a:ahLst/>
              <a:rect l="l" t="t" r="r" b="b"/>
              <a:pathLst>
                <a:path w="59" h="249">
                  <a:moveTo>
                    <a:pt x="0" y="249"/>
                  </a:moveTo>
                  <a:lnTo>
                    <a:pt x="0" y="50"/>
                  </a:lnTo>
                  <a:lnTo>
                    <a:pt x="59" y="0"/>
                  </a:lnTo>
                  <a:lnTo>
                    <a:pt x="59" y="20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6840" y="4341960"/>
              <a:ext cx="285840" cy="3157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6840" y="4262400"/>
              <a:ext cx="379440" cy="7956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80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80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3676680"/>
              <a:ext cx="93600" cy="981000"/>
            </a:xfrm>
            <a:custGeom>
              <a:avLst/>
              <a:gdLst/>
              <a:ahLst/>
              <a:rect l="l" t="t" r="r" b="b"/>
              <a:pathLst>
                <a:path w="59" h="618">
                  <a:moveTo>
                    <a:pt x="0" y="618"/>
                  </a:moveTo>
                  <a:lnTo>
                    <a:pt x="0" y="40"/>
                  </a:lnTo>
                  <a:lnTo>
                    <a:pt x="59" y="0"/>
                  </a:lnTo>
                  <a:lnTo>
                    <a:pt x="59" y="57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2680" y="3740040"/>
              <a:ext cx="284040" cy="91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2680" y="3676680"/>
              <a:ext cx="377640" cy="63360"/>
            </a:xfrm>
            <a:custGeom>
              <a:avLst/>
              <a:gdLst/>
              <a:ahLst/>
              <a:rect l="l" t="t" r="r" b="b"/>
              <a:pathLst>
                <a:path w="238" h="40">
                  <a:moveTo>
                    <a:pt x="179" y="40"/>
                  </a:moveTo>
                  <a:lnTo>
                    <a:pt x="23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04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6320" y="334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8080" y="4230720"/>
              <a:ext cx="109440" cy="426960"/>
            </a:xfrm>
            <a:custGeom>
              <a:avLst/>
              <a:gdLst/>
              <a:ahLst/>
              <a:rect l="l" t="t" r="r" b="b"/>
              <a:pathLst>
                <a:path w="69" h="269">
                  <a:moveTo>
                    <a:pt x="0" y="269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69" y="22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4040" y="4294080"/>
              <a:ext cx="284040" cy="36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4040" y="4230720"/>
              <a:ext cx="393480" cy="6336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179" y="40"/>
                  </a:moveTo>
                  <a:lnTo>
                    <a:pt x="24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960" y="3219480"/>
              <a:ext cx="95400" cy="1438200"/>
            </a:xfrm>
            <a:custGeom>
              <a:avLst/>
              <a:gdLst/>
              <a:ahLst/>
              <a:rect l="l" t="t" r="r" b="b"/>
              <a:pathLst>
                <a:path w="60" h="906">
                  <a:moveTo>
                    <a:pt x="0" y="906"/>
                  </a:moveTo>
                  <a:lnTo>
                    <a:pt x="0" y="49"/>
                  </a:lnTo>
                  <a:lnTo>
                    <a:pt x="60" y="0"/>
                  </a:lnTo>
                  <a:lnTo>
                    <a:pt x="60" y="86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8080" y="3297240"/>
              <a:ext cx="299880" cy="13604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8080" y="321948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89" y="49"/>
                  </a:moveTo>
                  <a:lnTo>
                    <a:pt x="249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476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320" y="4451400"/>
              <a:ext cx="95040" cy="2062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9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4530600"/>
              <a:ext cx="284040" cy="1270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5280" y="4451400"/>
              <a:ext cx="37908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59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4167360"/>
              <a:ext cx="95400" cy="490320"/>
            </a:xfrm>
            <a:custGeom>
              <a:avLst/>
              <a:gdLst/>
              <a:ahLst/>
              <a:rect l="l" t="t" r="r" b="b"/>
              <a:pathLst>
                <a:path w="60" h="309">
                  <a:moveTo>
                    <a:pt x="0" y="309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26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9320" y="4246560"/>
              <a:ext cx="284040" cy="4111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9320" y="41673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4189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40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0320" y="2665080"/>
              <a:ext cx="1440" cy="205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52800" y="4721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52800" y="44197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52800" y="383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52800" y="3251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152800" y="266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9720" y="42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8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884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8840" y="254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4721400"/>
              <a:ext cx="502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032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15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820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944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628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4720" y="481500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880" y="508464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s ra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1360" y="48150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Vid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320" y="48150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815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Kur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7480" y="481500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at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84160" y="155412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ējdarbība pēc reģ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0320" y="5637240"/>
            <a:ext cx="2013120" cy="243720"/>
            <a:chOff x="2200320" y="5637240"/>
            <a:chExt cx="2013120" cy="243720"/>
          </a:xfrm>
        </p:grpSpPr>
        <p:sp>
          <p:nvSpPr>
            <p:cNvPr id="161" name=""/>
            <p:cNvSpPr/>
            <p:nvPr/>
          </p:nvSpPr>
          <p:spPr>
            <a:xfrm>
              <a:off x="2200320" y="5716440"/>
              <a:ext cx="111240" cy="1112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563724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eģistrācijas adr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99160" y="5637240"/>
            <a:ext cx="2689200" cy="243720"/>
            <a:chOff x="4799160" y="5637240"/>
            <a:chExt cx="2689200" cy="243720"/>
          </a:xfrm>
        </p:grpSpPr>
        <p:sp>
          <p:nvSpPr>
            <p:cNvPr id="164" name=""/>
            <p:cNvSpPr/>
            <p:nvPr/>
          </p:nvSpPr>
          <p:spPr>
            <a:xfrm>
              <a:off x="4799160" y="5716440"/>
              <a:ext cx="110880" cy="111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3040" y="5637240"/>
              <a:ext cx="251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Uzņēmuma darbība reģion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36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70480" y="175248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ā nodarbināto sk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18760" y="2657520"/>
            <a:ext cx="7038000" cy="3094920"/>
            <a:chOff x="1418760" y="2657520"/>
            <a:chExt cx="7038000" cy="3094920"/>
          </a:xfrm>
        </p:grpSpPr>
        <p:sp>
          <p:nvSpPr>
            <p:cNvPr id="170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0" y="252"/>
                  </a:moveTo>
                  <a:lnTo>
                    <a:pt x="338" y="0"/>
                  </a:lnTo>
                  <a:lnTo>
                    <a:pt x="2878" y="0"/>
                  </a:lnTo>
                  <a:lnTo>
                    <a:pt x="254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2878" y="0"/>
                  </a:moveTo>
                  <a:lnTo>
                    <a:pt x="2540" y="252"/>
                  </a:lnTo>
                  <a:lnTo>
                    <a:pt x="0" y="252"/>
                  </a:lnTo>
                  <a:lnTo>
                    <a:pt x="338" y="0"/>
                  </a:lnTo>
                  <a:lnTo>
                    <a:pt x="287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9280" y="5079960"/>
              <a:ext cx="215640" cy="444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0" y="280"/>
                  </a:moveTo>
                  <a:lnTo>
                    <a:pt x="0" y="106"/>
                  </a:lnTo>
                  <a:lnTo>
                    <a:pt x="136" y="0"/>
                  </a:lnTo>
                  <a:lnTo>
                    <a:pt x="136" y="17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5248440"/>
              <a:ext cx="613080" cy="2761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5079960"/>
              <a:ext cx="828720" cy="168480"/>
            </a:xfrm>
            <a:custGeom>
              <a:avLst/>
              <a:gdLst/>
              <a:ahLst/>
              <a:rect l="l" t="t" r="r" b="b"/>
              <a:pathLst>
                <a:path w="522" h="106">
                  <a:moveTo>
                    <a:pt x="386" y="106"/>
                  </a:moveTo>
                  <a:lnTo>
                    <a:pt x="522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86" y="10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840" y="3270240"/>
              <a:ext cx="216000" cy="2254320"/>
            </a:xfrm>
            <a:custGeom>
              <a:avLst/>
              <a:gdLst/>
              <a:ahLst/>
              <a:rect l="l" t="t" r="r" b="b"/>
              <a:pathLst>
                <a:path w="136" h="1420">
                  <a:moveTo>
                    <a:pt x="0" y="1420"/>
                  </a:moveTo>
                  <a:lnTo>
                    <a:pt x="0" y="97"/>
                  </a:lnTo>
                  <a:lnTo>
                    <a:pt x="136" y="0"/>
                  </a:lnTo>
                  <a:lnTo>
                    <a:pt x="136" y="131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9280" y="3424320"/>
              <a:ext cx="628560" cy="2100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3270240"/>
              <a:ext cx="844560" cy="154080"/>
            </a:xfrm>
            <a:custGeom>
              <a:avLst/>
              <a:gdLst/>
              <a:ahLst/>
              <a:rect l="l" t="t" r="r" b="b"/>
              <a:pathLst>
                <a:path w="532" h="97">
                  <a:moveTo>
                    <a:pt x="396" y="97"/>
                  </a:moveTo>
                  <a:lnTo>
                    <a:pt x="532" y="0"/>
                  </a:lnTo>
                  <a:lnTo>
                    <a:pt x="136" y="0"/>
                  </a:lnTo>
                  <a:lnTo>
                    <a:pt x="0" y="97"/>
                  </a:lnTo>
                  <a:lnTo>
                    <a:pt x="396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2000" y="3071880"/>
              <a:ext cx="214560" cy="2452680"/>
            </a:xfrm>
            <a:custGeom>
              <a:avLst/>
              <a:gdLst/>
              <a:ahLst/>
              <a:rect l="l" t="t" r="r" b="b"/>
              <a:pathLst>
                <a:path w="135" h="1545">
                  <a:moveTo>
                    <a:pt x="0" y="1545"/>
                  </a:moveTo>
                  <a:lnTo>
                    <a:pt x="0" y="96"/>
                  </a:lnTo>
                  <a:lnTo>
                    <a:pt x="135" y="0"/>
                  </a:lnTo>
                  <a:lnTo>
                    <a:pt x="135" y="1439"/>
                  </a:lnTo>
                  <a:lnTo>
                    <a:pt x="0" y="154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7840" y="3224160"/>
              <a:ext cx="614160" cy="2300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7840" y="3071880"/>
              <a:ext cx="828720" cy="152280"/>
            </a:xfrm>
            <a:custGeom>
              <a:avLst/>
              <a:gdLst/>
              <a:ahLst/>
              <a:rect l="l" t="t" r="r" b="b"/>
              <a:pathLst>
                <a:path w="522" h="96">
                  <a:moveTo>
                    <a:pt x="387" y="96"/>
                  </a:moveTo>
                  <a:lnTo>
                    <a:pt x="522" y="0"/>
                  </a:lnTo>
                  <a:lnTo>
                    <a:pt x="136" y="0"/>
                  </a:lnTo>
                  <a:lnTo>
                    <a:pt x="0" y="96"/>
                  </a:lnTo>
                  <a:lnTo>
                    <a:pt x="387" y="9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0920" y="4941720"/>
              <a:ext cx="214200" cy="582840"/>
            </a:xfrm>
            <a:custGeom>
              <a:avLst/>
              <a:gdLst/>
              <a:ahLst/>
              <a:rect l="l" t="t" r="r" b="b"/>
              <a:pathLst>
                <a:path w="135" h="367">
                  <a:moveTo>
                    <a:pt x="0" y="367"/>
                  </a:moveTo>
                  <a:lnTo>
                    <a:pt x="0" y="106"/>
                  </a:lnTo>
                  <a:lnTo>
                    <a:pt x="135" y="0"/>
                  </a:lnTo>
                  <a:lnTo>
                    <a:pt x="135" y="261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2000" y="5110200"/>
              <a:ext cx="628920" cy="414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02000" y="4941720"/>
              <a:ext cx="843120" cy="168480"/>
            </a:xfrm>
            <a:custGeom>
              <a:avLst/>
              <a:gdLst/>
              <a:ahLst/>
              <a:rect l="l" t="t" r="r" b="b"/>
              <a:pathLst>
                <a:path w="531" h="106">
                  <a:moveTo>
                    <a:pt x="396" y="106"/>
                  </a:moveTo>
                  <a:lnTo>
                    <a:pt x="531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96" y="10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43640" y="532440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0" y="97"/>
                  </a:lnTo>
                  <a:lnTo>
                    <a:pt x="135" y="0"/>
                  </a:lnTo>
                  <a:lnTo>
                    <a:pt x="135" y="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5478480"/>
              <a:ext cx="612720" cy="460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0920" y="5324400"/>
              <a:ext cx="826920" cy="154080"/>
            </a:xfrm>
            <a:custGeom>
              <a:avLst/>
              <a:gdLst/>
              <a:ahLst/>
              <a:rect l="l" t="t" r="r" b="b"/>
              <a:pathLst>
                <a:path w="521" h="97">
                  <a:moveTo>
                    <a:pt x="386" y="97"/>
                  </a:moveTo>
                  <a:lnTo>
                    <a:pt x="521" y="0"/>
                  </a:lnTo>
                  <a:lnTo>
                    <a:pt x="135" y="0"/>
                  </a:lnTo>
                  <a:lnTo>
                    <a:pt x="0" y="97"/>
                  </a:lnTo>
                  <a:lnTo>
                    <a:pt x="386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548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0720" y="2979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7800" y="2735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040" y="4621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0600" y="49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17640" y="3055680"/>
              <a:ext cx="1800" cy="257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71560" y="563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71560" y="49878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71560" y="4343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71560" y="3700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71560" y="30560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33320" y="550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5320" y="486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8760" y="4221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8760" y="3576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18760" y="2933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6720" y="3470400"/>
              <a:ext cx="1670040" cy="1531080"/>
              <a:chOff x="6786720" y="3470400"/>
              <a:chExt cx="1670040" cy="15310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6720" y="3546360"/>
                <a:ext cx="106200" cy="108000"/>
              </a:xfrm>
              <a:prstGeom prst="rect">
                <a:avLst/>
              </a:prstGeom>
              <a:solidFill>
                <a:srgbClr val="99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54840" y="3470400"/>
                <a:ext cx="93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1 līdz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3868560"/>
                <a:ext cx="106200" cy="106560"/>
              </a:xfrm>
              <a:prstGeom prst="rect">
                <a:avLst/>
              </a:prstGeom>
              <a:solidFill>
                <a:srgbClr val="9933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54840" y="3792600"/>
                <a:ext cx="105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6 līdz 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4191120"/>
                <a:ext cx="106200" cy="10620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5200" y="4113360"/>
                <a:ext cx="133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51 līdz 20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6720" y="4513320"/>
                <a:ext cx="106200" cy="1062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54840" y="443556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201 līdz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6720" y="4834080"/>
                <a:ext cx="106200" cy="107640"/>
              </a:xfrm>
              <a:prstGeom prst="rect">
                <a:avLst/>
              </a:prstGeom>
              <a:solidFill>
                <a:srgbClr val="66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4480" y="4757760"/>
                <a:ext cx="82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virs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859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440" y="1967040"/>
            <a:ext cx="337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a darbības ilg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60360" y="2673360"/>
            <a:ext cx="7674840" cy="3452040"/>
            <a:chOff x="1260360" y="2673360"/>
            <a:chExt cx="7674840" cy="3452040"/>
          </a:xfrm>
        </p:grpSpPr>
        <p:grpSp>
          <p:nvGrpSpPr>
            <p:cNvPr id="223" name=""/>
            <p:cNvGrpSpPr/>
            <p:nvPr/>
          </p:nvGrpSpPr>
          <p:grpSpPr>
            <a:xfrm>
              <a:off x="1260360" y="2673360"/>
              <a:ext cx="5781960" cy="3452040"/>
              <a:chOff x="1260360" y="2673360"/>
              <a:chExt cx="5781960" cy="3452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0" y="402"/>
                    </a:moveTo>
                    <a:lnTo>
                      <a:pt x="540" y="0"/>
                    </a:lnTo>
                    <a:lnTo>
                      <a:pt x="3367" y="0"/>
                    </a:lnTo>
                    <a:lnTo>
                      <a:pt x="282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3367" y="0"/>
                    </a:moveTo>
                    <a:lnTo>
                      <a:pt x="2827" y="402"/>
                    </a:lnTo>
                    <a:lnTo>
                      <a:pt x="0" y="402"/>
                    </a:lnTo>
                    <a:lnTo>
                      <a:pt x="540" y="0"/>
                    </a:lnTo>
                    <a:lnTo>
                      <a:pt x="3367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noFill/>
              <a:ln w="176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noFill/>
              <a:ln w="176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7200" y="551340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222" h="190">
                    <a:moveTo>
                      <a:pt x="0" y="190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5040" y="5765760"/>
                <a:ext cx="992160" cy="4932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5040" y="551340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1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73bf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5210280"/>
                <a:ext cx="352440" cy="604800"/>
              </a:xfrm>
              <a:custGeom>
                <a:avLst/>
                <a:gdLst/>
                <a:ahLst/>
                <a:rect l="l" t="t" r="r" b="b"/>
                <a:pathLst>
                  <a:path w="222" h="381">
                    <a:moveTo>
                      <a:pt x="0" y="381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2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7200" y="5462640"/>
                <a:ext cx="992160" cy="35244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7200" y="521028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264d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7360" y="2890800"/>
                <a:ext cx="336600" cy="2924280"/>
              </a:xfrm>
              <a:custGeom>
                <a:avLst/>
                <a:gdLst/>
                <a:ahLst/>
                <a:rect l="l" t="t" r="r" b="b"/>
                <a:pathLst>
                  <a:path w="212" h="1842">
                    <a:moveTo>
                      <a:pt x="0" y="1842"/>
                    </a:moveTo>
                    <a:lnTo>
                      <a:pt x="0" y="170"/>
                    </a:lnTo>
                    <a:lnTo>
                      <a:pt x="212" y="0"/>
                    </a:lnTo>
                    <a:lnTo>
                      <a:pt x="212" y="1673"/>
                    </a:lnTo>
                    <a:lnTo>
                      <a:pt x="0" y="1842"/>
                    </a:lnTo>
                    <a:close/>
                  </a:path>
                </a:pathLst>
              </a:custGeom>
              <a:solidFill>
                <a:srgbClr val="8080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9360" y="3160800"/>
                <a:ext cx="1008000" cy="265428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9360" y="2890800"/>
                <a:ext cx="1344600" cy="270000"/>
              </a:xfrm>
              <a:custGeom>
                <a:avLst/>
                <a:gdLst/>
                <a:ahLst/>
                <a:rect l="l" t="t" r="r" b="b"/>
                <a:pathLst>
                  <a:path w="847" h="170">
                    <a:moveTo>
                      <a:pt x="635" y="170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70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bfbf99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1160" y="55069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2440" y="54849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13360" y="33051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4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697040" y="3311640"/>
                <a:ext cx="1440" cy="268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645920" y="60008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645920" y="5227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45920" y="4470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45920" y="369720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95440" y="5865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60360" y="50925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0360" y="433692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60360" y="3564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462800" y="3949560"/>
              <a:ext cx="1472400" cy="966240"/>
              <a:chOff x="7462800" y="3949560"/>
              <a:chExt cx="1472400" cy="966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62800" y="4033800"/>
                <a:ext cx="117360" cy="11736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49280" y="3949560"/>
                <a:ext cx="1238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līdz 1 gada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2800" y="4386240"/>
                <a:ext cx="117360" cy="11916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0000" y="4303800"/>
                <a:ext cx="96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 - 3 gadi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4740120"/>
                <a:ext cx="117360" cy="11772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48200" y="465624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virs 3 gadie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. Kuras no mi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p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reali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, kuras tiek pie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v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s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63840" y="2836800"/>
            <a:ext cx="6331680" cy="3187800"/>
            <a:chOff x="1563840" y="2836800"/>
            <a:chExt cx="6331680" cy="3187800"/>
          </a:xfrm>
        </p:grpSpPr>
        <p:sp>
          <p:nvSpPr>
            <p:cNvPr id="263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0" y="198"/>
                  </a:moveTo>
                  <a:lnTo>
                    <a:pt x="260" y="0"/>
                  </a:lnTo>
                  <a:lnTo>
                    <a:pt x="2259" y="0"/>
                  </a:lnTo>
                  <a:lnTo>
                    <a:pt x="1999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2545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000" y="49132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35000" y="45576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35000" y="421632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000" y="387504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35000" y="35193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5000" y="31780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35000" y="28368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2259" y="0"/>
                  </a:moveTo>
                  <a:lnTo>
                    <a:pt x="1999" y="198"/>
                  </a:lnTo>
                  <a:lnTo>
                    <a:pt x="0" y="198"/>
                  </a:lnTo>
                  <a:lnTo>
                    <a:pt x="260" y="0"/>
                  </a:lnTo>
                  <a:lnTo>
                    <a:pt x="225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3092400"/>
              <a:ext cx="155520" cy="2732040"/>
            </a:xfrm>
            <a:custGeom>
              <a:avLst/>
              <a:gdLst/>
              <a:ahLst/>
              <a:rect l="l" t="t" r="r" b="b"/>
              <a:pathLst>
                <a:path w="98" h="1721">
                  <a:moveTo>
                    <a:pt x="0" y="1721"/>
                  </a:moveTo>
                  <a:lnTo>
                    <a:pt x="0" y="81"/>
                  </a:lnTo>
                  <a:lnTo>
                    <a:pt x="98" y="0"/>
                  </a:lnTo>
                  <a:lnTo>
                    <a:pt x="98" y="1640"/>
                  </a:lnTo>
                  <a:lnTo>
                    <a:pt x="0" y="1721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220920"/>
              <a:ext cx="498600" cy="260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9200" y="309240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14" y="81"/>
                  </a:moveTo>
                  <a:lnTo>
                    <a:pt x="412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2000" y="535464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0" y="296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215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800" y="5483160"/>
              <a:ext cx="484200" cy="341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7800" y="535464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8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4760" y="5013360"/>
              <a:ext cx="171360" cy="811080"/>
            </a:xfrm>
            <a:custGeom>
              <a:avLst/>
              <a:gdLst/>
              <a:ahLst/>
              <a:rect l="l" t="t" r="r" b="b"/>
              <a:pathLst>
                <a:path w="108" h="511">
                  <a:moveTo>
                    <a:pt x="0" y="511"/>
                  </a:moveTo>
                  <a:lnTo>
                    <a:pt x="0" y="81"/>
                  </a:lnTo>
                  <a:lnTo>
                    <a:pt x="108" y="0"/>
                  </a:lnTo>
                  <a:lnTo>
                    <a:pt x="108" y="430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2000" y="5141880"/>
              <a:ext cx="482760" cy="682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2000" y="501336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4" y="81"/>
                  </a:moveTo>
                  <a:lnTo>
                    <a:pt x="412" y="0"/>
                  </a:lnTo>
                  <a:lnTo>
                    <a:pt x="107" y="0"/>
                  </a:lnTo>
                  <a:lnTo>
                    <a:pt x="0" y="81"/>
                  </a:lnTo>
                  <a:lnTo>
                    <a:pt x="304" y="8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3000" y="5254560"/>
              <a:ext cx="157320" cy="569880"/>
            </a:xfrm>
            <a:custGeom>
              <a:avLst/>
              <a:gdLst/>
              <a:ahLst/>
              <a:rect l="l" t="t" r="r" b="b"/>
              <a:pathLst>
                <a:path w="99" h="359">
                  <a:moveTo>
                    <a:pt x="0" y="359"/>
                  </a:moveTo>
                  <a:lnTo>
                    <a:pt x="0" y="81"/>
                  </a:lnTo>
                  <a:lnTo>
                    <a:pt x="99" y="0"/>
                  </a:lnTo>
                  <a:lnTo>
                    <a:pt x="99" y="27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5383080"/>
              <a:ext cx="498240" cy="441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254560"/>
              <a:ext cx="655560" cy="128520"/>
            </a:xfrm>
            <a:custGeom>
              <a:avLst/>
              <a:gdLst/>
              <a:ahLst/>
              <a:rect l="l" t="t" r="r" b="b"/>
              <a:pathLst>
                <a:path w="413" h="81">
                  <a:moveTo>
                    <a:pt x="314" y="81"/>
                  </a:moveTo>
                  <a:lnTo>
                    <a:pt x="413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7200" y="566748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1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3000" y="5796000"/>
              <a:ext cx="484200" cy="284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3000" y="566748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9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9200" y="3263760"/>
              <a:ext cx="49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2240" y="55548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1520" y="5283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55040" y="5438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4480" y="5369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935000" y="3149640"/>
              <a:ext cx="180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91800" y="5910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91800" y="5567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91800" y="52261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91800" y="4870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91800" y="4529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91800" y="4187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91800" y="383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91800" y="34909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1800" y="3149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4720" y="579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64280" y="5454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3840" y="5113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3840" y="4757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3840" y="4416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840" y="40752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3840" y="3719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3840" y="3376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63840" y="30351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324972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5120" y="31780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darba 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91040" y="3774960"/>
              <a:ext cx="100080" cy="100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5120" y="3705120"/>
              <a:ext cx="161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Būv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91040" y="430200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4760" y="4230720"/>
              <a:ext cx="13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Patērētāju tiesīb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6200" y="445788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aizsardzības cent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482760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4760" y="4757760"/>
              <a:ext cx="185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Energo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91040" y="5354640"/>
              <a:ext cx="100080" cy="1000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528336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Ci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varat uzska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ir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es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funkcija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52040" y="2500200"/>
            <a:ext cx="4406040" cy="3544200"/>
            <a:chOff x="1652040" y="2500200"/>
            <a:chExt cx="4406040" cy="3544200"/>
          </a:xfrm>
        </p:grpSpPr>
        <p:sp>
          <p:nvSpPr>
            <p:cNvPr id="333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0" y="228"/>
                  </a:moveTo>
                  <a:lnTo>
                    <a:pt x="297" y="0"/>
                  </a:lnTo>
                  <a:lnTo>
                    <a:pt x="2555" y="0"/>
                  </a:lnTo>
                  <a:lnTo>
                    <a:pt x="225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01960" y="518796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1960" y="479412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01960" y="441792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1960" y="404028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1960" y="364824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327024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1960" y="2894040"/>
              <a:ext cx="4056120" cy="34452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1960" y="250020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2555" y="0"/>
                  </a:moveTo>
                  <a:lnTo>
                    <a:pt x="2258" y="228"/>
                  </a:lnTo>
                  <a:lnTo>
                    <a:pt x="0" y="228"/>
                  </a:lnTo>
                  <a:lnTo>
                    <a:pt x="297" y="0"/>
                  </a:lnTo>
                  <a:lnTo>
                    <a:pt x="255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2120" y="2878200"/>
              <a:ext cx="188640" cy="2938320"/>
            </a:xfrm>
            <a:custGeom>
              <a:avLst/>
              <a:gdLst/>
              <a:ahLst/>
              <a:rect l="l" t="t" r="r" b="b"/>
              <a:pathLst>
                <a:path w="119" h="1851">
                  <a:moveTo>
                    <a:pt x="0" y="1851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176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2760" y="3019320"/>
              <a:ext cx="549360" cy="2797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287820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2920" y="4951440"/>
              <a:ext cx="189000" cy="865080"/>
            </a:xfrm>
            <a:custGeom>
              <a:avLst/>
              <a:gdLst/>
              <a:ahLst/>
              <a:rect l="l" t="t" r="r" b="b"/>
              <a:pathLst>
                <a:path w="119" h="545">
                  <a:moveTo>
                    <a:pt x="0" y="545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56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5092560"/>
              <a:ext cx="550800" cy="7239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2120" y="495144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18120" y="4889520"/>
              <a:ext cx="188640" cy="927000"/>
            </a:xfrm>
            <a:custGeom>
              <a:avLst/>
              <a:gdLst/>
              <a:ahLst/>
              <a:rect l="l" t="t" r="r" b="b"/>
              <a:pathLst>
                <a:path w="119" h="584">
                  <a:moveTo>
                    <a:pt x="0" y="584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9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2920" y="5030640"/>
              <a:ext cx="565200" cy="7858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2920" y="4889520"/>
              <a:ext cx="753840" cy="141120"/>
            </a:xfrm>
            <a:custGeom>
              <a:avLst/>
              <a:gdLst/>
              <a:ahLst/>
              <a:rect l="l" t="t" r="r" b="b"/>
              <a:pathLst>
                <a:path w="475" h="89">
                  <a:moveTo>
                    <a:pt x="356" y="89"/>
                  </a:moveTo>
                  <a:lnTo>
                    <a:pt x="47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920" y="5156280"/>
              <a:ext cx="189000" cy="660240"/>
            </a:xfrm>
            <a:custGeom>
              <a:avLst/>
              <a:gdLst/>
              <a:ahLst/>
              <a:rect l="l" t="t" r="r" b="b"/>
              <a:pathLst>
                <a:path w="119" h="416">
                  <a:moveTo>
                    <a:pt x="0" y="416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327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8120" y="5297400"/>
              <a:ext cx="550800" cy="5191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8120" y="515628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18280" y="564372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109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8920" y="5784840"/>
              <a:ext cx="549360" cy="316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8920" y="564372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3112920"/>
              <a:ext cx="4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0400" y="512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2000" y="5187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8640" y="532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72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001960" y="2862360"/>
              <a:ext cx="144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955880" y="5925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955880" y="5533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55880" y="515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955880" y="47782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55880" y="4386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955880" y="4008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55880" y="36320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55880" y="3238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55880" y="286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68040" y="5800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280" y="540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2040" y="5030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52040" y="465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040" y="4260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2040" y="3882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52040" y="3506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52040" y="3112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2040" y="2736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50120" y="2500200"/>
            <a:ext cx="2399040" cy="3168000"/>
            <a:chOff x="6450120" y="2500200"/>
            <a:chExt cx="2399040" cy="3168000"/>
          </a:xfrm>
        </p:grpSpPr>
        <p:sp>
          <p:nvSpPr>
            <p:cNvPr id="388" name=""/>
            <p:cNvSpPr/>
            <p:nvPr/>
          </p:nvSpPr>
          <p:spPr>
            <a:xfrm>
              <a:off x="6450120" y="2563920"/>
              <a:ext cx="93600" cy="9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8880" y="2500200"/>
              <a:ext cx="211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trolēt, vai tirgū neienā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6160" y="272088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bīstamas pre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50120" y="3301920"/>
              <a:ext cx="9360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5440" y="3238560"/>
              <a:ext cx="131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lic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14280" y="3459240"/>
              <a:ext cx="223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rojektētājiem un ražotāj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0120" y="4040280"/>
              <a:ext cx="93600" cy="950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560" y="3978360"/>
              <a:ext cx="152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sertifikā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99880" y="4197240"/>
              <a:ext cx="187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atbilstošiem produkt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0120" y="4778280"/>
              <a:ext cx="93600" cy="954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8520" y="4716360"/>
              <a:ext cx="21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Sodīt personas, kas Latvi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12840" y="4935600"/>
              <a:ext cx="223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iedāvā bīstamas preces 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97360" y="515628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fiscēt šādu produkcij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0120" y="5518080"/>
              <a:ext cx="93600" cy="936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4160" y="54547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7:26:46Z</dcterms:modified>
  <cp:revision>135</cp:revision>
  <dc:subject/>
  <dc:title>Mikroklimats un Ventilācija</dc:title>
</cp:coreProperties>
</file>